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440-A529-4424-9D56-93A7D161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58C-5E64-469B-A39E-E6166843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E46-D636-4950-92BF-6E141572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D35-859A-4D41-BA59-C7D8E523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191-BB0A-4911-B02E-3740DE8B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5BF-AF78-4287-95B5-1C1928D7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720-E4C9-40D0-8810-5FB28EF6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BE6-4ACF-4C9D-992D-EAF980F8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CF2-CE4C-4B6A-B386-C7D352D4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25D-BDF8-47A5-9427-D37E14ED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C76-E251-4FF1-BBBD-90B91073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78E-D069-434D-AE13-839581F9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7CF3-11CE-4DF6-91C3-6936520BD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 the following fr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2666880"/>
                <a:ext cx="271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32080" y="3886200"/>
                <a:ext cx="461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366920" y="5029200"/>
                <a:ext cx="447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30240" y="2197080"/>
            <a:ext cx="1598760" cy="2367000"/>
          </a:xfrm>
          <a:custGeom>
            <a:avLst/>
            <a:gdLst/>
            <a:ahLst/>
            <a:rect l="l" t="t" r="r" b="b"/>
            <a:pathLst>
              <a:path w="4441" h="6574">
                <a:moveTo>
                  <a:pt x="5457" y="6127"/>
                </a:moveTo>
                <a:cubicBezTo>
                  <a:pt x="5536" y="6116"/>
                  <a:pt x="5560" y="6107"/>
                  <a:pt x="5655" y="6127"/>
                </a:cubicBezTo>
                <a:cubicBezTo>
                  <a:pt x="5861" y="6171"/>
                  <a:pt x="6067" y="6201"/>
                  <a:pt x="6276" y="6226"/>
                </a:cubicBezTo>
                <a:cubicBezTo>
                  <a:pt x="6499" y="6253"/>
                  <a:pt x="6705" y="6241"/>
                  <a:pt x="6921" y="6251"/>
                </a:cubicBezTo>
                <a:cubicBezTo>
                  <a:pt x="7086" y="6258"/>
                  <a:pt x="7248" y="6294"/>
                  <a:pt x="7417" y="6276"/>
                </a:cubicBezTo>
                <a:cubicBezTo>
                  <a:pt x="7589" y="6258"/>
                  <a:pt x="7767" y="6272"/>
                  <a:pt x="7938" y="6251"/>
                </a:cubicBezTo>
                <a:cubicBezTo>
                  <a:pt x="8084" y="6233"/>
                  <a:pt x="8239" y="6248"/>
                  <a:pt x="8384" y="6226"/>
                </a:cubicBezTo>
                <a:cubicBezTo>
                  <a:pt x="8462" y="6214"/>
                  <a:pt x="8526" y="6201"/>
                  <a:pt x="8607" y="6201"/>
                </a:cubicBezTo>
                <a:cubicBezTo>
                  <a:pt x="8632" y="6201"/>
                  <a:pt x="8657" y="6201"/>
                  <a:pt x="8682" y="6201"/>
                </a:cubicBezTo>
              </a:path>
              <a:path w="4441" h="6574">
                <a:moveTo>
                  <a:pt x="5135" y="7938"/>
                </a:moveTo>
                <a:cubicBezTo>
                  <a:pt x="5170" y="7884"/>
                  <a:pt x="5326" y="7913"/>
                  <a:pt x="5407" y="7913"/>
                </a:cubicBezTo>
                <a:cubicBezTo>
                  <a:pt x="5415" y="7913"/>
                  <a:pt x="5424" y="7913"/>
                  <a:pt x="5432" y="7913"/>
                </a:cubicBezTo>
              </a:path>
              <a:path w="4441" h="6574">
                <a:moveTo>
                  <a:pt x="5308" y="7640"/>
                </a:moveTo>
                <a:lnTo>
                  <a:pt x="5308" y="7640"/>
                </a:lnTo>
              </a:path>
              <a:path w="4441" h="6574">
                <a:moveTo>
                  <a:pt x="5308" y="7640"/>
                </a:moveTo>
                <a:lnTo>
                  <a:pt x="5308" y="7640"/>
                </a:lnTo>
              </a:path>
              <a:path w="4441" h="6574">
                <a:moveTo>
                  <a:pt x="5308" y="8136"/>
                </a:moveTo>
                <a:cubicBezTo>
                  <a:pt x="5308" y="8161"/>
                  <a:pt x="5308" y="8169"/>
                  <a:pt x="5333" y="8161"/>
                </a:cubicBezTo>
              </a:path>
              <a:path w="4441" h="6574">
                <a:moveTo>
                  <a:pt x="5829" y="7764"/>
                </a:moveTo>
                <a:cubicBezTo>
                  <a:pt x="5914" y="7764"/>
                  <a:pt x="6026" y="7739"/>
                  <a:pt x="5953" y="7863"/>
                </a:cubicBezTo>
                <a:cubicBezTo>
                  <a:pt x="5937" y="7880"/>
                  <a:pt x="5920" y="7896"/>
                  <a:pt x="5904" y="7913"/>
                </a:cubicBezTo>
                <a:cubicBezTo>
                  <a:pt x="5896" y="7921"/>
                  <a:pt x="5887" y="7930"/>
                  <a:pt x="5879" y="7938"/>
                </a:cubicBezTo>
                <a:cubicBezTo>
                  <a:pt x="5981" y="7938"/>
                  <a:pt x="6103" y="7942"/>
                  <a:pt x="6028" y="8086"/>
                </a:cubicBezTo>
                <a:cubicBezTo>
                  <a:pt x="5968" y="8201"/>
                  <a:pt x="5877" y="8193"/>
                  <a:pt x="5779" y="8186"/>
                </a:cubicBezTo>
              </a:path>
              <a:path w="4441" h="6574">
                <a:moveTo>
                  <a:pt x="5085" y="9153"/>
                </a:moveTo>
                <a:cubicBezTo>
                  <a:pt x="5194" y="9161"/>
                  <a:pt x="5297" y="9178"/>
                  <a:pt x="5407" y="9178"/>
                </a:cubicBezTo>
              </a:path>
              <a:path w="4441" h="6574">
                <a:moveTo>
                  <a:pt x="5234" y="8954"/>
                </a:moveTo>
                <a:cubicBezTo>
                  <a:pt x="5234" y="8962"/>
                  <a:pt x="5234" y="8971"/>
                  <a:pt x="5234" y="8979"/>
                </a:cubicBezTo>
              </a:path>
              <a:path w="4441" h="6574">
                <a:moveTo>
                  <a:pt x="5234" y="8979"/>
                </a:moveTo>
                <a:lnTo>
                  <a:pt x="5234" y="8979"/>
                </a:lnTo>
              </a:path>
              <a:path w="4441" h="6574">
                <a:moveTo>
                  <a:pt x="5259" y="9351"/>
                </a:moveTo>
                <a:lnTo>
                  <a:pt x="5259" y="9351"/>
                </a:lnTo>
              </a:path>
              <a:path w="4441" h="6574">
                <a:moveTo>
                  <a:pt x="5680" y="8979"/>
                </a:moveTo>
                <a:cubicBezTo>
                  <a:pt x="5707" y="8971"/>
                  <a:pt x="5916" y="8917"/>
                  <a:pt x="5879" y="9004"/>
                </a:cubicBezTo>
                <a:cubicBezTo>
                  <a:pt x="5833" y="9073"/>
                  <a:pt x="5821" y="9094"/>
                  <a:pt x="5779" y="9128"/>
                </a:cubicBezTo>
                <a:cubicBezTo>
                  <a:pt x="5854" y="9153"/>
                  <a:pt x="5878" y="9161"/>
                  <a:pt x="5928" y="9178"/>
                </a:cubicBezTo>
                <a:cubicBezTo>
                  <a:pt x="5873" y="9312"/>
                  <a:pt x="5853" y="9356"/>
                  <a:pt x="5705" y="9327"/>
                </a:cubicBezTo>
              </a:path>
              <a:path w="4441" h="6574">
                <a:moveTo>
                  <a:pt x="6648" y="8533"/>
                </a:moveTo>
                <a:cubicBezTo>
                  <a:pt x="6732" y="8507"/>
                  <a:pt x="6806" y="8508"/>
                  <a:pt x="6896" y="8508"/>
                </a:cubicBezTo>
              </a:path>
              <a:path w="4441" h="6574">
                <a:moveTo>
                  <a:pt x="6648" y="8682"/>
                </a:moveTo>
                <a:cubicBezTo>
                  <a:pt x="6753" y="8682"/>
                  <a:pt x="6842" y="8675"/>
                  <a:pt x="6945" y="8657"/>
                </a:cubicBezTo>
              </a:path>
              <a:path w="4441" h="6574">
                <a:moveTo>
                  <a:pt x="6945" y="8657"/>
                </a:moveTo>
                <a:lnTo>
                  <a:pt x="6945" y="8657"/>
                </a:lnTo>
              </a:path>
              <a:path w="4441" h="6574">
                <a:moveTo>
                  <a:pt x="7962" y="7516"/>
                </a:moveTo>
                <a:cubicBezTo>
                  <a:pt x="7978" y="7706"/>
                  <a:pt x="8016" y="7896"/>
                  <a:pt x="8037" y="8086"/>
                </a:cubicBezTo>
                <a:cubicBezTo>
                  <a:pt x="8037" y="8103"/>
                  <a:pt x="8037" y="8119"/>
                  <a:pt x="8037" y="8136"/>
                </a:cubicBezTo>
              </a:path>
              <a:path w="4441" h="6574">
                <a:moveTo>
                  <a:pt x="7565" y="8359"/>
                </a:moveTo>
                <a:cubicBezTo>
                  <a:pt x="7815" y="8359"/>
                  <a:pt x="8104" y="8330"/>
                  <a:pt x="8334" y="8384"/>
                </a:cubicBezTo>
                <a:cubicBezTo>
                  <a:pt x="8342" y="8384"/>
                  <a:pt x="8351" y="8384"/>
                  <a:pt x="8359" y="8384"/>
                </a:cubicBezTo>
              </a:path>
              <a:path w="4441" h="6574">
                <a:moveTo>
                  <a:pt x="7789" y="8731"/>
                </a:moveTo>
                <a:cubicBezTo>
                  <a:pt x="7776" y="8727"/>
                  <a:pt x="7736" y="8683"/>
                  <a:pt x="7764" y="8657"/>
                </a:cubicBezTo>
                <a:cubicBezTo>
                  <a:pt x="7821" y="8605"/>
                  <a:pt x="7946" y="8584"/>
                  <a:pt x="8012" y="8632"/>
                </a:cubicBezTo>
                <a:cubicBezTo>
                  <a:pt x="8081" y="8683"/>
                  <a:pt x="7979" y="8869"/>
                  <a:pt x="7938" y="8905"/>
                </a:cubicBezTo>
                <a:cubicBezTo>
                  <a:pt x="7824" y="9006"/>
                  <a:pt x="7760" y="9054"/>
                  <a:pt x="7689" y="9203"/>
                </a:cubicBezTo>
                <a:cubicBezTo>
                  <a:pt x="7669" y="9243"/>
                  <a:pt x="7661" y="9269"/>
                  <a:pt x="7665" y="9227"/>
                </a:cubicBezTo>
                <a:cubicBezTo>
                  <a:pt x="7695" y="9167"/>
                  <a:pt x="7790" y="9125"/>
                  <a:pt x="7863" y="9103"/>
                </a:cubicBezTo>
                <a:cubicBezTo>
                  <a:pt x="7923" y="9085"/>
                  <a:pt x="7982" y="9174"/>
                  <a:pt x="8037" y="9203"/>
                </a:cubicBezTo>
                <a:cubicBezTo>
                  <a:pt x="8115" y="9243"/>
                  <a:pt x="8120" y="9193"/>
                  <a:pt x="8186" y="9128"/>
                </a:cubicBezTo>
              </a:path>
              <a:path w="4441" h="6574">
                <a:moveTo>
                  <a:pt x="7392" y="7367"/>
                </a:moveTo>
                <a:cubicBezTo>
                  <a:pt x="7392" y="7610"/>
                  <a:pt x="7354" y="7844"/>
                  <a:pt x="7342" y="8086"/>
                </a:cubicBezTo>
                <a:cubicBezTo>
                  <a:pt x="7329" y="8351"/>
                  <a:pt x="7329" y="8616"/>
                  <a:pt x="7293" y="8880"/>
                </a:cubicBezTo>
                <a:cubicBezTo>
                  <a:pt x="7277" y="9000"/>
                  <a:pt x="7247" y="9107"/>
                  <a:pt x="7243" y="9227"/>
                </a:cubicBezTo>
                <a:cubicBezTo>
                  <a:pt x="7241" y="9290"/>
                  <a:pt x="7215" y="9406"/>
                  <a:pt x="7218" y="9451"/>
                </a:cubicBezTo>
                <a:cubicBezTo>
                  <a:pt x="7223" y="9519"/>
                  <a:pt x="7240" y="9520"/>
                  <a:pt x="7293" y="9550"/>
                </a:cubicBezTo>
                <a:cubicBezTo>
                  <a:pt x="7377" y="9598"/>
                  <a:pt x="7470" y="9620"/>
                  <a:pt x="7565" y="9624"/>
                </a:cubicBezTo>
                <a:cubicBezTo>
                  <a:pt x="7711" y="9629"/>
                  <a:pt x="7845" y="9611"/>
                  <a:pt x="7987" y="9599"/>
                </a:cubicBezTo>
                <a:cubicBezTo>
                  <a:pt x="8102" y="9589"/>
                  <a:pt x="8222" y="9585"/>
                  <a:pt x="8334" y="9575"/>
                </a:cubicBezTo>
                <a:cubicBezTo>
                  <a:pt x="8431" y="9566"/>
                  <a:pt x="8534" y="9575"/>
                  <a:pt x="8632" y="9575"/>
                </a:cubicBezTo>
                <a:cubicBezTo>
                  <a:pt x="8644" y="9516"/>
                  <a:pt x="8655" y="9464"/>
                  <a:pt x="8657" y="9401"/>
                </a:cubicBezTo>
                <a:cubicBezTo>
                  <a:pt x="8662" y="9257"/>
                  <a:pt x="8645" y="9120"/>
                  <a:pt x="8682" y="8979"/>
                </a:cubicBezTo>
                <a:cubicBezTo>
                  <a:pt x="8716" y="8851"/>
                  <a:pt x="8753" y="8731"/>
                  <a:pt x="8781" y="8607"/>
                </a:cubicBezTo>
                <a:cubicBezTo>
                  <a:pt x="8799" y="8529"/>
                  <a:pt x="8848" y="8438"/>
                  <a:pt x="8855" y="8359"/>
                </a:cubicBezTo>
                <a:cubicBezTo>
                  <a:pt x="8865" y="8251"/>
                  <a:pt x="8869" y="8144"/>
                  <a:pt x="8880" y="8037"/>
                </a:cubicBezTo>
                <a:cubicBezTo>
                  <a:pt x="8889" y="7952"/>
                  <a:pt x="8909" y="7818"/>
                  <a:pt x="8905" y="7739"/>
                </a:cubicBezTo>
                <a:cubicBezTo>
                  <a:pt x="8900" y="7639"/>
                  <a:pt x="8880" y="7526"/>
                  <a:pt x="8880" y="7417"/>
                </a:cubicBezTo>
                <a:cubicBezTo>
                  <a:pt x="8880" y="7337"/>
                  <a:pt x="8907" y="7207"/>
                  <a:pt x="8855" y="7144"/>
                </a:cubicBezTo>
                <a:cubicBezTo>
                  <a:pt x="8794" y="7069"/>
                  <a:pt x="8692" y="7094"/>
                  <a:pt x="8607" y="7094"/>
                </a:cubicBezTo>
                <a:cubicBezTo>
                  <a:pt x="8405" y="7094"/>
                  <a:pt x="8210" y="7102"/>
                  <a:pt x="8012" y="7119"/>
                </a:cubicBezTo>
                <a:cubicBezTo>
                  <a:pt x="7870" y="7131"/>
                  <a:pt x="7733" y="7107"/>
                  <a:pt x="7590" y="7119"/>
                </a:cubicBezTo>
                <a:cubicBezTo>
                  <a:pt x="7485" y="7128"/>
                  <a:pt x="7371" y="7126"/>
                  <a:pt x="7268" y="7144"/>
                </a:cubicBezTo>
                <a:cubicBezTo>
                  <a:pt x="7242" y="7149"/>
                  <a:pt x="7197" y="7175"/>
                  <a:pt x="7193" y="7193"/>
                </a:cubicBezTo>
                <a:cubicBezTo>
                  <a:pt x="7177" y="7268"/>
                  <a:pt x="7238" y="7427"/>
                  <a:pt x="7243" y="7516"/>
                </a:cubicBezTo>
              </a:path>
              <a:path w="4441" h="6574">
                <a:moveTo>
                  <a:pt x="5655" y="11187"/>
                </a:moveTo>
                <a:cubicBezTo>
                  <a:pt x="5699" y="11202"/>
                  <a:pt x="5780" y="11227"/>
                  <a:pt x="5854" y="11237"/>
                </a:cubicBezTo>
                <a:cubicBezTo>
                  <a:pt x="5871" y="11237"/>
                  <a:pt x="5887" y="11237"/>
                  <a:pt x="5904" y="11237"/>
                </a:cubicBezTo>
              </a:path>
              <a:path w="4441" h="6574">
                <a:moveTo>
                  <a:pt x="5829" y="10988"/>
                </a:moveTo>
                <a:lnTo>
                  <a:pt x="5829" y="10988"/>
                </a:lnTo>
                <a:lnTo>
                  <a:pt x="5829" y="10988"/>
                </a:lnTo>
              </a:path>
              <a:path w="4441" h="6574">
                <a:moveTo>
                  <a:pt x="5829" y="10988"/>
                </a:moveTo>
                <a:lnTo>
                  <a:pt x="5829" y="10988"/>
                </a:lnTo>
              </a:path>
              <a:path w="4441" h="6574">
                <a:moveTo>
                  <a:pt x="5804" y="11485"/>
                </a:moveTo>
                <a:cubicBezTo>
                  <a:pt x="5804" y="11493"/>
                  <a:pt x="5804" y="11501"/>
                  <a:pt x="5804" y="11509"/>
                </a:cubicBezTo>
              </a:path>
              <a:path w="4441" h="6574">
                <a:moveTo>
                  <a:pt x="6251" y="11063"/>
                </a:moveTo>
                <a:cubicBezTo>
                  <a:pt x="6360" y="11052"/>
                  <a:pt x="6466" y="11031"/>
                  <a:pt x="6573" y="11013"/>
                </a:cubicBezTo>
                <a:cubicBezTo>
                  <a:pt x="6581" y="11013"/>
                  <a:pt x="6590" y="11013"/>
                  <a:pt x="6598" y="11013"/>
                </a:cubicBezTo>
                <a:cubicBezTo>
                  <a:pt x="6580" y="11138"/>
                  <a:pt x="6554" y="11257"/>
                  <a:pt x="6548" y="11385"/>
                </a:cubicBezTo>
                <a:cubicBezTo>
                  <a:pt x="6548" y="11393"/>
                  <a:pt x="6548" y="11402"/>
                  <a:pt x="6548" y="11410"/>
                </a:cubicBezTo>
              </a:path>
              <a:path w="4441" h="6574">
                <a:moveTo>
                  <a:pt x="5730" y="12328"/>
                </a:moveTo>
                <a:cubicBezTo>
                  <a:pt x="5820" y="12351"/>
                  <a:pt x="5875" y="12343"/>
                  <a:pt x="5978" y="12328"/>
                </a:cubicBezTo>
                <a:cubicBezTo>
                  <a:pt x="6003" y="12328"/>
                  <a:pt x="6011" y="12328"/>
                  <a:pt x="6028" y="12328"/>
                </a:cubicBezTo>
              </a:path>
              <a:path w="4441" h="6574">
                <a:moveTo>
                  <a:pt x="5854" y="12129"/>
                </a:moveTo>
                <a:lnTo>
                  <a:pt x="5854" y="12129"/>
                </a:lnTo>
                <a:lnTo>
                  <a:pt x="5854" y="12129"/>
                </a:lnTo>
              </a:path>
              <a:path w="4441" h="6574">
                <a:moveTo>
                  <a:pt x="5854" y="12129"/>
                </a:moveTo>
                <a:lnTo>
                  <a:pt x="5854" y="12129"/>
                </a:lnTo>
              </a:path>
              <a:path w="4441" h="6574">
                <a:moveTo>
                  <a:pt x="5904" y="12601"/>
                </a:moveTo>
                <a:cubicBezTo>
                  <a:pt x="5904" y="12593"/>
                  <a:pt x="5904" y="12584"/>
                  <a:pt x="5904" y="12576"/>
                </a:cubicBezTo>
              </a:path>
              <a:path w="4441" h="6574">
                <a:moveTo>
                  <a:pt x="6276" y="12229"/>
                </a:moveTo>
                <a:cubicBezTo>
                  <a:pt x="6372" y="12229"/>
                  <a:pt x="6454" y="12218"/>
                  <a:pt x="6548" y="12204"/>
                </a:cubicBezTo>
                <a:cubicBezTo>
                  <a:pt x="6556" y="12204"/>
                  <a:pt x="6565" y="12204"/>
                  <a:pt x="6573" y="12204"/>
                </a:cubicBezTo>
                <a:cubicBezTo>
                  <a:pt x="6597" y="12345"/>
                  <a:pt x="6564" y="12458"/>
                  <a:pt x="6548" y="12601"/>
                </a:cubicBezTo>
                <a:cubicBezTo>
                  <a:pt x="6548" y="12626"/>
                  <a:pt x="6548" y="12650"/>
                  <a:pt x="6548" y="12675"/>
                </a:cubicBezTo>
              </a:path>
              <a:path w="4441" h="6574">
                <a:moveTo>
                  <a:pt x="7069" y="11708"/>
                </a:moveTo>
                <a:cubicBezTo>
                  <a:pt x="7158" y="11708"/>
                  <a:pt x="7242" y="11714"/>
                  <a:pt x="7317" y="11733"/>
                </a:cubicBezTo>
                <a:cubicBezTo>
                  <a:pt x="7325" y="11733"/>
                  <a:pt x="7334" y="11733"/>
                  <a:pt x="7342" y="11733"/>
                </a:cubicBezTo>
              </a:path>
              <a:path w="4441" h="6574">
                <a:moveTo>
                  <a:pt x="7119" y="11857"/>
                </a:moveTo>
                <a:cubicBezTo>
                  <a:pt x="7252" y="11847"/>
                  <a:pt x="7345" y="11814"/>
                  <a:pt x="7466" y="11757"/>
                </a:cubicBezTo>
              </a:path>
              <a:path w="4441" h="6574">
                <a:moveTo>
                  <a:pt x="7466" y="11757"/>
                </a:moveTo>
                <a:lnTo>
                  <a:pt x="7466" y="11757"/>
                </a:lnTo>
              </a:path>
              <a:path w="4441" h="6574">
                <a:moveTo>
                  <a:pt x="8558" y="10691"/>
                </a:moveTo>
                <a:cubicBezTo>
                  <a:pt x="8497" y="10691"/>
                  <a:pt x="8710" y="10627"/>
                  <a:pt x="8756" y="10641"/>
                </a:cubicBezTo>
                <a:cubicBezTo>
                  <a:pt x="8935" y="10696"/>
                  <a:pt x="8742" y="10901"/>
                  <a:pt x="8682" y="10939"/>
                </a:cubicBezTo>
                <a:cubicBezTo>
                  <a:pt x="8818" y="10939"/>
                  <a:pt x="8917" y="10940"/>
                  <a:pt x="8855" y="11112"/>
                </a:cubicBezTo>
                <a:cubicBezTo>
                  <a:pt x="8803" y="11255"/>
                  <a:pt x="8684" y="11261"/>
                  <a:pt x="8558" y="11261"/>
                </a:cubicBezTo>
                <a:cubicBezTo>
                  <a:pt x="8566" y="11261"/>
                  <a:pt x="8574" y="11261"/>
                  <a:pt x="8582" y="11261"/>
                </a:cubicBezTo>
              </a:path>
              <a:path w="4441" h="6574">
                <a:moveTo>
                  <a:pt x="8186" y="11485"/>
                </a:moveTo>
                <a:cubicBezTo>
                  <a:pt x="8453" y="11485"/>
                  <a:pt x="8714" y="11476"/>
                  <a:pt x="8979" y="11485"/>
                </a:cubicBezTo>
                <a:cubicBezTo>
                  <a:pt x="9070" y="11485"/>
                  <a:pt x="9078" y="11485"/>
                  <a:pt x="9128" y="11485"/>
                </a:cubicBezTo>
              </a:path>
              <a:path w="4441" h="6574">
                <a:moveTo>
                  <a:pt x="8334" y="11782"/>
                </a:moveTo>
                <a:cubicBezTo>
                  <a:pt x="8483" y="11767"/>
                  <a:pt x="8631" y="11729"/>
                  <a:pt x="8781" y="11708"/>
                </a:cubicBezTo>
                <a:cubicBezTo>
                  <a:pt x="8806" y="11708"/>
                  <a:pt x="8814" y="11708"/>
                  <a:pt x="8830" y="11708"/>
                </a:cubicBezTo>
                <a:cubicBezTo>
                  <a:pt x="8813" y="11909"/>
                  <a:pt x="8753" y="12083"/>
                  <a:pt x="8706" y="12278"/>
                </a:cubicBezTo>
                <a:cubicBezTo>
                  <a:pt x="8691" y="12342"/>
                  <a:pt x="8706" y="12322"/>
                  <a:pt x="8706" y="12254"/>
                </a:cubicBezTo>
              </a:path>
              <a:path w="4441" h="6574">
                <a:moveTo>
                  <a:pt x="7739" y="10492"/>
                </a:moveTo>
                <a:cubicBezTo>
                  <a:pt x="7723" y="10588"/>
                  <a:pt x="7695" y="10693"/>
                  <a:pt x="7689" y="10790"/>
                </a:cubicBezTo>
                <a:cubicBezTo>
                  <a:pt x="7658" y="11312"/>
                  <a:pt x="7760" y="11864"/>
                  <a:pt x="7665" y="12378"/>
                </a:cubicBezTo>
                <a:cubicBezTo>
                  <a:pt x="7647" y="12476"/>
                  <a:pt x="7645" y="12554"/>
                  <a:pt x="7640" y="12650"/>
                </a:cubicBezTo>
                <a:cubicBezTo>
                  <a:pt x="7805" y="12644"/>
                  <a:pt x="7970" y="12617"/>
                  <a:pt x="8136" y="12626"/>
                </a:cubicBezTo>
                <a:cubicBezTo>
                  <a:pt x="8327" y="12637"/>
                  <a:pt x="8515" y="12669"/>
                  <a:pt x="8706" y="12675"/>
                </a:cubicBezTo>
                <a:cubicBezTo>
                  <a:pt x="8879" y="12680"/>
                  <a:pt x="9054" y="12675"/>
                  <a:pt x="9227" y="12675"/>
                </a:cubicBezTo>
                <a:cubicBezTo>
                  <a:pt x="9195" y="12554"/>
                  <a:pt x="9178" y="12456"/>
                  <a:pt x="9178" y="12328"/>
                </a:cubicBezTo>
                <a:cubicBezTo>
                  <a:pt x="9178" y="12199"/>
                  <a:pt x="9199" y="12083"/>
                  <a:pt x="9203" y="11956"/>
                </a:cubicBezTo>
                <a:cubicBezTo>
                  <a:pt x="9207" y="11805"/>
                  <a:pt x="9243" y="11657"/>
                  <a:pt x="9277" y="11509"/>
                </a:cubicBezTo>
                <a:cubicBezTo>
                  <a:pt x="9308" y="11373"/>
                  <a:pt x="9327" y="11218"/>
                  <a:pt x="9376" y="11088"/>
                </a:cubicBezTo>
                <a:cubicBezTo>
                  <a:pt x="9428" y="10950"/>
                  <a:pt x="9485" y="10817"/>
                  <a:pt x="9500" y="10666"/>
                </a:cubicBezTo>
                <a:cubicBezTo>
                  <a:pt x="9509" y="10581"/>
                  <a:pt x="9522" y="10503"/>
                  <a:pt x="9525" y="10418"/>
                </a:cubicBezTo>
                <a:cubicBezTo>
                  <a:pt x="9527" y="10369"/>
                  <a:pt x="9525" y="10319"/>
                  <a:pt x="9525" y="10269"/>
                </a:cubicBezTo>
                <a:cubicBezTo>
                  <a:pt x="9407" y="10269"/>
                  <a:pt x="9293" y="10287"/>
                  <a:pt x="9178" y="10294"/>
                </a:cubicBezTo>
                <a:cubicBezTo>
                  <a:pt x="9001" y="10304"/>
                  <a:pt x="8831" y="10328"/>
                  <a:pt x="8657" y="10344"/>
                </a:cubicBezTo>
                <a:cubicBezTo>
                  <a:pt x="8546" y="10354"/>
                  <a:pt x="8468" y="10357"/>
                  <a:pt x="8359" y="10393"/>
                </a:cubicBezTo>
                <a:cubicBezTo>
                  <a:pt x="8272" y="10422"/>
                  <a:pt x="8175" y="10445"/>
                  <a:pt x="8086" y="10468"/>
                </a:cubicBezTo>
                <a:cubicBezTo>
                  <a:pt x="8023" y="10484"/>
                  <a:pt x="7951" y="10506"/>
                  <a:pt x="7888" y="10517"/>
                </a:cubicBezTo>
                <a:cubicBezTo>
                  <a:pt x="7863" y="10517"/>
                  <a:pt x="7855" y="10517"/>
                  <a:pt x="7838" y="105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16120" y="4973760"/>
            <a:ext cx="758880" cy="938160"/>
          </a:xfrm>
          <a:custGeom>
            <a:avLst/>
            <a:gdLst/>
            <a:ahLst/>
            <a:rect l="l" t="t" r="r" b="b"/>
            <a:pathLst>
              <a:path w="2109" h="2606">
                <a:moveTo>
                  <a:pt x="7938" y="14039"/>
                </a:moveTo>
                <a:cubicBezTo>
                  <a:pt x="8003" y="14215"/>
                  <a:pt x="8081" y="14390"/>
                  <a:pt x="8111" y="14585"/>
                </a:cubicBezTo>
                <a:cubicBezTo>
                  <a:pt x="8111" y="14618"/>
                  <a:pt x="8111" y="14651"/>
                  <a:pt x="8111" y="14684"/>
                </a:cubicBezTo>
              </a:path>
              <a:path w="2109" h="2606">
                <a:moveTo>
                  <a:pt x="7714" y="15081"/>
                </a:moveTo>
                <a:cubicBezTo>
                  <a:pt x="7959" y="15060"/>
                  <a:pt x="8196" y="15000"/>
                  <a:pt x="8434" y="14932"/>
                </a:cubicBezTo>
                <a:cubicBezTo>
                  <a:pt x="8439" y="14931"/>
                  <a:pt x="8597" y="14908"/>
                  <a:pt x="8533" y="14908"/>
                </a:cubicBezTo>
              </a:path>
              <a:path w="2109" h="2606">
                <a:moveTo>
                  <a:pt x="7888" y="15429"/>
                </a:moveTo>
                <a:cubicBezTo>
                  <a:pt x="7880" y="15429"/>
                  <a:pt x="7871" y="15429"/>
                  <a:pt x="7863" y="15429"/>
                </a:cubicBezTo>
                <a:cubicBezTo>
                  <a:pt x="7863" y="15343"/>
                  <a:pt x="7873" y="15336"/>
                  <a:pt x="7962" y="15329"/>
                </a:cubicBezTo>
                <a:cubicBezTo>
                  <a:pt x="8212" y="15309"/>
                  <a:pt x="8046" y="15672"/>
                  <a:pt x="7962" y="15751"/>
                </a:cubicBezTo>
                <a:cubicBezTo>
                  <a:pt x="7866" y="15842"/>
                  <a:pt x="7658" y="15939"/>
                  <a:pt x="7640" y="15776"/>
                </a:cubicBezTo>
                <a:cubicBezTo>
                  <a:pt x="7795" y="15675"/>
                  <a:pt x="7872" y="15690"/>
                  <a:pt x="8037" y="15801"/>
                </a:cubicBezTo>
                <a:cubicBezTo>
                  <a:pt x="8045" y="15809"/>
                  <a:pt x="8054" y="15817"/>
                  <a:pt x="8062" y="15825"/>
                </a:cubicBezTo>
              </a:path>
              <a:path w="2109" h="2606">
                <a:moveTo>
                  <a:pt x="8235" y="15379"/>
                </a:moveTo>
                <a:cubicBezTo>
                  <a:pt x="8376" y="15361"/>
                  <a:pt x="8516" y="15345"/>
                  <a:pt x="8657" y="15329"/>
                </a:cubicBezTo>
                <a:cubicBezTo>
                  <a:pt x="8665" y="15329"/>
                  <a:pt x="8674" y="15329"/>
                  <a:pt x="8682" y="15329"/>
                </a:cubicBezTo>
                <a:cubicBezTo>
                  <a:pt x="8682" y="15508"/>
                  <a:pt x="8654" y="15673"/>
                  <a:pt x="8632" y="15850"/>
                </a:cubicBezTo>
                <a:cubicBezTo>
                  <a:pt x="8632" y="15867"/>
                  <a:pt x="8632" y="15883"/>
                  <a:pt x="8632" y="15900"/>
                </a:cubicBezTo>
              </a:path>
              <a:path w="2109" h="2606">
                <a:moveTo>
                  <a:pt x="7317" y="13990"/>
                </a:moveTo>
                <a:cubicBezTo>
                  <a:pt x="7325" y="14280"/>
                  <a:pt x="7340" y="14567"/>
                  <a:pt x="7342" y="14858"/>
                </a:cubicBezTo>
                <a:cubicBezTo>
                  <a:pt x="7345" y="15216"/>
                  <a:pt x="7312" y="15569"/>
                  <a:pt x="7293" y="15925"/>
                </a:cubicBezTo>
                <a:cubicBezTo>
                  <a:pt x="7286" y="16064"/>
                  <a:pt x="7262" y="16016"/>
                  <a:pt x="7268" y="16098"/>
                </a:cubicBezTo>
                <a:cubicBezTo>
                  <a:pt x="7273" y="16164"/>
                  <a:pt x="7279" y="16162"/>
                  <a:pt x="7342" y="16197"/>
                </a:cubicBezTo>
                <a:cubicBezTo>
                  <a:pt x="7512" y="16292"/>
                  <a:pt x="7774" y="16310"/>
                  <a:pt x="7962" y="16346"/>
                </a:cubicBezTo>
                <a:cubicBezTo>
                  <a:pt x="8201" y="16391"/>
                  <a:pt x="8419" y="16404"/>
                  <a:pt x="8657" y="16396"/>
                </a:cubicBezTo>
                <a:cubicBezTo>
                  <a:pt x="8838" y="16390"/>
                  <a:pt x="9021" y="16396"/>
                  <a:pt x="9203" y="16396"/>
                </a:cubicBezTo>
                <a:cubicBezTo>
                  <a:pt x="9195" y="16288"/>
                  <a:pt x="9197" y="16207"/>
                  <a:pt x="9203" y="16098"/>
                </a:cubicBezTo>
                <a:cubicBezTo>
                  <a:pt x="9212" y="15915"/>
                  <a:pt x="9252" y="15736"/>
                  <a:pt x="9277" y="15553"/>
                </a:cubicBezTo>
                <a:cubicBezTo>
                  <a:pt x="9319" y="15242"/>
                  <a:pt x="9371" y="14924"/>
                  <a:pt x="9376" y="14610"/>
                </a:cubicBezTo>
                <a:cubicBezTo>
                  <a:pt x="9378" y="14476"/>
                  <a:pt x="9463" y="13978"/>
                  <a:pt x="9351" y="13866"/>
                </a:cubicBezTo>
                <a:cubicBezTo>
                  <a:pt x="9313" y="13828"/>
                  <a:pt x="9131" y="13820"/>
                  <a:pt x="9079" y="13816"/>
                </a:cubicBezTo>
                <a:cubicBezTo>
                  <a:pt x="8824" y="13797"/>
                  <a:pt x="8559" y="13818"/>
                  <a:pt x="8310" y="13841"/>
                </a:cubicBezTo>
                <a:cubicBezTo>
                  <a:pt x="8187" y="13852"/>
                  <a:pt x="8061" y="13862"/>
                  <a:pt x="7938" y="13866"/>
                </a:cubicBezTo>
                <a:cubicBezTo>
                  <a:pt x="7805" y="13870"/>
                  <a:pt x="7667" y="13882"/>
                  <a:pt x="7541" y="13891"/>
                </a:cubicBezTo>
                <a:cubicBezTo>
                  <a:pt x="7524" y="13892"/>
                  <a:pt x="7344" y="13877"/>
                  <a:pt x="7367" y="13915"/>
                </a:cubicBezTo>
                <a:cubicBezTo>
                  <a:pt x="7367" y="13969"/>
                  <a:pt x="7393" y="13990"/>
                  <a:pt x="7466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85960" y="5153040"/>
            <a:ext cx="71280" cy="150840"/>
          </a:xfrm>
          <a:custGeom>
            <a:avLst/>
            <a:gdLst/>
            <a:ahLst/>
            <a:rect l="l" t="t" r="r" b="b"/>
            <a:pathLst>
              <a:path w="199" h="423">
                <a:moveTo>
                  <a:pt x="4961" y="14610"/>
                </a:moveTo>
                <a:cubicBezTo>
                  <a:pt x="5024" y="14610"/>
                  <a:pt x="5070" y="14589"/>
                  <a:pt x="5135" y="14585"/>
                </a:cubicBezTo>
                <a:cubicBezTo>
                  <a:pt x="5143" y="14585"/>
                  <a:pt x="5151" y="14585"/>
                  <a:pt x="5159" y="14585"/>
                </a:cubicBezTo>
              </a:path>
              <a:path w="199" h="423">
                <a:moveTo>
                  <a:pt x="5035" y="14312"/>
                </a:moveTo>
                <a:cubicBezTo>
                  <a:pt x="5035" y="14320"/>
                  <a:pt x="5035" y="14329"/>
                  <a:pt x="5035" y="14337"/>
                </a:cubicBezTo>
              </a:path>
              <a:path w="199" h="423">
                <a:moveTo>
                  <a:pt x="5035" y="14337"/>
                </a:moveTo>
                <a:lnTo>
                  <a:pt x="5035" y="14337"/>
                </a:lnTo>
              </a:path>
              <a:path w="199" h="423">
                <a:moveTo>
                  <a:pt x="5085" y="14734"/>
                </a:moveTo>
                <a:lnTo>
                  <a:pt x="5085" y="1473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46160" y="5133960"/>
            <a:ext cx="81000" cy="152280"/>
          </a:xfrm>
          <a:custGeom>
            <a:avLst/>
            <a:gdLst/>
            <a:ahLst/>
            <a:rect l="l" t="t" r="r" b="b"/>
            <a:pathLst>
              <a:path w="225" h="422">
                <a:moveTo>
                  <a:pt x="5407" y="14288"/>
                </a:moveTo>
                <a:cubicBezTo>
                  <a:pt x="5441" y="14281"/>
                  <a:pt x="5473" y="14270"/>
                  <a:pt x="5507" y="14263"/>
                </a:cubicBezTo>
                <a:cubicBezTo>
                  <a:pt x="5514" y="14383"/>
                  <a:pt x="5535" y="14367"/>
                  <a:pt x="5457" y="14461"/>
                </a:cubicBezTo>
                <a:cubicBezTo>
                  <a:pt x="5532" y="14446"/>
                  <a:pt x="5626" y="14409"/>
                  <a:pt x="5631" y="14536"/>
                </a:cubicBezTo>
                <a:cubicBezTo>
                  <a:pt x="5635" y="14634"/>
                  <a:pt x="5547" y="14662"/>
                  <a:pt x="5482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57240" y="5661000"/>
            <a:ext cx="241560" cy="125280"/>
          </a:xfrm>
          <a:custGeom>
            <a:avLst/>
            <a:gdLst/>
            <a:ahLst/>
            <a:rect l="l" t="t" r="r" b="b"/>
            <a:pathLst>
              <a:path w="671" h="348">
                <a:moveTo>
                  <a:pt x="5159" y="15925"/>
                </a:moveTo>
                <a:cubicBezTo>
                  <a:pt x="5225" y="15925"/>
                  <a:pt x="5292" y="15925"/>
                  <a:pt x="5358" y="15925"/>
                </a:cubicBezTo>
              </a:path>
              <a:path w="671" h="348">
                <a:moveTo>
                  <a:pt x="5259" y="15776"/>
                </a:moveTo>
                <a:cubicBezTo>
                  <a:pt x="5259" y="15784"/>
                  <a:pt x="5259" y="15793"/>
                  <a:pt x="5259" y="15801"/>
                </a:cubicBezTo>
              </a:path>
              <a:path w="671" h="348">
                <a:moveTo>
                  <a:pt x="5259" y="15801"/>
                </a:moveTo>
                <a:lnTo>
                  <a:pt x="5259" y="15801"/>
                </a:lnTo>
              </a:path>
              <a:path w="671" h="348">
                <a:moveTo>
                  <a:pt x="5308" y="16049"/>
                </a:moveTo>
                <a:cubicBezTo>
                  <a:pt x="5316" y="16024"/>
                  <a:pt x="5325" y="15999"/>
                  <a:pt x="5333" y="15974"/>
                </a:cubicBezTo>
              </a:path>
              <a:path w="671" h="348">
                <a:moveTo>
                  <a:pt x="5581" y="15751"/>
                </a:moveTo>
                <a:cubicBezTo>
                  <a:pt x="5676" y="15722"/>
                  <a:pt x="5723" y="15704"/>
                  <a:pt x="5680" y="15825"/>
                </a:cubicBezTo>
                <a:cubicBezTo>
                  <a:pt x="5672" y="15842"/>
                  <a:pt x="5663" y="15858"/>
                  <a:pt x="5655" y="15875"/>
                </a:cubicBezTo>
                <a:cubicBezTo>
                  <a:pt x="5655" y="15883"/>
                  <a:pt x="5655" y="15892"/>
                  <a:pt x="5655" y="15900"/>
                </a:cubicBezTo>
                <a:cubicBezTo>
                  <a:pt x="5752" y="15881"/>
                  <a:pt x="5922" y="15924"/>
                  <a:pt x="5804" y="16073"/>
                </a:cubicBezTo>
                <a:cubicBezTo>
                  <a:pt x="5780" y="16103"/>
                  <a:pt x="5657" y="16054"/>
                  <a:pt x="5631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4080" y="5419800"/>
            <a:ext cx="61920" cy="98280"/>
          </a:xfrm>
          <a:custGeom>
            <a:avLst/>
            <a:gdLst/>
            <a:ahLst/>
            <a:rect l="l" t="t" r="r" b="b"/>
            <a:pathLst>
              <a:path w="175" h="274">
                <a:moveTo>
                  <a:pt x="6176" y="15056"/>
                </a:moveTo>
                <a:cubicBezTo>
                  <a:pt x="6234" y="15056"/>
                  <a:pt x="6292" y="15056"/>
                  <a:pt x="6350" y="15056"/>
                </a:cubicBezTo>
              </a:path>
              <a:path w="175" h="274">
                <a:moveTo>
                  <a:pt x="6226" y="15304"/>
                </a:moveTo>
                <a:cubicBezTo>
                  <a:pt x="6291" y="15326"/>
                  <a:pt x="6306" y="15334"/>
                  <a:pt x="6350" y="15329"/>
                </a:cubicBezTo>
              </a:path>
              <a:path w="175" h="274">
                <a:moveTo>
                  <a:pt x="6350" y="15329"/>
                </a:moveTo>
                <a:lnTo>
                  <a:pt x="6350" y="1532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24320" y="4741920"/>
            <a:ext cx="857520" cy="1704960"/>
          </a:xfrm>
          <a:custGeom>
            <a:avLst/>
            <a:gdLst/>
            <a:ahLst/>
            <a:rect l="l" t="t" r="r" b="b"/>
            <a:pathLst>
              <a:path w="2382" h="4739">
                <a:moveTo>
                  <a:pt x="14734" y="14412"/>
                </a:moveTo>
                <a:cubicBezTo>
                  <a:pt x="14797" y="14399"/>
                  <a:pt x="14848" y="14367"/>
                  <a:pt x="14908" y="14337"/>
                </a:cubicBezTo>
                <a:cubicBezTo>
                  <a:pt x="14996" y="14501"/>
                  <a:pt x="14950" y="14610"/>
                  <a:pt x="14784" y="14709"/>
                </a:cubicBezTo>
                <a:cubicBezTo>
                  <a:pt x="14776" y="14709"/>
                  <a:pt x="14767" y="14709"/>
                  <a:pt x="14759" y="14709"/>
                </a:cubicBezTo>
                <a:cubicBezTo>
                  <a:pt x="14860" y="14658"/>
                  <a:pt x="15009" y="14700"/>
                  <a:pt x="14982" y="14858"/>
                </a:cubicBezTo>
                <a:cubicBezTo>
                  <a:pt x="14957" y="15007"/>
                  <a:pt x="14552" y="15210"/>
                  <a:pt x="14511" y="15032"/>
                </a:cubicBezTo>
                <a:cubicBezTo>
                  <a:pt x="14527" y="15024"/>
                  <a:pt x="14544" y="15015"/>
                  <a:pt x="14560" y="15007"/>
                </a:cubicBezTo>
              </a:path>
              <a:path w="2382" h="4739">
                <a:moveTo>
                  <a:pt x="15180" y="15230"/>
                </a:moveTo>
                <a:cubicBezTo>
                  <a:pt x="15180" y="15055"/>
                  <a:pt x="15163" y="14910"/>
                  <a:pt x="15131" y="14734"/>
                </a:cubicBezTo>
                <a:cubicBezTo>
                  <a:pt x="15098" y="14557"/>
                  <a:pt x="15058" y="14386"/>
                  <a:pt x="15007" y="14213"/>
                </a:cubicBezTo>
                <a:cubicBezTo>
                  <a:pt x="15343" y="14213"/>
                  <a:pt x="15665" y="14172"/>
                  <a:pt x="15999" y="14139"/>
                </a:cubicBezTo>
                <a:cubicBezTo>
                  <a:pt x="16142" y="14125"/>
                  <a:pt x="16526" y="14127"/>
                  <a:pt x="16594" y="14139"/>
                </a:cubicBezTo>
              </a:path>
              <a:path w="2382" h="4739">
                <a:moveTo>
                  <a:pt x="15701" y="14461"/>
                </a:moveTo>
                <a:cubicBezTo>
                  <a:pt x="15592" y="14333"/>
                  <a:pt x="15519" y="14420"/>
                  <a:pt x="15404" y="14511"/>
                </a:cubicBezTo>
                <a:cubicBezTo>
                  <a:pt x="15461" y="14683"/>
                  <a:pt x="15697" y="14680"/>
                  <a:pt x="15751" y="14858"/>
                </a:cubicBezTo>
                <a:cubicBezTo>
                  <a:pt x="15728" y="14949"/>
                  <a:pt x="15727" y="14980"/>
                  <a:pt x="15652" y="14982"/>
                </a:cubicBezTo>
                <a:cubicBezTo>
                  <a:pt x="15526" y="14842"/>
                  <a:pt x="15618" y="14779"/>
                  <a:pt x="15701" y="14610"/>
                </a:cubicBezTo>
                <a:cubicBezTo>
                  <a:pt x="15738" y="14537"/>
                  <a:pt x="15783" y="14504"/>
                  <a:pt x="15726" y="14511"/>
                </a:cubicBezTo>
              </a:path>
              <a:path w="2382" h="4739">
                <a:moveTo>
                  <a:pt x="16197" y="14362"/>
                </a:moveTo>
                <a:cubicBezTo>
                  <a:pt x="16206" y="14527"/>
                  <a:pt x="16299" y="14725"/>
                  <a:pt x="16272" y="14883"/>
                </a:cubicBezTo>
                <a:cubicBezTo>
                  <a:pt x="16264" y="14883"/>
                  <a:pt x="16255" y="14883"/>
                  <a:pt x="16247" y="14883"/>
                </a:cubicBezTo>
              </a:path>
              <a:path w="2382" h="4739">
                <a:moveTo>
                  <a:pt x="15106" y="13593"/>
                </a:moveTo>
                <a:cubicBezTo>
                  <a:pt x="15128" y="13507"/>
                  <a:pt x="15180" y="13466"/>
                  <a:pt x="15280" y="13444"/>
                </a:cubicBezTo>
                <a:cubicBezTo>
                  <a:pt x="15354" y="13444"/>
                  <a:pt x="15363" y="13444"/>
                  <a:pt x="15404" y="13444"/>
                </a:cubicBezTo>
                <a:cubicBezTo>
                  <a:pt x="15414" y="13640"/>
                  <a:pt x="15372" y="13777"/>
                  <a:pt x="15205" y="13915"/>
                </a:cubicBezTo>
                <a:cubicBezTo>
                  <a:pt x="15197" y="13915"/>
                  <a:pt x="15188" y="13915"/>
                  <a:pt x="15180" y="13915"/>
                </a:cubicBezTo>
                <a:cubicBezTo>
                  <a:pt x="15296" y="13915"/>
                  <a:pt x="15417" y="13899"/>
                  <a:pt x="15528" y="13866"/>
                </a:cubicBezTo>
                <a:cubicBezTo>
                  <a:pt x="15570" y="13854"/>
                  <a:pt x="15617" y="13806"/>
                  <a:pt x="15577" y="13866"/>
                </a:cubicBezTo>
              </a:path>
              <a:path w="2382" h="4739">
                <a:moveTo>
                  <a:pt x="15553" y="15230"/>
                </a:moveTo>
                <a:cubicBezTo>
                  <a:pt x="15553" y="15205"/>
                  <a:pt x="15553" y="15181"/>
                  <a:pt x="15553" y="15156"/>
                </a:cubicBezTo>
                <a:cubicBezTo>
                  <a:pt x="15514" y="15233"/>
                  <a:pt x="15506" y="15336"/>
                  <a:pt x="15503" y="15429"/>
                </a:cubicBezTo>
                <a:cubicBezTo>
                  <a:pt x="15499" y="15561"/>
                  <a:pt x="15510" y="15681"/>
                  <a:pt x="15677" y="15677"/>
                </a:cubicBezTo>
                <a:cubicBezTo>
                  <a:pt x="15848" y="15673"/>
                  <a:pt x="15915" y="15594"/>
                  <a:pt x="15974" y="15453"/>
                </a:cubicBezTo>
                <a:cubicBezTo>
                  <a:pt x="15847" y="15453"/>
                  <a:pt x="15814" y="15535"/>
                  <a:pt x="15776" y="15652"/>
                </a:cubicBezTo>
                <a:cubicBezTo>
                  <a:pt x="15776" y="15668"/>
                  <a:pt x="15776" y="15685"/>
                  <a:pt x="15776" y="15701"/>
                </a:cubicBezTo>
              </a:path>
              <a:path w="2382" h="4739">
                <a:moveTo>
                  <a:pt x="15081" y="15577"/>
                </a:moveTo>
                <a:cubicBezTo>
                  <a:pt x="15177" y="15530"/>
                  <a:pt x="15206" y="15513"/>
                  <a:pt x="15280" y="15528"/>
                </a:cubicBezTo>
              </a:path>
              <a:path w="2382" h="4739">
                <a:moveTo>
                  <a:pt x="15081" y="15925"/>
                </a:moveTo>
                <a:cubicBezTo>
                  <a:pt x="15412" y="15851"/>
                  <a:pt x="15734" y="15789"/>
                  <a:pt x="16073" y="15776"/>
                </a:cubicBezTo>
                <a:cubicBezTo>
                  <a:pt x="16098" y="15776"/>
                  <a:pt x="16123" y="15776"/>
                  <a:pt x="16148" y="15776"/>
                </a:cubicBezTo>
              </a:path>
              <a:path w="2382" h="4739">
                <a:moveTo>
                  <a:pt x="15726" y="16049"/>
                </a:moveTo>
                <a:cubicBezTo>
                  <a:pt x="15750" y="15977"/>
                  <a:pt x="15875" y="15983"/>
                  <a:pt x="15949" y="15974"/>
                </a:cubicBezTo>
                <a:cubicBezTo>
                  <a:pt x="16008" y="16181"/>
                  <a:pt x="15885" y="16251"/>
                  <a:pt x="15726" y="16396"/>
                </a:cubicBezTo>
                <a:cubicBezTo>
                  <a:pt x="15718" y="16404"/>
                  <a:pt x="15709" y="16413"/>
                  <a:pt x="15701" y="16421"/>
                </a:cubicBezTo>
                <a:cubicBezTo>
                  <a:pt x="15843" y="16385"/>
                  <a:pt x="15984" y="16322"/>
                  <a:pt x="16123" y="16272"/>
                </a:cubicBezTo>
                <a:cubicBezTo>
                  <a:pt x="16148" y="16264"/>
                  <a:pt x="16172" y="16255"/>
                  <a:pt x="16197" y="16247"/>
                </a:cubicBezTo>
              </a:path>
              <a:path w="2382" h="4739">
                <a:moveTo>
                  <a:pt x="16321" y="15032"/>
                </a:moveTo>
                <a:cubicBezTo>
                  <a:pt x="16255" y="15120"/>
                  <a:pt x="16331" y="15353"/>
                  <a:pt x="16346" y="15453"/>
                </a:cubicBezTo>
                <a:cubicBezTo>
                  <a:pt x="16361" y="15551"/>
                  <a:pt x="16349" y="15616"/>
                  <a:pt x="16421" y="15652"/>
                </a:cubicBezTo>
              </a:path>
              <a:path w="2382" h="4739">
                <a:moveTo>
                  <a:pt x="16222" y="15776"/>
                </a:moveTo>
                <a:cubicBezTo>
                  <a:pt x="16215" y="15719"/>
                  <a:pt x="16184" y="15653"/>
                  <a:pt x="16173" y="15627"/>
                </a:cubicBezTo>
                <a:cubicBezTo>
                  <a:pt x="16173" y="15602"/>
                  <a:pt x="16173" y="15594"/>
                  <a:pt x="16173" y="15577"/>
                </a:cubicBezTo>
                <a:cubicBezTo>
                  <a:pt x="16262" y="15595"/>
                  <a:pt x="16321" y="15661"/>
                  <a:pt x="16396" y="15701"/>
                </a:cubicBezTo>
                <a:cubicBezTo>
                  <a:pt x="16452" y="15730"/>
                  <a:pt x="16551" y="15515"/>
                  <a:pt x="16570" y="15478"/>
                </a:cubicBezTo>
                <a:cubicBezTo>
                  <a:pt x="16570" y="15450"/>
                  <a:pt x="16572" y="15444"/>
                  <a:pt x="16594" y="15478"/>
                </a:cubicBezTo>
              </a:path>
              <a:path w="2382" h="4739">
                <a:moveTo>
                  <a:pt x="16396" y="16024"/>
                </a:moveTo>
                <a:cubicBezTo>
                  <a:pt x="16396" y="16126"/>
                  <a:pt x="16436" y="16226"/>
                  <a:pt x="16470" y="16321"/>
                </a:cubicBezTo>
                <a:cubicBezTo>
                  <a:pt x="16508" y="16415"/>
                  <a:pt x="16500" y="16434"/>
                  <a:pt x="16545" y="16470"/>
                </a:cubicBezTo>
              </a:path>
              <a:path w="2382" h="4739">
                <a:moveTo>
                  <a:pt x="15900" y="13246"/>
                </a:moveTo>
                <a:cubicBezTo>
                  <a:pt x="15907" y="13288"/>
                  <a:pt x="15918" y="13328"/>
                  <a:pt x="15925" y="13370"/>
                </a:cubicBezTo>
                <a:cubicBezTo>
                  <a:pt x="15925" y="13311"/>
                  <a:pt x="15907" y="13266"/>
                  <a:pt x="15949" y="13246"/>
                </a:cubicBezTo>
                <a:cubicBezTo>
                  <a:pt x="16041" y="13203"/>
                  <a:pt x="16078" y="13182"/>
                  <a:pt x="16173" y="13196"/>
                </a:cubicBezTo>
                <a:cubicBezTo>
                  <a:pt x="16212" y="13202"/>
                  <a:pt x="16251" y="13189"/>
                  <a:pt x="16247" y="13246"/>
                </a:cubicBezTo>
                <a:cubicBezTo>
                  <a:pt x="16233" y="13447"/>
                  <a:pt x="16222" y="13640"/>
                  <a:pt x="16222" y="13841"/>
                </a:cubicBezTo>
              </a:path>
              <a:path w="2382" h="4739">
                <a:moveTo>
                  <a:pt x="15304" y="16867"/>
                </a:moveTo>
                <a:cubicBezTo>
                  <a:pt x="15362" y="16824"/>
                  <a:pt x="15352" y="16836"/>
                  <a:pt x="15429" y="16768"/>
                </a:cubicBezTo>
              </a:path>
              <a:path w="2382" h="4739">
                <a:moveTo>
                  <a:pt x="15974" y="16718"/>
                </a:moveTo>
                <a:cubicBezTo>
                  <a:pt x="15925" y="16702"/>
                  <a:pt x="15956" y="16674"/>
                  <a:pt x="15999" y="16669"/>
                </a:cubicBezTo>
                <a:cubicBezTo>
                  <a:pt x="16040" y="16664"/>
                  <a:pt x="16017" y="16644"/>
                  <a:pt x="16073" y="16644"/>
                </a:cubicBezTo>
                <a:cubicBezTo>
                  <a:pt x="16135" y="16644"/>
                  <a:pt x="16120" y="16751"/>
                  <a:pt x="16098" y="16793"/>
                </a:cubicBezTo>
                <a:cubicBezTo>
                  <a:pt x="16050" y="16887"/>
                  <a:pt x="15941" y="17082"/>
                  <a:pt x="15850" y="17140"/>
                </a:cubicBezTo>
                <a:cubicBezTo>
                  <a:pt x="15842" y="17140"/>
                  <a:pt x="15833" y="17140"/>
                  <a:pt x="15825" y="17140"/>
                </a:cubicBezTo>
                <a:cubicBezTo>
                  <a:pt x="15926" y="17165"/>
                  <a:pt x="16065" y="17102"/>
                  <a:pt x="16173" y="17066"/>
                </a:cubicBezTo>
                <a:cubicBezTo>
                  <a:pt x="16224" y="17049"/>
                  <a:pt x="16223" y="17041"/>
                  <a:pt x="16272" y="17041"/>
                </a:cubicBezTo>
              </a:path>
              <a:path w="2382" h="4739">
                <a:moveTo>
                  <a:pt x="16570" y="16495"/>
                </a:moveTo>
                <a:cubicBezTo>
                  <a:pt x="16570" y="16609"/>
                  <a:pt x="16593" y="16732"/>
                  <a:pt x="16619" y="16842"/>
                </a:cubicBezTo>
                <a:cubicBezTo>
                  <a:pt x="16641" y="16907"/>
                  <a:pt x="16649" y="16922"/>
                  <a:pt x="16644" y="16966"/>
                </a:cubicBezTo>
              </a:path>
              <a:path w="2382" h="4739">
                <a:moveTo>
                  <a:pt x="15503" y="17413"/>
                </a:moveTo>
                <a:cubicBezTo>
                  <a:pt x="15687" y="17413"/>
                  <a:pt x="15870" y="17383"/>
                  <a:pt x="16049" y="17338"/>
                </a:cubicBezTo>
                <a:cubicBezTo>
                  <a:pt x="16273" y="17282"/>
                  <a:pt x="16487" y="17226"/>
                  <a:pt x="16718" y="17214"/>
                </a:cubicBezTo>
                <a:cubicBezTo>
                  <a:pt x="16746" y="17214"/>
                  <a:pt x="16757" y="17216"/>
                  <a:pt x="16768" y="17239"/>
                </a:cubicBezTo>
              </a:path>
              <a:path w="2382" h="4739">
                <a:moveTo>
                  <a:pt x="16793" y="17462"/>
                </a:moveTo>
                <a:cubicBezTo>
                  <a:pt x="16733" y="17477"/>
                  <a:pt x="16701" y="17530"/>
                  <a:pt x="16669" y="17587"/>
                </a:cubicBezTo>
                <a:cubicBezTo>
                  <a:pt x="16600" y="17709"/>
                  <a:pt x="16560" y="17812"/>
                  <a:pt x="16644" y="17909"/>
                </a:cubicBezTo>
                <a:cubicBezTo>
                  <a:pt x="16781" y="17886"/>
                  <a:pt x="16862" y="17836"/>
                  <a:pt x="16892" y="17686"/>
                </a:cubicBezTo>
                <a:cubicBezTo>
                  <a:pt x="16911" y="17592"/>
                  <a:pt x="16848" y="17549"/>
                  <a:pt x="16768" y="17537"/>
                </a:cubicBezTo>
                <a:cubicBezTo>
                  <a:pt x="16760" y="17537"/>
                  <a:pt x="16751" y="17537"/>
                  <a:pt x="16743" y="175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ober 24, 20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1- Uni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 Students will multiply fr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3040" y="142920"/>
            <a:ext cx="4429080" cy="750960"/>
          </a:xfrm>
          <a:custGeom>
            <a:avLst/>
            <a:gdLst/>
            <a:ahLst/>
            <a:rect l="l" t="t" r="r" b="b"/>
            <a:pathLst>
              <a:path w="12304" h="2084">
                <a:moveTo>
                  <a:pt x="1315" y="2431"/>
                </a:moveTo>
                <a:cubicBezTo>
                  <a:pt x="1698" y="2431"/>
                  <a:pt x="2075" y="2451"/>
                  <a:pt x="2456" y="2456"/>
                </a:cubicBezTo>
                <a:cubicBezTo>
                  <a:pt x="2663" y="2459"/>
                  <a:pt x="2871" y="2484"/>
                  <a:pt x="3076" y="2480"/>
                </a:cubicBezTo>
                <a:cubicBezTo>
                  <a:pt x="3284" y="2476"/>
                  <a:pt x="3488" y="2458"/>
                  <a:pt x="3696" y="2456"/>
                </a:cubicBezTo>
                <a:cubicBezTo>
                  <a:pt x="4557" y="2447"/>
                  <a:pt x="5376" y="2385"/>
                  <a:pt x="6226" y="2307"/>
                </a:cubicBezTo>
                <a:cubicBezTo>
                  <a:pt x="6449" y="2286"/>
                  <a:pt x="6672" y="2296"/>
                  <a:pt x="6896" y="2282"/>
                </a:cubicBezTo>
                <a:cubicBezTo>
                  <a:pt x="7120" y="2268"/>
                  <a:pt x="7339" y="2234"/>
                  <a:pt x="7565" y="2232"/>
                </a:cubicBezTo>
                <a:cubicBezTo>
                  <a:pt x="8557" y="2223"/>
                  <a:pt x="9554" y="2264"/>
                  <a:pt x="10542" y="2183"/>
                </a:cubicBezTo>
                <a:cubicBezTo>
                  <a:pt x="10824" y="2160"/>
                  <a:pt x="11102" y="2118"/>
                  <a:pt x="11385" y="2108"/>
                </a:cubicBezTo>
                <a:cubicBezTo>
                  <a:pt x="11642" y="2099"/>
                  <a:pt x="11898" y="2107"/>
                  <a:pt x="12154" y="2084"/>
                </a:cubicBezTo>
                <a:cubicBezTo>
                  <a:pt x="12272" y="2074"/>
                  <a:pt x="12384" y="2071"/>
                  <a:pt x="12502" y="2059"/>
                </a:cubicBezTo>
                <a:cubicBezTo>
                  <a:pt x="12585" y="2050"/>
                  <a:pt x="12617" y="2044"/>
                  <a:pt x="12700" y="2034"/>
                </a:cubicBezTo>
              </a:path>
              <a:path w="12304" h="2084">
                <a:moveTo>
                  <a:pt x="6052" y="2108"/>
                </a:moveTo>
                <a:cubicBezTo>
                  <a:pt x="6111" y="2120"/>
                  <a:pt x="6163" y="2131"/>
                  <a:pt x="6226" y="2133"/>
                </a:cubicBezTo>
                <a:cubicBezTo>
                  <a:pt x="6317" y="2136"/>
                  <a:pt x="6392" y="2116"/>
                  <a:pt x="6474" y="2108"/>
                </a:cubicBezTo>
                <a:cubicBezTo>
                  <a:pt x="6638" y="2091"/>
                  <a:pt x="6811" y="2102"/>
                  <a:pt x="6970" y="2084"/>
                </a:cubicBezTo>
                <a:cubicBezTo>
                  <a:pt x="7157" y="2062"/>
                  <a:pt x="7356" y="2076"/>
                  <a:pt x="7541" y="2059"/>
                </a:cubicBezTo>
                <a:cubicBezTo>
                  <a:pt x="7663" y="2047"/>
                  <a:pt x="7792" y="2043"/>
                  <a:pt x="7913" y="2034"/>
                </a:cubicBezTo>
                <a:cubicBezTo>
                  <a:pt x="8126" y="2018"/>
                  <a:pt x="8351" y="2066"/>
                  <a:pt x="8558" y="2009"/>
                </a:cubicBezTo>
                <a:cubicBezTo>
                  <a:pt x="8665" y="1979"/>
                  <a:pt x="8773" y="1984"/>
                  <a:pt x="8880" y="1960"/>
                </a:cubicBezTo>
                <a:cubicBezTo>
                  <a:pt x="8941" y="1946"/>
                  <a:pt x="9004" y="1937"/>
                  <a:pt x="9079" y="1935"/>
                </a:cubicBezTo>
                <a:cubicBezTo>
                  <a:pt x="9153" y="1933"/>
                  <a:pt x="9228" y="1935"/>
                  <a:pt x="9302" y="1935"/>
                </a:cubicBezTo>
              </a:path>
              <a:path w="12304" h="2084">
                <a:moveTo>
                  <a:pt x="11733" y="571"/>
                </a:moveTo>
                <a:cubicBezTo>
                  <a:pt x="11708" y="561"/>
                  <a:pt x="11642" y="536"/>
                  <a:pt x="11584" y="521"/>
                </a:cubicBezTo>
                <a:cubicBezTo>
                  <a:pt x="11466" y="489"/>
                  <a:pt x="11310" y="476"/>
                  <a:pt x="11187" y="496"/>
                </a:cubicBezTo>
                <a:cubicBezTo>
                  <a:pt x="11083" y="513"/>
                  <a:pt x="10901" y="564"/>
                  <a:pt x="10815" y="620"/>
                </a:cubicBezTo>
                <a:cubicBezTo>
                  <a:pt x="10756" y="658"/>
                  <a:pt x="10699" y="726"/>
                  <a:pt x="10666" y="794"/>
                </a:cubicBezTo>
                <a:cubicBezTo>
                  <a:pt x="10608" y="913"/>
                  <a:pt x="10637" y="991"/>
                  <a:pt x="10641" y="1116"/>
                </a:cubicBezTo>
                <a:cubicBezTo>
                  <a:pt x="10645" y="1223"/>
                  <a:pt x="10683" y="1312"/>
                  <a:pt x="10716" y="1414"/>
                </a:cubicBezTo>
                <a:cubicBezTo>
                  <a:pt x="10742" y="1494"/>
                  <a:pt x="10762" y="1594"/>
                  <a:pt x="10815" y="1662"/>
                </a:cubicBezTo>
                <a:cubicBezTo>
                  <a:pt x="10868" y="1731"/>
                  <a:pt x="10932" y="1793"/>
                  <a:pt x="11013" y="1836"/>
                </a:cubicBezTo>
                <a:cubicBezTo>
                  <a:pt x="11094" y="1879"/>
                  <a:pt x="11198" y="1904"/>
                  <a:pt x="11286" y="1910"/>
                </a:cubicBezTo>
                <a:cubicBezTo>
                  <a:pt x="11403" y="1918"/>
                  <a:pt x="11518" y="1915"/>
                  <a:pt x="11633" y="1935"/>
                </a:cubicBezTo>
                <a:cubicBezTo>
                  <a:pt x="11784" y="1961"/>
                  <a:pt x="11929" y="2020"/>
                  <a:pt x="12080" y="2034"/>
                </a:cubicBezTo>
                <a:cubicBezTo>
                  <a:pt x="12187" y="2044"/>
                  <a:pt x="12298" y="2049"/>
                  <a:pt x="12402" y="2059"/>
                </a:cubicBezTo>
                <a:cubicBezTo>
                  <a:pt x="12578" y="2076"/>
                  <a:pt x="12752" y="2049"/>
                  <a:pt x="12923" y="2034"/>
                </a:cubicBezTo>
                <a:cubicBezTo>
                  <a:pt x="13062" y="2022"/>
                  <a:pt x="13170" y="2006"/>
                  <a:pt x="13295" y="1935"/>
                </a:cubicBezTo>
                <a:cubicBezTo>
                  <a:pt x="13421" y="1863"/>
                  <a:pt x="13494" y="1747"/>
                  <a:pt x="13543" y="1612"/>
                </a:cubicBezTo>
                <a:cubicBezTo>
                  <a:pt x="13585" y="1495"/>
                  <a:pt x="13624" y="1313"/>
                  <a:pt x="13618" y="1191"/>
                </a:cubicBezTo>
                <a:cubicBezTo>
                  <a:pt x="13613" y="1086"/>
                  <a:pt x="13575" y="954"/>
                  <a:pt x="13519" y="868"/>
                </a:cubicBezTo>
                <a:cubicBezTo>
                  <a:pt x="13442" y="751"/>
                  <a:pt x="13266" y="689"/>
                  <a:pt x="13146" y="645"/>
                </a:cubicBezTo>
                <a:cubicBezTo>
                  <a:pt x="12952" y="573"/>
                  <a:pt x="12755" y="506"/>
                  <a:pt x="12551" y="471"/>
                </a:cubicBezTo>
                <a:cubicBezTo>
                  <a:pt x="12305" y="429"/>
                  <a:pt x="12056" y="401"/>
                  <a:pt x="11807" y="397"/>
                </a:cubicBezTo>
                <a:cubicBezTo>
                  <a:pt x="11587" y="393"/>
                  <a:pt x="11351" y="375"/>
                  <a:pt x="11137" y="422"/>
                </a:cubicBezTo>
                <a:cubicBezTo>
                  <a:pt x="11037" y="444"/>
                  <a:pt x="10952" y="480"/>
                  <a:pt x="10864" y="5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3040" y="384120"/>
            <a:ext cx="1376280" cy="492120"/>
          </a:xfrm>
          <a:custGeom>
            <a:avLst/>
            <a:gdLst/>
            <a:ahLst/>
            <a:rect l="l" t="t" r="r" b="b"/>
            <a:pathLst>
              <a:path w="3821" h="1365">
                <a:moveTo>
                  <a:pt x="1339" y="1265"/>
                </a:moveTo>
                <a:cubicBezTo>
                  <a:pt x="1350" y="1340"/>
                  <a:pt x="1354" y="1364"/>
                  <a:pt x="1364" y="1439"/>
                </a:cubicBezTo>
                <a:cubicBezTo>
                  <a:pt x="1384" y="1589"/>
                  <a:pt x="1406" y="1735"/>
                  <a:pt x="1414" y="1885"/>
                </a:cubicBezTo>
                <a:cubicBezTo>
                  <a:pt x="1364" y="1737"/>
                  <a:pt x="1292" y="1549"/>
                  <a:pt x="1315" y="1389"/>
                </a:cubicBezTo>
                <a:cubicBezTo>
                  <a:pt x="1343" y="1200"/>
                  <a:pt x="1413" y="1178"/>
                  <a:pt x="1563" y="1141"/>
                </a:cubicBezTo>
                <a:cubicBezTo>
                  <a:pt x="1669" y="1254"/>
                  <a:pt x="1824" y="1439"/>
                  <a:pt x="1836" y="1612"/>
                </a:cubicBezTo>
                <a:cubicBezTo>
                  <a:pt x="1838" y="1648"/>
                  <a:pt x="1816" y="1599"/>
                  <a:pt x="1811" y="1563"/>
                </a:cubicBezTo>
                <a:cubicBezTo>
                  <a:pt x="1791" y="1413"/>
                  <a:pt x="1734" y="1243"/>
                  <a:pt x="1885" y="1141"/>
                </a:cubicBezTo>
                <a:cubicBezTo>
                  <a:pt x="1910" y="1133"/>
                  <a:pt x="1935" y="1124"/>
                  <a:pt x="1960" y="1116"/>
                </a:cubicBezTo>
                <a:cubicBezTo>
                  <a:pt x="2084" y="1336"/>
                  <a:pt x="2197" y="1533"/>
                  <a:pt x="2232" y="1786"/>
                </a:cubicBezTo>
                <a:cubicBezTo>
                  <a:pt x="2232" y="1811"/>
                  <a:pt x="2232" y="1835"/>
                  <a:pt x="2232" y="1860"/>
                </a:cubicBezTo>
              </a:path>
              <a:path w="3821" h="1365">
                <a:moveTo>
                  <a:pt x="2332" y="1315"/>
                </a:moveTo>
                <a:cubicBezTo>
                  <a:pt x="2332" y="1447"/>
                  <a:pt x="2318" y="1583"/>
                  <a:pt x="2356" y="1712"/>
                </a:cubicBezTo>
                <a:cubicBezTo>
                  <a:pt x="2410" y="1895"/>
                  <a:pt x="2548" y="1846"/>
                  <a:pt x="2629" y="1712"/>
                </a:cubicBezTo>
                <a:cubicBezTo>
                  <a:pt x="2672" y="1605"/>
                  <a:pt x="2695" y="1581"/>
                  <a:pt x="2654" y="1513"/>
                </a:cubicBezTo>
                <a:cubicBezTo>
                  <a:pt x="2614" y="1434"/>
                  <a:pt x="2639" y="1633"/>
                  <a:pt x="2679" y="1712"/>
                </a:cubicBezTo>
                <a:cubicBezTo>
                  <a:pt x="2694" y="1742"/>
                  <a:pt x="2801" y="1961"/>
                  <a:pt x="2828" y="1910"/>
                </a:cubicBezTo>
                <a:cubicBezTo>
                  <a:pt x="2844" y="1869"/>
                  <a:pt x="2861" y="1827"/>
                  <a:pt x="2877" y="1786"/>
                </a:cubicBezTo>
              </a:path>
              <a:path w="3821" h="1365">
                <a:moveTo>
                  <a:pt x="2927" y="1091"/>
                </a:moveTo>
                <a:cubicBezTo>
                  <a:pt x="2927" y="1296"/>
                  <a:pt x="2948" y="1488"/>
                  <a:pt x="3001" y="1687"/>
                </a:cubicBezTo>
                <a:cubicBezTo>
                  <a:pt x="3038" y="1826"/>
                  <a:pt x="3030" y="1941"/>
                  <a:pt x="3101" y="1836"/>
                </a:cubicBezTo>
              </a:path>
              <a:path w="3821" h="1365">
                <a:moveTo>
                  <a:pt x="3200" y="1067"/>
                </a:moveTo>
                <a:cubicBezTo>
                  <a:pt x="3234" y="1273"/>
                  <a:pt x="3303" y="1481"/>
                  <a:pt x="3349" y="1687"/>
                </a:cubicBezTo>
                <a:cubicBezTo>
                  <a:pt x="3369" y="1775"/>
                  <a:pt x="3379" y="1858"/>
                  <a:pt x="3398" y="1935"/>
                </a:cubicBezTo>
              </a:path>
              <a:path w="3821" h="1365">
                <a:moveTo>
                  <a:pt x="3398" y="1935"/>
                </a:moveTo>
                <a:lnTo>
                  <a:pt x="3398" y="1935"/>
                </a:lnTo>
              </a:path>
              <a:path w="3821" h="1365">
                <a:moveTo>
                  <a:pt x="3125" y="1662"/>
                </a:moveTo>
                <a:cubicBezTo>
                  <a:pt x="3232" y="1586"/>
                  <a:pt x="3389" y="1554"/>
                  <a:pt x="3522" y="1563"/>
                </a:cubicBezTo>
                <a:cubicBezTo>
                  <a:pt x="3565" y="1566"/>
                  <a:pt x="3624" y="1551"/>
                  <a:pt x="3646" y="1588"/>
                </a:cubicBezTo>
                <a:cubicBezTo>
                  <a:pt x="3663" y="1617"/>
                  <a:pt x="3768" y="1912"/>
                  <a:pt x="3770" y="1910"/>
                </a:cubicBezTo>
                <a:cubicBezTo>
                  <a:pt x="3770" y="1893"/>
                  <a:pt x="3770" y="1877"/>
                  <a:pt x="3770" y="1860"/>
                </a:cubicBezTo>
              </a:path>
              <a:path w="3821" h="1365">
                <a:moveTo>
                  <a:pt x="3646" y="1364"/>
                </a:moveTo>
                <a:lnTo>
                  <a:pt x="3646" y="1364"/>
                </a:lnTo>
              </a:path>
              <a:path w="3821" h="1365">
                <a:moveTo>
                  <a:pt x="3820" y="1612"/>
                </a:moveTo>
                <a:cubicBezTo>
                  <a:pt x="3880" y="1800"/>
                  <a:pt x="3952" y="1990"/>
                  <a:pt x="3994" y="2183"/>
                </a:cubicBezTo>
                <a:cubicBezTo>
                  <a:pt x="3994" y="2211"/>
                  <a:pt x="3992" y="2217"/>
                  <a:pt x="3969" y="2183"/>
                </a:cubicBezTo>
                <a:cubicBezTo>
                  <a:pt x="3917" y="1976"/>
                  <a:pt x="3783" y="1674"/>
                  <a:pt x="3870" y="1463"/>
                </a:cubicBezTo>
                <a:cubicBezTo>
                  <a:pt x="3886" y="1447"/>
                  <a:pt x="3903" y="1430"/>
                  <a:pt x="3919" y="1414"/>
                </a:cubicBezTo>
                <a:cubicBezTo>
                  <a:pt x="4047" y="1470"/>
                  <a:pt x="4252" y="1591"/>
                  <a:pt x="4093" y="1761"/>
                </a:cubicBezTo>
                <a:cubicBezTo>
                  <a:pt x="3870" y="2000"/>
                  <a:pt x="3808" y="1777"/>
                  <a:pt x="3894" y="1588"/>
                </a:cubicBezTo>
              </a:path>
              <a:path w="3821" h="1365">
                <a:moveTo>
                  <a:pt x="4192" y="1166"/>
                </a:moveTo>
                <a:cubicBezTo>
                  <a:pt x="4305" y="1409"/>
                  <a:pt x="4375" y="1670"/>
                  <a:pt x="4490" y="1910"/>
                </a:cubicBezTo>
                <a:cubicBezTo>
                  <a:pt x="4498" y="1918"/>
                  <a:pt x="4506" y="1927"/>
                  <a:pt x="4514" y="1935"/>
                </a:cubicBezTo>
              </a:path>
              <a:path w="3821" h="1365">
                <a:moveTo>
                  <a:pt x="4713" y="1488"/>
                </a:moveTo>
                <a:cubicBezTo>
                  <a:pt x="4692" y="1600"/>
                  <a:pt x="4630" y="1875"/>
                  <a:pt x="4812" y="1910"/>
                </a:cubicBezTo>
                <a:cubicBezTo>
                  <a:pt x="4967" y="1940"/>
                  <a:pt x="5034" y="1683"/>
                  <a:pt x="5085" y="1588"/>
                </a:cubicBezTo>
                <a:cubicBezTo>
                  <a:pt x="5093" y="1555"/>
                  <a:pt x="5102" y="1521"/>
                  <a:pt x="5110" y="1488"/>
                </a:cubicBezTo>
                <a:cubicBezTo>
                  <a:pt x="5110" y="1695"/>
                  <a:pt x="5160" y="1903"/>
                  <a:pt x="5110" y="2108"/>
                </a:cubicBezTo>
                <a:cubicBezTo>
                  <a:pt x="5031" y="2429"/>
                  <a:pt x="4790" y="2430"/>
                  <a:pt x="4564" y="23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08160" y="339840"/>
            <a:ext cx="857160" cy="303120"/>
          </a:xfrm>
          <a:custGeom>
            <a:avLst/>
            <a:gdLst/>
            <a:ahLst/>
            <a:rect l="l" t="t" r="r" b="b"/>
            <a:pathLst>
              <a:path w="2382" h="844">
                <a:moveTo>
                  <a:pt x="5879" y="1414"/>
                </a:moveTo>
                <a:cubicBezTo>
                  <a:pt x="5864" y="1537"/>
                  <a:pt x="5842" y="1667"/>
                  <a:pt x="5904" y="1786"/>
                </a:cubicBezTo>
                <a:cubicBezTo>
                  <a:pt x="5944" y="1863"/>
                  <a:pt x="6112" y="1505"/>
                  <a:pt x="6127" y="1463"/>
                </a:cubicBezTo>
                <a:cubicBezTo>
                  <a:pt x="6110" y="1645"/>
                  <a:pt x="6108" y="1667"/>
                  <a:pt x="6251" y="1786"/>
                </a:cubicBezTo>
                <a:cubicBezTo>
                  <a:pt x="6340" y="1704"/>
                  <a:pt x="6538" y="1507"/>
                  <a:pt x="6375" y="1389"/>
                </a:cubicBezTo>
                <a:cubicBezTo>
                  <a:pt x="6277" y="1364"/>
                  <a:pt x="6244" y="1356"/>
                  <a:pt x="6176" y="1364"/>
                </a:cubicBezTo>
              </a:path>
              <a:path w="2382" h="844">
                <a:moveTo>
                  <a:pt x="6499" y="943"/>
                </a:moveTo>
                <a:cubicBezTo>
                  <a:pt x="6533" y="1226"/>
                  <a:pt x="6588" y="1506"/>
                  <a:pt x="6623" y="1786"/>
                </a:cubicBezTo>
                <a:cubicBezTo>
                  <a:pt x="6623" y="1761"/>
                  <a:pt x="6623" y="1753"/>
                  <a:pt x="6623" y="1736"/>
                </a:cubicBezTo>
                <a:cubicBezTo>
                  <a:pt x="6628" y="1575"/>
                  <a:pt x="6629" y="1444"/>
                  <a:pt x="6672" y="1290"/>
                </a:cubicBezTo>
                <a:cubicBezTo>
                  <a:pt x="6884" y="1425"/>
                  <a:pt x="6930" y="1489"/>
                  <a:pt x="6921" y="1736"/>
                </a:cubicBezTo>
                <a:cubicBezTo>
                  <a:pt x="6921" y="1744"/>
                  <a:pt x="6921" y="1753"/>
                  <a:pt x="6921" y="1761"/>
                </a:cubicBezTo>
              </a:path>
              <a:path w="2382" h="844">
                <a:moveTo>
                  <a:pt x="7094" y="1290"/>
                </a:moveTo>
                <a:cubicBezTo>
                  <a:pt x="6958" y="1502"/>
                  <a:pt x="6926" y="1489"/>
                  <a:pt x="7020" y="1712"/>
                </a:cubicBezTo>
                <a:cubicBezTo>
                  <a:pt x="7177" y="1685"/>
                  <a:pt x="7504" y="1568"/>
                  <a:pt x="7342" y="1315"/>
                </a:cubicBezTo>
                <a:cubicBezTo>
                  <a:pt x="7283" y="1223"/>
                  <a:pt x="7171" y="1293"/>
                  <a:pt x="7094" y="1215"/>
                </a:cubicBezTo>
              </a:path>
              <a:path w="2382" h="844">
                <a:moveTo>
                  <a:pt x="7565" y="1067"/>
                </a:moveTo>
                <a:cubicBezTo>
                  <a:pt x="7566" y="1080"/>
                  <a:pt x="7671" y="1793"/>
                  <a:pt x="7689" y="1786"/>
                </a:cubicBezTo>
                <a:cubicBezTo>
                  <a:pt x="7697" y="1761"/>
                  <a:pt x="7706" y="1737"/>
                  <a:pt x="7714" y="1712"/>
                </a:cubicBezTo>
              </a:path>
              <a:path w="2382" h="844">
                <a:moveTo>
                  <a:pt x="7863" y="1414"/>
                </a:moveTo>
                <a:cubicBezTo>
                  <a:pt x="8022" y="1434"/>
                  <a:pt x="8068" y="1440"/>
                  <a:pt x="8136" y="1290"/>
                </a:cubicBezTo>
                <a:cubicBezTo>
                  <a:pt x="7934" y="1180"/>
                  <a:pt x="7805" y="1244"/>
                  <a:pt x="7739" y="1488"/>
                </a:cubicBezTo>
                <a:cubicBezTo>
                  <a:pt x="7618" y="1934"/>
                  <a:pt x="8097" y="1660"/>
                  <a:pt x="8235" y="15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24160" y="374760"/>
            <a:ext cx="419040" cy="287280"/>
          </a:xfrm>
          <a:custGeom>
            <a:avLst/>
            <a:gdLst/>
            <a:ahLst/>
            <a:rect l="l" t="t" r="r" b="b"/>
            <a:pathLst>
              <a:path w="1167" h="795">
                <a:moveTo>
                  <a:pt x="9227" y="1042"/>
                </a:moveTo>
                <a:cubicBezTo>
                  <a:pt x="9232" y="1107"/>
                  <a:pt x="9265" y="1564"/>
                  <a:pt x="9351" y="1563"/>
                </a:cubicBezTo>
                <a:cubicBezTo>
                  <a:pt x="9390" y="1405"/>
                  <a:pt x="9415" y="1314"/>
                  <a:pt x="9451" y="1191"/>
                </a:cubicBezTo>
              </a:path>
              <a:path w="1167" h="795">
                <a:moveTo>
                  <a:pt x="9575" y="1141"/>
                </a:moveTo>
                <a:cubicBezTo>
                  <a:pt x="9596" y="1314"/>
                  <a:pt x="9668" y="1457"/>
                  <a:pt x="9575" y="1439"/>
                </a:cubicBezTo>
              </a:path>
              <a:path w="1167" h="795">
                <a:moveTo>
                  <a:pt x="9575" y="1439"/>
                </a:moveTo>
                <a:lnTo>
                  <a:pt x="9575" y="1439"/>
                </a:lnTo>
              </a:path>
              <a:path w="1167" h="795">
                <a:moveTo>
                  <a:pt x="8979" y="1315"/>
                </a:moveTo>
                <a:cubicBezTo>
                  <a:pt x="9139" y="1295"/>
                  <a:pt x="9594" y="1199"/>
                  <a:pt x="9575" y="1240"/>
                </a:cubicBezTo>
              </a:path>
              <a:path w="1167" h="795">
                <a:moveTo>
                  <a:pt x="8954" y="1488"/>
                </a:moveTo>
                <a:cubicBezTo>
                  <a:pt x="9233" y="1480"/>
                  <a:pt x="9457" y="1434"/>
                  <a:pt x="9723" y="1364"/>
                </a:cubicBezTo>
              </a:path>
              <a:path w="1167" h="795">
                <a:moveTo>
                  <a:pt x="9723" y="1364"/>
                </a:moveTo>
                <a:lnTo>
                  <a:pt x="9723" y="1364"/>
                </a:lnTo>
              </a:path>
              <a:path w="1167" h="795">
                <a:moveTo>
                  <a:pt x="10071" y="1414"/>
                </a:moveTo>
                <a:cubicBezTo>
                  <a:pt x="9975" y="1424"/>
                  <a:pt x="9908" y="1460"/>
                  <a:pt x="9823" y="1488"/>
                </a:cubicBezTo>
                <a:cubicBezTo>
                  <a:pt x="9943" y="1556"/>
                  <a:pt x="10034" y="1575"/>
                  <a:pt x="10120" y="1687"/>
                </a:cubicBezTo>
                <a:cubicBezTo>
                  <a:pt x="10089" y="1716"/>
                  <a:pt x="9786" y="1976"/>
                  <a:pt x="9748" y="1811"/>
                </a:cubicBezTo>
                <a:cubicBezTo>
                  <a:pt x="9756" y="1794"/>
                  <a:pt x="9765" y="1778"/>
                  <a:pt x="9773" y="17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19680" y="322200"/>
            <a:ext cx="671400" cy="285840"/>
          </a:xfrm>
          <a:custGeom>
            <a:avLst/>
            <a:gdLst/>
            <a:ahLst/>
            <a:rect l="l" t="t" r="r" b="b"/>
            <a:pathLst>
              <a:path w="1862" h="795">
                <a:moveTo>
                  <a:pt x="10889" y="1017"/>
                </a:moveTo>
                <a:cubicBezTo>
                  <a:pt x="11092" y="966"/>
                  <a:pt x="11203" y="945"/>
                  <a:pt x="11361" y="1067"/>
                </a:cubicBezTo>
                <a:cubicBezTo>
                  <a:pt x="11273" y="1176"/>
                  <a:pt x="11226" y="1210"/>
                  <a:pt x="11088" y="1265"/>
                </a:cubicBezTo>
                <a:cubicBezTo>
                  <a:pt x="11208" y="1285"/>
                  <a:pt x="11458" y="1344"/>
                  <a:pt x="11435" y="1513"/>
                </a:cubicBezTo>
                <a:cubicBezTo>
                  <a:pt x="11391" y="1839"/>
                  <a:pt x="10987" y="1630"/>
                  <a:pt x="10889" y="1538"/>
                </a:cubicBezTo>
              </a:path>
              <a:path w="1862" h="795">
                <a:moveTo>
                  <a:pt x="11584" y="1017"/>
                </a:moveTo>
                <a:cubicBezTo>
                  <a:pt x="11626" y="1091"/>
                  <a:pt x="11805" y="1500"/>
                  <a:pt x="11931" y="1463"/>
                </a:cubicBezTo>
                <a:cubicBezTo>
                  <a:pt x="11931" y="1447"/>
                  <a:pt x="11931" y="1430"/>
                  <a:pt x="11931" y="1414"/>
                </a:cubicBezTo>
              </a:path>
              <a:path w="1862" h="795">
                <a:moveTo>
                  <a:pt x="11857" y="1042"/>
                </a:moveTo>
                <a:cubicBezTo>
                  <a:pt x="11814" y="1232"/>
                  <a:pt x="11772" y="1421"/>
                  <a:pt x="11733" y="1612"/>
                </a:cubicBezTo>
              </a:path>
              <a:path w="1862" h="795">
                <a:moveTo>
                  <a:pt x="11733" y="1612"/>
                </a:moveTo>
                <a:lnTo>
                  <a:pt x="11733" y="1612"/>
                </a:lnTo>
              </a:path>
              <a:path w="1862" h="795">
                <a:moveTo>
                  <a:pt x="12254" y="918"/>
                </a:moveTo>
                <a:cubicBezTo>
                  <a:pt x="12413" y="918"/>
                  <a:pt x="12567" y="902"/>
                  <a:pt x="12725" y="893"/>
                </a:cubicBezTo>
                <a:cubicBezTo>
                  <a:pt x="12734" y="1103"/>
                  <a:pt x="12690" y="1306"/>
                  <a:pt x="12626" y="1513"/>
                </a:cubicBezTo>
                <a:cubicBezTo>
                  <a:pt x="12618" y="1530"/>
                  <a:pt x="12609" y="1546"/>
                  <a:pt x="12601" y="15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41920" y="312840"/>
            <a:ext cx="544320" cy="250560"/>
          </a:xfrm>
          <a:custGeom>
            <a:avLst/>
            <a:gdLst/>
            <a:ahLst/>
            <a:rect l="l" t="t" r="r" b="b"/>
            <a:pathLst>
              <a:path w="1514" h="696">
                <a:moveTo>
                  <a:pt x="13171" y="1240"/>
                </a:moveTo>
                <a:cubicBezTo>
                  <a:pt x="13277" y="1180"/>
                  <a:pt x="13419" y="1143"/>
                  <a:pt x="13543" y="1116"/>
                </a:cubicBezTo>
                <a:cubicBezTo>
                  <a:pt x="13551" y="1116"/>
                  <a:pt x="13560" y="1116"/>
                  <a:pt x="13568" y="1116"/>
                </a:cubicBezTo>
              </a:path>
              <a:path w="1514" h="696">
                <a:moveTo>
                  <a:pt x="13221" y="1339"/>
                </a:moveTo>
                <a:cubicBezTo>
                  <a:pt x="13358" y="1328"/>
                  <a:pt x="13486" y="1303"/>
                  <a:pt x="13618" y="1265"/>
                </a:cubicBezTo>
              </a:path>
              <a:path w="1514" h="696">
                <a:moveTo>
                  <a:pt x="13618" y="1265"/>
                </a:moveTo>
                <a:lnTo>
                  <a:pt x="13618" y="1265"/>
                </a:lnTo>
              </a:path>
              <a:path w="1514" h="696">
                <a:moveTo>
                  <a:pt x="14089" y="943"/>
                </a:moveTo>
                <a:cubicBezTo>
                  <a:pt x="14089" y="996"/>
                  <a:pt x="14090" y="1023"/>
                  <a:pt x="14064" y="1067"/>
                </a:cubicBezTo>
                <a:cubicBezTo>
                  <a:pt x="14096" y="1056"/>
                  <a:pt x="14170" y="899"/>
                  <a:pt x="14238" y="967"/>
                </a:cubicBezTo>
                <a:cubicBezTo>
                  <a:pt x="14394" y="1122"/>
                  <a:pt x="14245" y="1460"/>
                  <a:pt x="14089" y="1538"/>
                </a:cubicBezTo>
                <a:cubicBezTo>
                  <a:pt x="13981" y="1560"/>
                  <a:pt x="13955" y="1573"/>
                  <a:pt x="13891" y="1538"/>
                </a:cubicBezTo>
                <a:cubicBezTo>
                  <a:pt x="13986" y="1401"/>
                  <a:pt x="14074" y="1415"/>
                  <a:pt x="14238" y="1463"/>
                </a:cubicBezTo>
                <a:cubicBezTo>
                  <a:pt x="14377" y="1504"/>
                  <a:pt x="14302" y="1559"/>
                  <a:pt x="14387" y="1389"/>
                </a:cubicBezTo>
              </a:path>
              <a:path w="1514" h="696">
                <a:moveTo>
                  <a:pt x="14585" y="868"/>
                </a:moveTo>
                <a:cubicBezTo>
                  <a:pt x="14585" y="1007"/>
                  <a:pt x="14632" y="1153"/>
                  <a:pt x="14660" y="1290"/>
                </a:cubicBezTo>
                <a:cubicBezTo>
                  <a:pt x="14674" y="1360"/>
                  <a:pt x="14684" y="1380"/>
                  <a:pt x="14684" y="1439"/>
                </a:cubicBezTo>
              </a:path>
              <a:path w="1514" h="696">
                <a:moveTo>
                  <a:pt x="14684" y="1439"/>
                </a:moveTo>
                <a:lnTo>
                  <a:pt x="14684" y="143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5120" y="1054080"/>
            <a:ext cx="1357200" cy="285840"/>
          </a:xfrm>
          <a:custGeom>
            <a:avLst/>
            <a:gdLst/>
            <a:ahLst/>
            <a:rect l="l" t="t" r="r" b="b"/>
            <a:pathLst>
              <a:path w="3771" h="795">
                <a:moveTo>
                  <a:pt x="1290" y="3200"/>
                </a:moveTo>
                <a:cubicBezTo>
                  <a:pt x="1360" y="3165"/>
                  <a:pt x="1501" y="3101"/>
                  <a:pt x="1588" y="3101"/>
                </a:cubicBezTo>
                <a:cubicBezTo>
                  <a:pt x="1588" y="3109"/>
                  <a:pt x="1588" y="3117"/>
                  <a:pt x="1588" y="3125"/>
                </a:cubicBezTo>
              </a:path>
              <a:path w="3771" h="795">
                <a:moveTo>
                  <a:pt x="1935" y="3125"/>
                </a:moveTo>
                <a:cubicBezTo>
                  <a:pt x="1963" y="3255"/>
                  <a:pt x="1995" y="3396"/>
                  <a:pt x="2034" y="3522"/>
                </a:cubicBezTo>
                <a:cubicBezTo>
                  <a:pt x="2010" y="3402"/>
                  <a:pt x="1916" y="3283"/>
                  <a:pt x="1960" y="3150"/>
                </a:cubicBezTo>
                <a:cubicBezTo>
                  <a:pt x="2005" y="3013"/>
                  <a:pt x="2204" y="3073"/>
                  <a:pt x="2257" y="3125"/>
                </a:cubicBezTo>
              </a:path>
              <a:path w="3771" h="795">
                <a:moveTo>
                  <a:pt x="2232" y="3324"/>
                </a:moveTo>
                <a:cubicBezTo>
                  <a:pt x="2291" y="3324"/>
                  <a:pt x="2419" y="3346"/>
                  <a:pt x="2456" y="3299"/>
                </a:cubicBezTo>
                <a:cubicBezTo>
                  <a:pt x="2464" y="3282"/>
                  <a:pt x="2472" y="3266"/>
                  <a:pt x="2480" y="3249"/>
                </a:cubicBezTo>
                <a:cubicBezTo>
                  <a:pt x="2446" y="3162"/>
                  <a:pt x="2363" y="3047"/>
                  <a:pt x="2257" y="3175"/>
                </a:cubicBezTo>
                <a:cubicBezTo>
                  <a:pt x="2153" y="3300"/>
                  <a:pt x="2183" y="3593"/>
                  <a:pt x="2406" y="3547"/>
                </a:cubicBezTo>
                <a:cubicBezTo>
                  <a:pt x="2540" y="3519"/>
                  <a:pt x="2608" y="3373"/>
                  <a:pt x="2679" y="3274"/>
                </a:cubicBezTo>
                <a:cubicBezTo>
                  <a:pt x="2632" y="3274"/>
                  <a:pt x="2686" y="3561"/>
                  <a:pt x="2704" y="3646"/>
                </a:cubicBezTo>
                <a:cubicBezTo>
                  <a:pt x="2712" y="3671"/>
                  <a:pt x="2721" y="3696"/>
                  <a:pt x="2729" y="3721"/>
                </a:cubicBezTo>
                <a:cubicBezTo>
                  <a:pt x="2658" y="3537"/>
                  <a:pt x="2547" y="3310"/>
                  <a:pt x="2729" y="3150"/>
                </a:cubicBezTo>
                <a:cubicBezTo>
                  <a:pt x="2778" y="3134"/>
                  <a:pt x="2828" y="3117"/>
                  <a:pt x="2877" y="3101"/>
                </a:cubicBezTo>
                <a:cubicBezTo>
                  <a:pt x="3030" y="3284"/>
                  <a:pt x="3056" y="3464"/>
                  <a:pt x="2729" y="3497"/>
                </a:cubicBezTo>
                <a:cubicBezTo>
                  <a:pt x="2629" y="3478"/>
                  <a:pt x="2588" y="3496"/>
                  <a:pt x="2604" y="3423"/>
                </a:cubicBezTo>
              </a:path>
              <a:path w="3771" h="795">
                <a:moveTo>
                  <a:pt x="3125" y="3324"/>
                </a:moveTo>
                <a:cubicBezTo>
                  <a:pt x="3206" y="3307"/>
                  <a:pt x="3291" y="3286"/>
                  <a:pt x="3373" y="3274"/>
                </a:cubicBezTo>
                <a:cubicBezTo>
                  <a:pt x="3342" y="3181"/>
                  <a:pt x="3249" y="3066"/>
                  <a:pt x="3125" y="3125"/>
                </a:cubicBezTo>
                <a:cubicBezTo>
                  <a:pt x="2950" y="3209"/>
                  <a:pt x="2907" y="3448"/>
                  <a:pt x="3101" y="3522"/>
                </a:cubicBezTo>
                <a:cubicBezTo>
                  <a:pt x="3292" y="3550"/>
                  <a:pt x="3367" y="3554"/>
                  <a:pt x="3497" y="3497"/>
                </a:cubicBezTo>
              </a:path>
              <a:path w="3771" h="795">
                <a:moveTo>
                  <a:pt x="3870" y="3274"/>
                </a:moveTo>
                <a:cubicBezTo>
                  <a:pt x="3708" y="3220"/>
                  <a:pt x="3571" y="3259"/>
                  <a:pt x="3497" y="3448"/>
                </a:cubicBezTo>
                <a:cubicBezTo>
                  <a:pt x="3497" y="3489"/>
                  <a:pt x="3497" y="3531"/>
                  <a:pt x="3497" y="3572"/>
                </a:cubicBezTo>
                <a:cubicBezTo>
                  <a:pt x="3676" y="3546"/>
                  <a:pt x="3716" y="3526"/>
                  <a:pt x="3845" y="3398"/>
                </a:cubicBezTo>
                <a:cubicBezTo>
                  <a:pt x="3761" y="3344"/>
                  <a:pt x="3858" y="3545"/>
                  <a:pt x="4018" y="3497"/>
                </a:cubicBezTo>
                <a:cubicBezTo>
                  <a:pt x="4146" y="3421"/>
                  <a:pt x="4188" y="3392"/>
                  <a:pt x="4192" y="3274"/>
                </a:cubicBezTo>
              </a:path>
              <a:path w="3771" h="795">
                <a:moveTo>
                  <a:pt x="4068" y="3001"/>
                </a:moveTo>
                <a:cubicBezTo>
                  <a:pt x="4122" y="3180"/>
                  <a:pt x="4153" y="3374"/>
                  <a:pt x="4217" y="3547"/>
                </a:cubicBezTo>
                <a:cubicBezTo>
                  <a:pt x="4217" y="3539"/>
                  <a:pt x="4217" y="3530"/>
                  <a:pt x="4217" y="3522"/>
                </a:cubicBezTo>
              </a:path>
              <a:path w="3771" h="795">
                <a:moveTo>
                  <a:pt x="4217" y="3522"/>
                </a:moveTo>
                <a:lnTo>
                  <a:pt x="4217" y="3522"/>
                </a:lnTo>
              </a:path>
              <a:path w="3771" h="795">
                <a:moveTo>
                  <a:pt x="3894" y="3299"/>
                </a:moveTo>
                <a:cubicBezTo>
                  <a:pt x="4077" y="3293"/>
                  <a:pt x="4257" y="3274"/>
                  <a:pt x="4440" y="3274"/>
                </a:cubicBezTo>
                <a:cubicBezTo>
                  <a:pt x="4475" y="3274"/>
                  <a:pt x="4492" y="3279"/>
                  <a:pt x="4514" y="3299"/>
                </a:cubicBezTo>
                <a:cubicBezTo>
                  <a:pt x="4524" y="3247"/>
                  <a:pt x="4569" y="3128"/>
                  <a:pt x="4465" y="3125"/>
                </a:cubicBezTo>
                <a:cubicBezTo>
                  <a:pt x="4268" y="3119"/>
                  <a:pt x="4099" y="3334"/>
                  <a:pt x="4266" y="3497"/>
                </a:cubicBezTo>
                <a:cubicBezTo>
                  <a:pt x="4450" y="3677"/>
                  <a:pt x="4726" y="3488"/>
                  <a:pt x="4911" y="3423"/>
                </a:cubicBezTo>
              </a:path>
              <a:path w="3771" h="795">
                <a:moveTo>
                  <a:pt x="4936" y="3200"/>
                </a:moveTo>
                <a:cubicBezTo>
                  <a:pt x="4782" y="3223"/>
                  <a:pt x="4603" y="3302"/>
                  <a:pt x="4614" y="3497"/>
                </a:cubicBezTo>
                <a:cubicBezTo>
                  <a:pt x="4630" y="3522"/>
                  <a:pt x="4647" y="3547"/>
                  <a:pt x="4663" y="3572"/>
                </a:cubicBezTo>
                <a:cubicBezTo>
                  <a:pt x="4910" y="3461"/>
                  <a:pt x="5025" y="3298"/>
                  <a:pt x="4961" y="3001"/>
                </a:cubicBezTo>
                <a:cubicBezTo>
                  <a:pt x="4944" y="2976"/>
                  <a:pt x="4928" y="2952"/>
                  <a:pt x="4911" y="2927"/>
                </a:cubicBezTo>
                <a:cubicBezTo>
                  <a:pt x="4934" y="3084"/>
                  <a:pt x="4939" y="3278"/>
                  <a:pt x="5011" y="3423"/>
                </a:cubicBezTo>
                <a:cubicBezTo>
                  <a:pt x="5027" y="3431"/>
                  <a:pt x="5044" y="3440"/>
                  <a:pt x="5060" y="34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9080" y="1009800"/>
            <a:ext cx="1009800" cy="374400"/>
          </a:xfrm>
          <a:custGeom>
            <a:avLst/>
            <a:gdLst/>
            <a:ahLst/>
            <a:rect l="l" t="t" r="r" b="b"/>
            <a:pathLst>
              <a:path w="2804" h="1043">
                <a:moveTo>
                  <a:pt x="6102" y="3423"/>
                </a:moveTo>
                <a:cubicBezTo>
                  <a:pt x="6102" y="3369"/>
                  <a:pt x="6096" y="3350"/>
                  <a:pt x="6077" y="3299"/>
                </a:cubicBezTo>
                <a:cubicBezTo>
                  <a:pt x="5868" y="3325"/>
                  <a:pt x="5836" y="3368"/>
                  <a:pt x="5804" y="3572"/>
                </a:cubicBezTo>
                <a:cubicBezTo>
                  <a:pt x="6020" y="3619"/>
                  <a:pt x="6061" y="3584"/>
                  <a:pt x="6152" y="3373"/>
                </a:cubicBezTo>
                <a:cubicBezTo>
                  <a:pt x="6137" y="3433"/>
                  <a:pt x="6140" y="3572"/>
                  <a:pt x="6251" y="3572"/>
                </a:cubicBezTo>
                <a:cubicBezTo>
                  <a:pt x="6418" y="3516"/>
                  <a:pt x="6482" y="3489"/>
                  <a:pt x="6573" y="3398"/>
                </a:cubicBezTo>
              </a:path>
              <a:path w="2804" h="1043">
                <a:moveTo>
                  <a:pt x="6796" y="3274"/>
                </a:moveTo>
                <a:cubicBezTo>
                  <a:pt x="6680" y="3196"/>
                  <a:pt x="6543" y="3192"/>
                  <a:pt x="6449" y="3324"/>
                </a:cubicBezTo>
                <a:cubicBezTo>
                  <a:pt x="6433" y="3374"/>
                  <a:pt x="6416" y="3423"/>
                  <a:pt x="6400" y="3473"/>
                </a:cubicBezTo>
                <a:cubicBezTo>
                  <a:pt x="6625" y="3608"/>
                  <a:pt x="6774" y="3522"/>
                  <a:pt x="6796" y="3225"/>
                </a:cubicBezTo>
                <a:cubicBezTo>
                  <a:pt x="6788" y="3142"/>
                  <a:pt x="6780" y="3060"/>
                  <a:pt x="6772" y="2977"/>
                </a:cubicBezTo>
              </a:path>
              <a:path w="2804" h="1043">
                <a:moveTo>
                  <a:pt x="6722" y="2877"/>
                </a:moveTo>
                <a:cubicBezTo>
                  <a:pt x="6758" y="3099"/>
                  <a:pt x="6748" y="3286"/>
                  <a:pt x="6896" y="3448"/>
                </a:cubicBezTo>
              </a:path>
              <a:path w="2804" h="1043">
                <a:moveTo>
                  <a:pt x="6896" y="3448"/>
                </a:moveTo>
                <a:lnTo>
                  <a:pt x="6896" y="3448"/>
                </a:lnTo>
              </a:path>
              <a:path w="2804" h="1043">
                <a:moveTo>
                  <a:pt x="7268" y="3175"/>
                </a:moveTo>
                <a:cubicBezTo>
                  <a:pt x="7163" y="3095"/>
                  <a:pt x="6931" y="3004"/>
                  <a:pt x="6871" y="3225"/>
                </a:cubicBezTo>
                <a:cubicBezTo>
                  <a:pt x="6895" y="3370"/>
                  <a:pt x="6902" y="3417"/>
                  <a:pt x="6995" y="3473"/>
                </a:cubicBezTo>
                <a:cubicBezTo>
                  <a:pt x="7277" y="3375"/>
                  <a:pt x="7357" y="3241"/>
                  <a:pt x="7243" y="2927"/>
                </a:cubicBezTo>
                <a:cubicBezTo>
                  <a:pt x="7218" y="2886"/>
                  <a:pt x="7194" y="2844"/>
                  <a:pt x="7169" y="2803"/>
                </a:cubicBezTo>
                <a:cubicBezTo>
                  <a:pt x="7154" y="2903"/>
                  <a:pt x="7220" y="3215"/>
                  <a:pt x="7293" y="3349"/>
                </a:cubicBezTo>
                <a:cubicBezTo>
                  <a:pt x="7399" y="3543"/>
                  <a:pt x="7499" y="3242"/>
                  <a:pt x="7541" y="3175"/>
                </a:cubicBezTo>
              </a:path>
              <a:path w="2804" h="1043">
                <a:moveTo>
                  <a:pt x="7541" y="3101"/>
                </a:moveTo>
                <a:cubicBezTo>
                  <a:pt x="7566" y="3248"/>
                  <a:pt x="7536" y="3484"/>
                  <a:pt x="7665" y="3373"/>
                </a:cubicBezTo>
              </a:path>
              <a:path w="2804" h="1043">
                <a:moveTo>
                  <a:pt x="7665" y="3373"/>
                </a:moveTo>
                <a:lnTo>
                  <a:pt x="7665" y="3373"/>
                </a:lnTo>
              </a:path>
              <a:path w="2804" h="1043">
                <a:moveTo>
                  <a:pt x="7541" y="2902"/>
                </a:moveTo>
                <a:lnTo>
                  <a:pt x="7541" y="2902"/>
                </a:lnTo>
              </a:path>
              <a:path w="2804" h="1043">
                <a:moveTo>
                  <a:pt x="7789" y="3249"/>
                </a:moveTo>
                <a:cubicBezTo>
                  <a:pt x="7807" y="3323"/>
                  <a:pt x="7815" y="3330"/>
                  <a:pt x="7813" y="3373"/>
                </a:cubicBezTo>
                <a:cubicBezTo>
                  <a:pt x="7839" y="3258"/>
                  <a:pt x="7876" y="3149"/>
                  <a:pt x="7938" y="3051"/>
                </a:cubicBezTo>
                <a:cubicBezTo>
                  <a:pt x="8058" y="3187"/>
                  <a:pt x="8019" y="3290"/>
                  <a:pt x="8186" y="3349"/>
                </a:cubicBezTo>
              </a:path>
              <a:path w="2804" h="1043">
                <a:moveTo>
                  <a:pt x="8458" y="3026"/>
                </a:moveTo>
                <a:cubicBezTo>
                  <a:pt x="8440" y="3045"/>
                  <a:pt x="8133" y="3423"/>
                  <a:pt x="8359" y="3373"/>
                </a:cubicBezTo>
                <a:cubicBezTo>
                  <a:pt x="8475" y="3316"/>
                  <a:pt x="8516" y="3283"/>
                  <a:pt x="8533" y="3175"/>
                </a:cubicBezTo>
                <a:cubicBezTo>
                  <a:pt x="8533" y="3150"/>
                  <a:pt x="8533" y="3126"/>
                  <a:pt x="8533" y="3101"/>
                </a:cubicBezTo>
                <a:cubicBezTo>
                  <a:pt x="8553" y="3295"/>
                  <a:pt x="8651" y="3497"/>
                  <a:pt x="8607" y="3696"/>
                </a:cubicBezTo>
                <a:cubicBezTo>
                  <a:pt x="8552" y="3947"/>
                  <a:pt x="8267" y="3817"/>
                  <a:pt x="8111" y="37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5760" y="1571760"/>
            <a:ext cx="125280" cy="1440"/>
          </a:xfrm>
          <a:custGeom>
            <a:avLst/>
            <a:gdLst/>
            <a:ahLst/>
            <a:rect l="l" t="t" r="r" b="b"/>
            <a:pathLst>
              <a:path w="348" h="1">
                <a:moveTo>
                  <a:pt x="1265" y="4366"/>
                </a:moveTo>
                <a:cubicBezTo>
                  <a:pt x="1331" y="4366"/>
                  <a:pt x="1618" y="4366"/>
                  <a:pt x="1588" y="43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8240" y="1374840"/>
            <a:ext cx="1017720" cy="277920"/>
          </a:xfrm>
          <a:custGeom>
            <a:avLst/>
            <a:gdLst/>
            <a:ahLst/>
            <a:rect l="l" t="t" r="r" b="b"/>
            <a:pathLst>
              <a:path w="2829" h="770">
                <a:moveTo>
                  <a:pt x="2629" y="4018"/>
                </a:moveTo>
                <a:cubicBezTo>
                  <a:pt x="2629" y="4027"/>
                  <a:pt x="2588" y="3893"/>
                  <a:pt x="2505" y="3845"/>
                </a:cubicBezTo>
                <a:cubicBezTo>
                  <a:pt x="2480" y="3837"/>
                  <a:pt x="2456" y="3828"/>
                  <a:pt x="2431" y="3820"/>
                </a:cubicBezTo>
                <a:cubicBezTo>
                  <a:pt x="2308" y="4016"/>
                  <a:pt x="2397" y="4093"/>
                  <a:pt x="2456" y="4291"/>
                </a:cubicBezTo>
                <a:cubicBezTo>
                  <a:pt x="2490" y="4405"/>
                  <a:pt x="2535" y="4460"/>
                  <a:pt x="2431" y="4490"/>
                </a:cubicBezTo>
              </a:path>
              <a:path w="2829" h="770">
                <a:moveTo>
                  <a:pt x="2133" y="4316"/>
                </a:moveTo>
                <a:cubicBezTo>
                  <a:pt x="2304" y="4308"/>
                  <a:pt x="2511" y="4237"/>
                  <a:pt x="2679" y="4266"/>
                </a:cubicBezTo>
                <a:cubicBezTo>
                  <a:pt x="2687" y="4274"/>
                  <a:pt x="2696" y="4283"/>
                  <a:pt x="2704" y="4291"/>
                </a:cubicBezTo>
              </a:path>
              <a:path w="2829" h="770">
                <a:moveTo>
                  <a:pt x="2877" y="4291"/>
                </a:moveTo>
                <a:cubicBezTo>
                  <a:pt x="2773" y="4291"/>
                  <a:pt x="2639" y="4343"/>
                  <a:pt x="2679" y="4490"/>
                </a:cubicBezTo>
                <a:cubicBezTo>
                  <a:pt x="2744" y="4729"/>
                  <a:pt x="2882" y="4450"/>
                  <a:pt x="2902" y="4390"/>
                </a:cubicBezTo>
                <a:cubicBezTo>
                  <a:pt x="2894" y="4382"/>
                  <a:pt x="2885" y="4374"/>
                  <a:pt x="2877" y="4366"/>
                </a:cubicBezTo>
                <a:cubicBezTo>
                  <a:pt x="2901" y="4425"/>
                  <a:pt x="2991" y="4531"/>
                  <a:pt x="3076" y="4490"/>
                </a:cubicBezTo>
                <a:cubicBezTo>
                  <a:pt x="3101" y="4465"/>
                  <a:pt x="3125" y="4440"/>
                  <a:pt x="3150" y="4415"/>
                </a:cubicBezTo>
              </a:path>
              <a:path w="2829" h="770">
                <a:moveTo>
                  <a:pt x="3299" y="4291"/>
                </a:moveTo>
                <a:cubicBezTo>
                  <a:pt x="3316" y="4299"/>
                  <a:pt x="3332" y="4308"/>
                  <a:pt x="3349" y="4316"/>
                </a:cubicBezTo>
                <a:cubicBezTo>
                  <a:pt x="3326" y="4201"/>
                  <a:pt x="3198" y="4175"/>
                  <a:pt x="3125" y="4291"/>
                </a:cubicBezTo>
                <a:cubicBezTo>
                  <a:pt x="2916" y="4619"/>
                  <a:pt x="3422" y="4478"/>
                  <a:pt x="3522" y="4440"/>
                </a:cubicBezTo>
              </a:path>
              <a:path w="2829" h="770">
                <a:moveTo>
                  <a:pt x="3572" y="4018"/>
                </a:moveTo>
                <a:cubicBezTo>
                  <a:pt x="3606" y="4208"/>
                  <a:pt x="3639" y="4398"/>
                  <a:pt x="3671" y="4589"/>
                </a:cubicBezTo>
              </a:path>
              <a:path w="2829" h="770">
                <a:moveTo>
                  <a:pt x="3671" y="4589"/>
                </a:moveTo>
                <a:lnTo>
                  <a:pt x="3671" y="4589"/>
                </a:lnTo>
              </a:path>
              <a:path w="2829" h="770">
                <a:moveTo>
                  <a:pt x="3324" y="4266"/>
                </a:moveTo>
                <a:cubicBezTo>
                  <a:pt x="3493" y="4266"/>
                  <a:pt x="3654" y="4262"/>
                  <a:pt x="3820" y="4242"/>
                </a:cubicBezTo>
                <a:cubicBezTo>
                  <a:pt x="3804" y="4335"/>
                  <a:pt x="3741" y="4501"/>
                  <a:pt x="3870" y="4564"/>
                </a:cubicBezTo>
                <a:cubicBezTo>
                  <a:pt x="4013" y="4634"/>
                  <a:pt x="4319" y="4425"/>
                  <a:pt x="4118" y="4316"/>
                </a:cubicBezTo>
                <a:cubicBezTo>
                  <a:pt x="4000" y="4296"/>
                  <a:pt x="3979" y="4302"/>
                  <a:pt x="3919" y="4266"/>
                </a:cubicBezTo>
              </a:path>
              <a:path w="2829" h="770">
                <a:moveTo>
                  <a:pt x="4291" y="4415"/>
                </a:moveTo>
                <a:cubicBezTo>
                  <a:pt x="4291" y="4489"/>
                  <a:pt x="4266" y="4522"/>
                  <a:pt x="4316" y="4514"/>
                </a:cubicBezTo>
                <a:cubicBezTo>
                  <a:pt x="4316" y="4415"/>
                  <a:pt x="4320" y="4320"/>
                  <a:pt x="4390" y="4242"/>
                </a:cubicBezTo>
                <a:cubicBezTo>
                  <a:pt x="4407" y="4234"/>
                  <a:pt x="4423" y="4225"/>
                  <a:pt x="4440" y="4217"/>
                </a:cubicBezTo>
              </a:path>
              <a:path w="2829" h="770">
                <a:moveTo>
                  <a:pt x="4762" y="4167"/>
                </a:moveTo>
                <a:cubicBezTo>
                  <a:pt x="4676" y="4210"/>
                  <a:pt x="4643" y="4235"/>
                  <a:pt x="4589" y="4316"/>
                </a:cubicBezTo>
                <a:cubicBezTo>
                  <a:pt x="4724" y="4358"/>
                  <a:pt x="4836" y="4402"/>
                  <a:pt x="4961" y="4465"/>
                </a:cubicBezTo>
                <a:cubicBezTo>
                  <a:pt x="4868" y="4611"/>
                  <a:pt x="4854" y="4574"/>
                  <a:pt x="4663" y="45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70080" y="1535040"/>
            <a:ext cx="393840" cy="144360"/>
          </a:xfrm>
          <a:custGeom>
            <a:avLst/>
            <a:gdLst/>
            <a:ahLst/>
            <a:rect l="l" t="t" r="r" b="b"/>
            <a:pathLst>
              <a:path w="1092" h="398">
                <a:moveTo>
                  <a:pt x="6276" y="4415"/>
                </a:moveTo>
                <a:cubicBezTo>
                  <a:pt x="6322" y="4415"/>
                  <a:pt x="6318" y="4397"/>
                  <a:pt x="6251" y="4341"/>
                </a:cubicBezTo>
                <a:cubicBezTo>
                  <a:pt x="6044" y="4354"/>
                  <a:pt x="6033" y="4464"/>
                  <a:pt x="6077" y="4663"/>
                </a:cubicBezTo>
                <a:cubicBezTo>
                  <a:pt x="6225" y="4605"/>
                  <a:pt x="6232" y="4613"/>
                  <a:pt x="6300" y="4465"/>
                </a:cubicBezTo>
                <a:cubicBezTo>
                  <a:pt x="6307" y="4513"/>
                  <a:pt x="6339" y="4714"/>
                  <a:pt x="6449" y="4638"/>
                </a:cubicBezTo>
                <a:cubicBezTo>
                  <a:pt x="6568" y="4556"/>
                  <a:pt x="6584" y="4256"/>
                  <a:pt x="6623" y="4564"/>
                </a:cubicBezTo>
                <a:cubicBezTo>
                  <a:pt x="6634" y="4445"/>
                  <a:pt x="6649" y="4253"/>
                  <a:pt x="6821" y="4266"/>
                </a:cubicBezTo>
                <a:cubicBezTo>
                  <a:pt x="6862" y="4283"/>
                  <a:pt x="6904" y="4299"/>
                  <a:pt x="6945" y="4316"/>
                </a:cubicBezTo>
              </a:path>
              <a:path w="1092" h="398">
                <a:moveTo>
                  <a:pt x="7045" y="4415"/>
                </a:moveTo>
                <a:cubicBezTo>
                  <a:pt x="7095" y="4402"/>
                  <a:pt x="7090" y="4390"/>
                  <a:pt x="7119" y="4341"/>
                </a:cubicBezTo>
                <a:cubicBezTo>
                  <a:pt x="7035" y="4242"/>
                  <a:pt x="6894" y="4273"/>
                  <a:pt x="6921" y="4465"/>
                </a:cubicBezTo>
                <a:cubicBezTo>
                  <a:pt x="6983" y="4591"/>
                  <a:pt x="6987" y="4626"/>
                  <a:pt x="7069" y="46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1366920"/>
            <a:ext cx="1312560" cy="384120"/>
          </a:xfrm>
          <a:custGeom>
            <a:avLst/>
            <a:gdLst/>
            <a:ahLst/>
            <a:rect l="l" t="t" r="r" b="b"/>
            <a:pathLst>
              <a:path w="3647" h="1068">
                <a:moveTo>
                  <a:pt x="7813" y="4316"/>
                </a:moveTo>
                <a:cubicBezTo>
                  <a:pt x="7797" y="4411"/>
                  <a:pt x="7789" y="4492"/>
                  <a:pt x="7789" y="4589"/>
                </a:cubicBezTo>
                <a:cubicBezTo>
                  <a:pt x="7789" y="4513"/>
                  <a:pt x="7751" y="4238"/>
                  <a:pt x="7913" y="4291"/>
                </a:cubicBezTo>
                <a:cubicBezTo>
                  <a:pt x="8032" y="4330"/>
                  <a:pt x="8079" y="4467"/>
                  <a:pt x="8111" y="4564"/>
                </a:cubicBezTo>
                <a:cubicBezTo>
                  <a:pt x="8111" y="4445"/>
                  <a:pt x="8073" y="4327"/>
                  <a:pt x="8186" y="4242"/>
                </a:cubicBezTo>
                <a:cubicBezTo>
                  <a:pt x="8306" y="4152"/>
                  <a:pt x="8390" y="4520"/>
                  <a:pt x="8409" y="4564"/>
                </a:cubicBezTo>
                <a:cubicBezTo>
                  <a:pt x="8409" y="4495"/>
                  <a:pt x="8423" y="4445"/>
                  <a:pt x="8458" y="4390"/>
                </a:cubicBezTo>
              </a:path>
              <a:path w="3647" h="1068">
                <a:moveTo>
                  <a:pt x="8483" y="4316"/>
                </a:moveTo>
                <a:cubicBezTo>
                  <a:pt x="8503" y="4464"/>
                  <a:pt x="8561" y="4716"/>
                  <a:pt x="8731" y="4465"/>
                </a:cubicBezTo>
                <a:cubicBezTo>
                  <a:pt x="8748" y="4424"/>
                  <a:pt x="8764" y="4382"/>
                  <a:pt x="8781" y="4341"/>
                </a:cubicBezTo>
                <a:cubicBezTo>
                  <a:pt x="8781" y="4333"/>
                  <a:pt x="8781" y="4324"/>
                  <a:pt x="8781" y="4316"/>
                </a:cubicBezTo>
                <a:cubicBezTo>
                  <a:pt x="8774" y="4364"/>
                  <a:pt x="8766" y="4611"/>
                  <a:pt x="8905" y="4539"/>
                </a:cubicBezTo>
                <a:cubicBezTo>
                  <a:pt x="9006" y="4487"/>
                  <a:pt x="8993" y="4229"/>
                  <a:pt x="8979" y="4242"/>
                </a:cubicBezTo>
                <a:cubicBezTo>
                  <a:pt x="8979" y="4250"/>
                  <a:pt x="8979" y="4258"/>
                  <a:pt x="8979" y="4266"/>
                </a:cubicBezTo>
                <a:cubicBezTo>
                  <a:pt x="8954" y="4462"/>
                  <a:pt x="8953" y="4489"/>
                  <a:pt x="9153" y="4465"/>
                </a:cubicBezTo>
              </a:path>
              <a:path w="3647" h="1068">
                <a:moveTo>
                  <a:pt x="8954" y="3795"/>
                </a:moveTo>
                <a:cubicBezTo>
                  <a:pt x="8990" y="4012"/>
                  <a:pt x="8977" y="4221"/>
                  <a:pt x="8954" y="4440"/>
                </a:cubicBezTo>
                <a:cubicBezTo>
                  <a:pt x="8954" y="4475"/>
                  <a:pt x="8963" y="4479"/>
                  <a:pt x="9004" y="4440"/>
                </a:cubicBezTo>
              </a:path>
              <a:path w="3647" h="1068">
                <a:moveTo>
                  <a:pt x="9153" y="3845"/>
                </a:moveTo>
                <a:cubicBezTo>
                  <a:pt x="9223" y="4044"/>
                  <a:pt x="9268" y="4258"/>
                  <a:pt x="9327" y="4465"/>
                </a:cubicBezTo>
                <a:cubicBezTo>
                  <a:pt x="9327" y="4473"/>
                  <a:pt x="9327" y="4482"/>
                  <a:pt x="9327" y="4490"/>
                </a:cubicBezTo>
              </a:path>
              <a:path w="3647" h="1068">
                <a:moveTo>
                  <a:pt x="9128" y="4167"/>
                </a:moveTo>
                <a:cubicBezTo>
                  <a:pt x="9235" y="4182"/>
                  <a:pt x="9366" y="4168"/>
                  <a:pt x="9451" y="4242"/>
                </a:cubicBezTo>
                <a:cubicBezTo>
                  <a:pt x="9490" y="4276"/>
                  <a:pt x="9550" y="4471"/>
                  <a:pt x="9550" y="4415"/>
                </a:cubicBezTo>
              </a:path>
              <a:path w="3647" h="1068">
                <a:moveTo>
                  <a:pt x="9550" y="4415"/>
                </a:moveTo>
                <a:lnTo>
                  <a:pt x="9550" y="4415"/>
                </a:lnTo>
              </a:path>
              <a:path w="3647" h="1068">
                <a:moveTo>
                  <a:pt x="9500" y="3994"/>
                </a:moveTo>
                <a:lnTo>
                  <a:pt x="9500" y="3994"/>
                </a:lnTo>
              </a:path>
              <a:path w="3647" h="1068">
                <a:moveTo>
                  <a:pt x="9748" y="4564"/>
                </a:moveTo>
                <a:cubicBezTo>
                  <a:pt x="9765" y="4662"/>
                  <a:pt x="9786" y="4764"/>
                  <a:pt x="9798" y="4862"/>
                </a:cubicBezTo>
                <a:cubicBezTo>
                  <a:pt x="9798" y="4670"/>
                  <a:pt x="9745" y="4482"/>
                  <a:pt x="9798" y="4291"/>
                </a:cubicBezTo>
                <a:cubicBezTo>
                  <a:pt x="9865" y="4179"/>
                  <a:pt x="9876" y="4134"/>
                  <a:pt x="9971" y="4192"/>
                </a:cubicBezTo>
                <a:cubicBezTo>
                  <a:pt x="9971" y="4275"/>
                  <a:pt x="9936" y="4609"/>
                  <a:pt x="9748" y="4440"/>
                </a:cubicBezTo>
                <a:cubicBezTo>
                  <a:pt x="9723" y="4399"/>
                  <a:pt x="9699" y="4357"/>
                  <a:pt x="9674" y="4316"/>
                </a:cubicBezTo>
              </a:path>
              <a:path w="3647" h="1068">
                <a:moveTo>
                  <a:pt x="10096" y="3870"/>
                </a:moveTo>
                <a:cubicBezTo>
                  <a:pt x="10113" y="4063"/>
                  <a:pt x="10114" y="4278"/>
                  <a:pt x="10170" y="4465"/>
                </a:cubicBezTo>
                <a:cubicBezTo>
                  <a:pt x="10178" y="4473"/>
                  <a:pt x="10187" y="4482"/>
                  <a:pt x="10195" y="4490"/>
                </a:cubicBezTo>
              </a:path>
              <a:path w="3647" h="1068">
                <a:moveTo>
                  <a:pt x="10368" y="4242"/>
                </a:moveTo>
                <a:cubicBezTo>
                  <a:pt x="10382" y="4349"/>
                  <a:pt x="10374" y="4465"/>
                  <a:pt x="10418" y="4465"/>
                </a:cubicBezTo>
              </a:path>
              <a:path w="3647" h="1068">
                <a:moveTo>
                  <a:pt x="10418" y="4465"/>
                </a:moveTo>
                <a:lnTo>
                  <a:pt x="10418" y="4465"/>
                </a:lnTo>
              </a:path>
              <a:path w="3647" h="1068">
                <a:moveTo>
                  <a:pt x="10368" y="3969"/>
                </a:moveTo>
                <a:cubicBezTo>
                  <a:pt x="10409" y="3985"/>
                  <a:pt x="10451" y="4002"/>
                  <a:pt x="10492" y="4018"/>
                </a:cubicBezTo>
              </a:path>
              <a:path w="3647" h="1068">
                <a:moveTo>
                  <a:pt x="10641" y="4217"/>
                </a:moveTo>
                <a:cubicBezTo>
                  <a:pt x="10756" y="4205"/>
                  <a:pt x="10765" y="4200"/>
                  <a:pt x="10815" y="4118"/>
                </a:cubicBezTo>
                <a:cubicBezTo>
                  <a:pt x="10711" y="4095"/>
                  <a:pt x="10524" y="4158"/>
                  <a:pt x="10542" y="4316"/>
                </a:cubicBezTo>
                <a:cubicBezTo>
                  <a:pt x="10573" y="4590"/>
                  <a:pt x="10997" y="4440"/>
                  <a:pt x="11112" y="4341"/>
                </a:cubicBezTo>
                <a:cubicBezTo>
                  <a:pt x="11149" y="4268"/>
                  <a:pt x="11166" y="4263"/>
                  <a:pt x="11162" y="4217"/>
                </a:cubicBezTo>
                <a:cubicBezTo>
                  <a:pt x="11022" y="4189"/>
                  <a:pt x="10853" y="4255"/>
                  <a:pt x="10864" y="4440"/>
                </a:cubicBezTo>
                <a:cubicBezTo>
                  <a:pt x="10879" y="4693"/>
                  <a:pt x="11178" y="4317"/>
                  <a:pt x="11187" y="4217"/>
                </a:cubicBezTo>
                <a:cubicBezTo>
                  <a:pt x="11168" y="4101"/>
                  <a:pt x="11159" y="4085"/>
                  <a:pt x="11162" y="4018"/>
                </a:cubicBezTo>
                <a:cubicBezTo>
                  <a:pt x="11162" y="4134"/>
                  <a:pt x="11149" y="4365"/>
                  <a:pt x="11261" y="4440"/>
                </a:cubicBezTo>
                <a:cubicBezTo>
                  <a:pt x="11319" y="4448"/>
                  <a:pt x="11377" y="4457"/>
                  <a:pt x="11435" y="44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76800" y="1384200"/>
            <a:ext cx="1216080" cy="455760"/>
          </a:xfrm>
          <a:custGeom>
            <a:avLst/>
            <a:gdLst/>
            <a:ahLst/>
            <a:rect l="l" t="t" r="r" b="b"/>
            <a:pathLst>
              <a:path w="3375" h="1266">
                <a:moveTo>
                  <a:pt x="12005" y="3894"/>
                </a:moveTo>
                <a:cubicBezTo>
                  <a:pt x="12109" y="4089"/>
                  <a:pt x="12129" y="4317"/>
                  <a:pt x="12179" y="4539"/>
                </a:cubicBezTo>
                <a:cubicBezTo>
                  <a:pt x="12179" y="4531"/>
                  <a:pt x="12179" y="4522"/>
                  <a:pt x="12179" y="4514"/>
                </a:cubicBezTo>
              </a:path>
              <a:path w="3375" h="1266">
                <a:moveTo>
                  <a:pt x="11881" y="4118"/>
                </a:moveTo>
                <a:cubicBezTo>
                  <a:pt x="12059" y="4159"/>
                  <a:pt x="12219" y="4184"/>
                  <a:pt x="12402" y="4192"/>
                </a:cubicBezTo>
                <a:cubicBezTo>
                  <a:pt x="12387" y="4313"/>
                  <a:pt x="12336" y="4464"/>
                  <a:pt x="12502" y="4514"/>
                </a:cubicBezTo>
                <a:cubicBezTo>
                  <a:pt x="12551" y="4514"/>
                  <a:pt x="12601" y="4514"/>
                  <a:pt x="12650" y="4514"/>
                </a:cubicBezTo>
                <a:cubicBezTo>
                  <a:pt x="12731" y="4290"/>
                  <a:pt x="12634" y="4258"/>
                  <a:pt x="12427" y="4192"/>
                </a:cubicBezTo>
              </a:path>
              <a:path w="3375" h="1266">
                <a:moveTo>
                  <a:pt x="13395" y="4366"/>
                </a:moveTo>
                <a:cubicBezTo>
                  <a:pt x="13275" y="4165"/>
                  <a:pt x="13178" y="4355"/>
                  <a:pt x="13072" y="4490"/>
                </a:cubicBezTo>
                <a:cubicBezTo>
                  <a:pt x="13231" y="4648"/>
                  <a:pt x="13198" y="4483"/>
                  <a:pt x="13345" y="4415"/>
                </a:cubicBezTo>
                <a:cubicBezTo>
                  <a:pt x="13442" y="4370"/>
                  <a:pt x="13403" y="4987"/>
                  <a:pt x="13395" y="5035"/>
                </a:cubicBezTo>
                <a:cubicBezTo>
                  <a:pt x="13023" y="5140"/>
                  <a:pt x="13004" y="5031"/>
                  <a:pt x="13097" y="4688"/>
                </a:cubicBezTo>
              </a:path>
              <a:path w="3375" h="1266">
                <a:moveTo>
                  <a:pt x="13593" y="4341"/>
                </a:moveTo>
                <a:cubicBezTo>
                  <a:pt x="13623" y="4326"/>
                  <a:pt x="13823" y="4252"/>
                  <a:pt x="13767" y="4192"/>
                </a:cubicBezTo>
                <a:cubicBezTo>
                  <a:pt x="13742" y="4175"/>
                  <a:pt x="13717" y="4159"/>
                  <a:pt x="13692" y="4142"/>
                </a:cubicBezTo>
                <a:cubicBezTo>
                  <a:pt x="13570" y="4194"/>
                  <a:pt x="13258" y="4460"/>
                  <a:pt x="13593" y="4539"/>
                </a:cubicBezTo>
                <a:cubicBezTo>
                  <a:pt x="13880" y="4607"/>
                  <a:pt x="14146" y="4290"/>
                  <a:pt x="14163" y="4043"/>
                </a:cubicBezTo>
                <a:cubicBezTo>
                  <a:pt x="14155" y="3993"/>
                  <a:pt x="14147" y="3944"/>
                  <a:pt x="14139" y="3894"/>
                </a:cubicBezTo>
                <a:cubicBezTo>
                  <a:pt x="14139" y="3745"/>
                  <a:pt x="14139" y="4093"/>
                  <a:pt x="14139" y="4242"/>
                </a:cubicBezTo>
                <a:cubicBezTo>
                  <a:pt x="14139" y="4420"/>
                  <a:pt x="14182" y="4631"/>
                  <a:pt x="14089" y="4291"/>
                </a:cubicBezTo>
              </a:path>
              <a:path w="3375" h="1266">
                <a:moveTo>
                  <a:pt x="13841" y="4068"/>
                </a:moveTo>
                <a:cubicBezTo>
                  <a:pt x="14077" y="4079"/>
                  <a:pt x="14300" y="4072"/>
                  <a:pt x="14536" y="4068"/>
                </a:cubicBezTo>
                <a:cubicBezTo>
                  <a:pt x="14577" y="4068"/>
                  <a:pt x="14619" y="4068"/>
                  <a:pt x="14660" y="4068"/>
                </a:cubicBezTo>
              </a:path>
              <a:path w="3375" h="1266">
                <a:moveTo>
                  <a:pt x="14908" y="4266"/>
                </a:moveTo>
                <a:cubicBezTo>
                  <a:pt x="14916" y="4266"/>
                  <a:pt x="14924" y="4266"/>
                  <a:pt x="14932" y="4266"/>
                </a:cubicBezTo>
                <a:cubicBezTo>
                  <a:pt x="14932" y="4173"/>
                  <a:pt x="14893" y="4131"/>
                  <a:pt x="14784" y="4192"/>
                </a:cubicBezTo>
                <a:cubicBezTo>
                  <a:pt x="14610" y="4290"/>
                  <a:pt x="14600" y="4601"/>
                  <a:pt x="14833" y="4465"/>
                </a:cubicBezTo>
                <a:cubicBezTo>
                  <a:pt x="14934" y="4364"/>
                  <a:pt x="14965" y="4353"/>
                  <a:pt x="14982" y="4266"/>
                </a:cubicBezTo>
                <a:cubicBezTo>
                  <a:pt x="15047" y="4418"/>
                  <a:pt x="15080" y="4424"/>
                  <a:pt x="15255" y="4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61000" y="1303200"/>
            <a:ext cx="1170000" cy="482760"/>
          </a:xfrm>
          <a:custGeom>
            <a:avLst/>
            <a:gdLst/>
            <a:ahLst/>
            <a:rect l="l" t="t" r="r" b="b"/>
            <a:pathLst>
              <a:path w="3251" h="1341">
                <a:moveTo>
                  <a:pt x="15825" y="4266"/>
                </a:moveTo>
                <a:cubicBezTo>
                  <a:pt x="15890" y="4444"/>
                  <a:pt x="15938" y="4691"/>
                  <a:pt x="15974" y="4887"/>
                </a:cubicBezTo>
                <a:cubicBezTo>
                  <a:pt x="15974" y="4912"/>
                  <a:pt x="15974" y="4936"/>
                  <a:pt x="15974" y="4961"/>
                </a:cubicBezTo>
                <a:cubicBezTo>
                  <a:pt x="15871" y="4786"/>
                  <a:pt x="15676" y="4463"/>
                  <a:pt x="15776" y="4242"/>
                </a:cubicBezTo>
                <a:cubicBezTo>
                  <a:pt x="15899" y="3969"/>
                  <a:pt x="16107" y="4279"/>
                  <a:pt x="16148" y="4390"/>
                </a:cubicBezTo>
                <a:cubicBezTo>
                  <a:pt x="16117" y="4413"/>
                  <a:pt x="15680" y="4577"/>
                  <a:pt x="15726" y="4465"/>
                </a:cubicBezTo>
                <a:cubicBezTo>
                  <a:pt x="15759" y="4440"/>
                  <a:pt x="15792" y="4415"/>
                  <a:pt x="15825" y="4390"/>
                </a:cubicBezTo>
              </a:path>
              <a:path w="3251" h="1341">
                <a:moveTo>
                  <a:pt x="16197" y="4242"/>
                </a:moveTo>
                <a:cubicBezTo>
                  <a:pt x="16294" y="4338"/>
                  <a:pt x="16326" y="4366"/>
                  <a:pt x="16321" y="4465"/>
                </a:cubicBezTo>
                <a:cubicBezTo>
                  <a:pt x="16372" y="4448"/>
                  <a:pt x="16306" y="4278"/>
                  <a:pt x="16321" y="4217"/>
                </a:cubicBezTo>
                <a:cubicBezTo>
                  <a:pt x="16352" y="4095"/>
                  <a:pt x="16519" y="4075"/>
                  <a:pt x="16619" y="4068"/>
                </a:cubicBezTo>
                <a:cubicBezTo>
                  <a:pt x="16627" y="4068"/>
                  <a:pt x="16636" y="4068"/>
                  <a:pt x="16644" y="4068"/>
                </a:cubicBezTo>
                <a:cubicBezTo>
                  <a:pt x="16606" y="4182"/>
                  <a:pt x="16537" y="4305"/>
                  <a:pt x="16570" y="4440"/>
                </a:cubicBezTo>
                <a:cubicBezTo>
                  <a:pt x="16586" y="4465"/>
                  <a:pt x="16603" y="4489"/>
                  <a:pt x="16619" y="4514"/>
                </a:cubicBezTo>
                <a:cubicBezTo>
                  <a:pt x="16778" y="4400"/>
                  <a:pt x="16893" y="4342"/>
                  <a:pt x="16743" y="4167"/>
                </a:cubicBezTo>
                <a:cubicBezTo>
                  <a:pt x="16718" y="4142"/>
                  <a:pt x="16694" y="4118"/>
                  <a:pt x="16669" y="4093"/>
                </a:cubicBezTo>
              </a:path>
              <a:path w="3251" h="1341">
                <a:moveTo>
                  <a:pt x="17264" y="4242"/>
                </a:moveTo>
                <a:cubicBezTo>
                  <a:pt x="17272" y="4242"/>
                  <a:pt x="17281" y="4242"/>
                  <a:pt x="17289" y="4242"/>
                </a:cubicBezTo>
                <a:cubicBezTo>
                  <a:pt x="17245" y="4153"/>
                  <a:pt x="17168" y="4069"/>
                  <a:pt x="17066" y="4192"/>
                </a:cubicBezTo>
                <a:cubicBezTo>
                  <a:pt x="16953" y="4328"/>
                  <a:pt x="17047" y="4737"/>
                  <a:pt x="17239" y="4514"/>
                </a:cubicBezTo>
                <a:cubicBezTo>
                  <a:pt x="17264" y="4448"/>
                  <a:pt x="17289" y="4382"/>
                  <a:pt x="17314" y="4316"/>
                </a:cubicBezTo>
              </a:path>
              <a:path w="3251" h="1341">
                <a:moveTo>
                  <a:pt x="17090" y="3770"/>
                </a:moveTo>
                <a:cubicBezTo>
                  <a:pt x="17139" y="3965"/>
                  <a:pt x="17219" y="4176"/>
                  <a:pt x="17289" y="4366"/>
                </a:cubicBezTo>
                <a:cubicBezTo>
                  <a:pt x="17330" y="4448"/>
                  <a:pt x="17338" y="4465"/>
                  <a:pt x="17363" y="4514"/>
                </a:cubicBezTo>
              </a:path>
              <a:path w="3251" h="1341">
                <a:moveTo>
                  <a:pt x="17363" y="4514"/>
                </a:moveTo>
                <a:lnTo>
                  <a:pt x="17363" y="4514"/>
                </a:lnTo>
              </a:path>
              <a:path w="3251" h="1341">
                <a:moveTo>
                  <a:pt x="17462" y="4043"/>
                </a:moveTo>
                <a:cubicBezTo>
                  <a:pt x="17462" y="4158"/>
                  <a:pt x="17497" y="4284"/>
                  <a:pt x="17537" y="4390"/>
                </a:cubicBezTo>
                <a:cubicBezTo>
                  <a:pt x="17584" y="4483"/>
                  <a:pt x="17594" y="4512"/>
                  <a:pt x="17661" y="4539"/>
                </a:cubicBezTo>
                <a:cubicBezTo>
                  <a:pt x="17759" y="4416"/>
                  <a:pt x="17722" y="4009"/>
                  <a:pt x="17835" y="4118"/>
                </a:cubicBezTo>
                <a:cubicBezTo>
                  <a:pt x="17917" y="4197"/>
                  <a:pt x="17860" y="4401"/>
                  <a:pt x="18033" y="4465"/>
                </a:cubicBezTo>
                <a:cubicBezTo>
                  <a:pt x="18118" y="4465"/>
                  <a:pt x="18150" y="4457"/>
                  <a:pt x="18182" y="4390"/>
                </a:cubicBezTo>
              </a:path>
              <a:path w="3251" h="1341">
                <a:moveTo>
                  <a:pt x="18281" y="4118"/>
                </a:moveTo>
                <a:cubicBezTo>
                  <a:pt x="18281" y="4101"/>
                  <a:pt x="18281" y="4085"/>
                  <a:pt x="18281" y="4068"/>
                </a:cubicBezTo>
                <a:cubicBezTo>
                  <a:pt x="18159" y="4068"/>
                  <a:pt x="18081" y="4220"/>
                  <a:pt x="18107" y="4341"/>
                </a:cubicBezTo>
                <a:cubicBezTo>
                  <a:pt x="18164" y="4611"/>
                  <a:pt x="18403" y="4373"/>
                  <a:pt x="18479" y="4291"/>
                </a:cubicBezTo>
              </a:path>
              <a:path w="3251" h="1341">
                <a:moveTo>
                  <a:pt x="18554" y="3621"/>
                </a:moveTo>
                <a:cubicBezTo>
                  <a:pt x="18599" y="3867"/>
                  <a:pt x="18623" y="4109"/>
                  <a:pt x="18728" y="4341"/>
                </a:cubicBezTo>
                <a:cubicBezTo>
                  <a:pt x="18765" y="4397"/>
                  <a:pt x="18782" y="4401"/>
                  <a:pt x="18777" y="4440"/>
                </a:cubicBezTo>
              </a:path>
              <a:path w="3251" h="1341">
                <a:moveTo>
                  <a:pt x="18777" y="4440"/>
                </a:moveTo>
                <a:lnTo>
                  <a:pt x="18777" y="4440"/>
                </a:lnTo>
              </a:path>
              <a:path w="3251" h="1341">
                <a:moveTo>
                  <a:pt x="18455" y="4068"/>
                </a:moveTo>
                <a:cubicBezTo>
                  <a:pt x="18629" y="4035"/>
                  <a:pt x="18799" y="4003"/>
                  <a:pt x="18976" y="39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0680" y="1901880"/>
            <a:ext cx="144360" cy="44280"/>
          </a:xfrm>
          <a:custGeom>
            <a:avLst/>
            <a:gdLst/>
            <a:ahLst/>
            <a:rect l="l" t="t" r="r" b="b"/>
            <a:pathLst>
              <a:path w="398" h="125">
                <a:moveTo>
                  <a:pt x="1364" y="5407"/>
                </a:moveTo>
                <a:cubicBezTo>
                  <a:pt x="1494" y="5371"/>
                  <a:pt x="1642" y="5350"/>
                  <a:pt x="1761" y="5283"/>
                </a:cubicBezTo>
                <a:cubicBezTo>
                  <a:pt x="1836" y="5240"/>
                  <a:pt x="1613" y="5365"/>
                  <a:pt x="1538" y="54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92080" y="1741320"/>
            <a:ext cx="1206720" cy="411480"/>
          </a:xfrm>
          <a:custGeom>
            <a:avLst/>
            <a:gdLst/>
            <a:ahLst/>
            <a:rect l="l" t="t" r="r" b="b"/>
            <a:pathLst>
              <a:path w="3350" h="1142">
                <a:moveTo>
                  <a:pt x="2704" y="5358"/>
                </a:moveTo>
                <a:cubicBezTo>
                  <a:pt x="2766" y="5559"/>
                  <a:pt x="2891" y="5756"/>
                  <a:pt x="2977" y="5953"/>
                </a:cubicBezTo>
                <a:cubicBezTo>
                  <a:pt x="2977" y="5961"/>
                  <a:pt x="2977" y="5970"/>
                  <a:pt x="2977" y="5978"/>
                </a:cubicBezTo>
              </a:path>
              <a:path w="3350" h="1142">
                <a:moveTo>
                  <a:pt x="2480" y="5407"/>
                </a:moveTo>
                <a:cubicBezTo>
                  <a:pt x="2733" y="5266"/>
                  <a:pt x="2884" y="5205"/>
                  <a:pt x="3125" y="5383"/>
                </a:cubicBezTo>
                <a:cubicBezTo>
                  <a:pt x="3109" y="5403"/>
                  <a:pt x="2696" y="5703"/>
                  <a:pt x="2729" y="5556"/>
                </a:cubicBezTo>
                <a:cubicBezTo>
                  <a:pt x="2754" y="5531"/>
                  <a:pt x="2778" y="5507"/>
                  <a:pt x="2803" y="5482"/>
                </a:cubicBezTo>
              </a:path>
              <a:path w="3350" h="1142">
                <a:moveTo>
                  <a:pt x="3249" y="5358"/>
                </a:moveTo>
                <a:cubicBezTo>
                  <a:pt x="3274" y="5383"/>
                  <a:pt x="3299" y="5407"/>
                  <a:pt x="3324" y="5432"/>
                </a:cubicBezTo>
                <a:cubicBezTo>
                  <a:pt x="3362" y="5413"/>
                  <a:pt x="3259" y="5306"/>
                  <a:pt x="3274" y="5234"/>
                </a:cubicBezTo>
                <a:cubicBezTo>
                  <a:pt x="3304" y="5085"/>
                  <a:pt x="3540" y="5188"/>
                  <a:pt x="3646" y="5135"/>
                </a:cubicBezTo>
                <a:cubicBezTo>
                  <a:pt x="3646" y="5110"/>
                  <a:pt x="3646" y="5102"/>
                  <a:pt x="3621" y="5110"/>
                </a:cubicBezTo>
                <a:cubicBezTo>
                  <a:pt x="3588" y="5210"/>
                  <a:pt x="3449" y="5501"/>
                  <a:pt x="3671" y="5507"/>
                </a:cubicBezTo>
                <a:cubicBezTo>
                  <a:pt x="3885" y="5512"/>
                  <a:pt x="3917" y="5130"/>
                  <a:pt x="3696" y="5135"/>
                </a:cubicBezTo>
                <a:cubicBezTo>
                  <a:pt x="3655" y="5151"/>
                  <a:pt x="3613" y="5168"/>
                  <a:pt x="3572" y="5184"/>
                </a:cubicBezTo>
              </a:path>
              <a:path w="3350" h="1142">
                <a:moveTo>
                  <a:pt x="4266" y="5110"/>
                </a:moveTo>
                <a:cubicBezTo>
                  <a:pt x="4185" y="5093"/>
                  <a:pt x="4062" y="5041"/>
                  <a:pt x="3994" y="5135"/>
                </a:cubicBezTo>
                <a:cubicBezTo>
                  <a:pt x="3909" y="5252"/>
                  <a:pt x="3898" y="5604"/>
                  <a:pt x="4142" y="5507"/>
                </a:cubicBezTo>
                <a:cubicBezTo>
                  <a:pt x="4270" y="5404"/>
                  <a:pt x="4312" y="5365"/>
                  <a:pt x="4291" y="5234"/>
                </a:cubicBezTo>
              </a:path>
              <a:path w="3350" h="1142">
                <a:moveTo>
                  <a:pt x="4043" y="4862"/>
                </a:moveTo>
                <a:cubicBezTo>
                  <a:pt x="4147" y="5080"/>
                  <a:pt x="4256" y="5292"/>
                  <a:pt x="4366" y="5507"/>
                </a:cubicBezTo>
                <a:cubicBezTo>
                  <a:pt x="4374" y="5523"/>
                  <a:pt x="4382" y="5540"/>
                  <a:pt x="4390" y="5556"/>
                </a:cubicBezTo>
              </a:path>
              <a:path w="3350" h="1142">
                <a:moveTo>
                  <a:pt x="4390" y="5556"/>
                </a:moveTo>
                <a:lnTo>
                  <a:pt x="4390" y="5556"/>
                </a:lnTo>
              </a:path>
              <a:path w="3350" h="1142">
                <a:moveTo>
                  <a:pt x="4465" y="5234"/>
                </a:moveTo>
                <a:cubicBezTo>
                  <a:pt x="4485" y="5352"/>
                  <a:pt x="4536" y="5488"/>
                  <a:pt x="4614" y="5581"/>
                </a:cubicBezTo>
                <a:cubicBezTo>
                  <a:pt x="4630" y="5589"/>
                  <a:pt x="4647" y="5598"/>
                  <a:pt x="4663" y="5606"/>
                </a:cubicBezTo>
                <a:cubicBezTo>
                  <a:pt x="4758" y="5473"/>
                  <a:pt x="4754" y="5344"/>
                  <a:pt x="4762" y="5184"/>
                </a:cubicBezTo>
                <a:cubicBezTo>
                  <a:pt x="4762" y="5296"/>
                  <a:pt x="4827" y="5455"/>
                  <a:pt x="4936" y="5507"/>
                </a:cubicBezTo>
                <a:cubicBezTo>
                  <a:pt x="4977" y="5507"/>
                  <a:pt x="5019" y="5507"/>
                  <a:pt x="5060" y="5507"/>
                </a:cubicBezTo>
              </a:path>
              <a:path w="3350" h="1142">
                <a:moveTo>
                  <a:pt x="5234" y="5110"/>
                </a:moveTo>
                <a:cubicBezTo>
                  <a:pt x="5219" y="5156"/>
                  <a:pt x="5141" y="5102"/>
                  <a:pt x="5085" y="5085"/>
                </a:cubicBezTo>
                <a:cubicBezTo>
                  <a:pt x="5048" y="5221"/>
                  <a:pt x="4954" y="5550"/>
                  <a:pt x="5234" y="5507"/>
                </a:cubicBezTo>
                <a:cubicBezTo>
                  <a:pt x="5392" y="5438"/>
                  <a:pt x="5439" y="5425"/>
                  <a:pt x="5507" y="5333"/>
                </a:cubicBezTo>
              </a:path>
              <a:path w="3350" h="1142">
                <a:moveTo>
                  <a:pt x="5457" y="4837"/>
                </a:moveTo>
                <a:cubicBezTo>
                  <a:pt x="5502" y="5032"/>
                  <a:pt x="5544" y="5260"/>
                  <a:pt x="5655" y="5432"/>
                </a:cubicBezTo>
                <a:cubicBezTo>
                  <a:pt x="5694" y="5471"/>
                  <a:pt x="5711" y="5503"/>
                  <a:pt x="5705" y="5457"/>
                </a:cubicBezTo>
              </a:path>
              <a:path w="3350" h="1142">
                <a:moveTo>
                  <a:pt x="5705" y="5457"/>
                </a:moveTo>
                <a:lnTo>
                  <a:pt x="5705" y="5457"/>
                </a:lnTo>
              </a:path>
              <a:path w="3350" h="1142">
                <a:moveTo>
                  <a:pt x="5383" y="5283"/>
                </a:moveTo>
                <a:cubicBezTo>
                  <a:pt x="5502" y="5236"/>
                  <a:pt x="5736" y="5114"/>
                  <a:pt x="5829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7000" y="1704960"/>
            <a:ext cx="1928880" cy="501840"/>
          </a:xfrm>
          <a:custGeom>
            <a:avLst/>
            <a:gdLst/>
            <a:ahLst/>
            <a:rect l="l" t="t" r="r" b="b"/>
            <a:pathLst>
              <a:path w="5359" h="1390">
                <a:moveTo>
                  <a:pt x="6747" y="5333"/>
                </a:moveTo>
                <a:cubicBezTo>
                  <a:pt x="6767" y="5449"/>
                  <a:pt x="6814" y="5565"/>
                  <a:pt x="6846" y="5680"/>
                </a:cubicBezTo>
              </a:path>
              <a:path w="5359" h="1390">
                <a:moveTo>
                  <a:pt x="6573" y="5159"/>
                </a:moveTo>
                <a:cubicBezTo>
                  <a:pt x="6573" y="5151"/>
                  <a:pt x="6573" y="5143"/>
                  <a:pt x="6573" y="5135"/>
                </a:cubicBezTo>
              </a:path>
              <a:path w="5359" h="1390">
                <a:moveTo>
                  <a:pt x="7193" y="5209"/>
                </a:moveTo>
                <a:cubicBezTo>
                  <a:pt x="7144" y="5179"/>
                  <a:pt x="7106" y="5184"/>
                  <a:pt x="7045" y="5184"/>
                </a:cubicBezTo>
                <a:cubicBezTo>
                  <a:pt x="6991" y="5184"/>
                  <a:pt x="6995" y="5265"/>
                  <a:pt x="6970" y="5308"/>
                </a:cubicBezTo>
                <a:cubicBezTo>
                  <a:pt x="7082" y="5350"/>
                  <a:pt x="7246" y="5283"/>
                  <a:pt x="7342" y="5383"/>
                </a:cubicBezTo>
                <a:cubicBezTo>
                  <a:pt x="7477" y="5524"/>
                  <a:pt x="7159" y="5592"/>
                  <a:pt x="7094" y="5606"/>
                </a:cubicBezTo>
                <a:cubicBezTo>
                  <a:pt x="7051" y="5606"/>
                  <a:pt x="7048" y="5589"/>
                  <a:pt x="7094" y="5531"/>
                </a:cubicBezTo>
              </a:path>
              <a:path w="5359" h="1390">
                <a:moveTo>
                  <a:pt x="8161" y="5705"/>
                </a:moveTo>
                <a:cubicBezTo>
                  <a:pt x="8447" y="5641"/>
                  <a:pt x="8735" y="5588"/>
                  <a:pt x="9029" y="5556"/>
                </a:cubicBezTo>
                <a:cubicBezTo>
                  <a:pt x="9373" y="5519"/>
                  <a:pt x="9725" y="5491"/>
                  <a:pt x="10071" y="5482"/>
                </a:cubicBezTo>
                <a:cubicBezTo>
                  <a:pt x="10096" y="5482"/>
                  <a:pt x="10104" y="5482"/>
                  <a:pt x="10120" y="5482"/>
                </a:cubicBezTo>
              </a:path>
              <a:path w="5359" h="1390">
                <a:moveTo>
                  <a:pt x="10716" y="4961"/>
                </a:moveTo>
                <a:cubicBezTo>
                  <a:pt x="10790" y="5112"/>
                  <a:pt x="10848" y="5314"/>
                  <a:pt x="10889" y="5482"/>
                </a:cubicBezTo>
                <a:cubicBezTo>
                  <a:pt x="10889" y="5498"/>
                  <a:pt x="10889" y="5515"/>
                  <a:pt x="10889" y="5531"/>
                </a:cubicBezTo>
              </a:path>
              <a:path w="5359" h="1390">
                <a:moveTo>
                  <a:pt x="10542" y="5283"/>
                </a:moveTo>
                <a:cubicBezTo>
                  <a:pt x="10751" y="5298"/>
                  <a:pt x="10900" y="5302"/>
                  <a:pt x="11088" y="5209"/>
                </a:cubicBezTo>
              </a:path>
              <a:path w="5359" h="1390">
                <a:moveTo>
                  <a:pt x="10939" y="4961"/>
                </a:moveTo>
                <a:cubicBezTo>
                  <a:pt x="11063" y="5136"/>
                  <a:pt x="11122" y="5353"/>
                  <a:pt x="11237" y="5531"/>
                </a:cubicBezTo>
                <a:cubicBezTo>
                  <a:pt x="11245" y="5531"/>
                  <a:pt x="11253" y="5531"/>
                  <a:pt x="11261" y="5531"/>
                </a:cubicBezTo>
                <a:cubicBezTo>
                  <a:pt x="11188" y="5421"/>
                  <a:pt x="11148" y="5307"/>
                  <a:pt x="11261" y="5209"/>
                </a:cubicBezTo>
                <a:cubicBezTo>
                  <a:pt x="11402" y="5086"/>
                  <a:pt x="11537" y="5360"/>
                  <a:pt x="11559" y="5457"/>
                </a:cubicBezTo>
                <a:cubicBezTo>
                  <a:pt x="11559" y="5474"/>
                  <a:pt x="11559" y="5490"/>
                  <a:pt x="11559" y="5507"/>
                </a:cubicBezTo>
              </a:path>
              <a:path w="5359" h="1390">
                <a:moveTo>
                  <a:pt x="11658" y="5308"/>
                </a:moveTo>
                <a:cubicBezTo>
                  <a:pt x="11748" y="5241"/>
                  <a:pt x="11867" y="5194"/>
                  <a:pt x="11782" y="5110"/>
                </a:cubicBezTo>
                <a:cubicBezTo>
                  <a:pt x="11684" y="5166"/>
                  <a:pt x="11487" y="5402"/>
                  <a:pt x="11733" y="5482"/>
                </a:cubicBezTo>
                <a:cubicBezTo>
                  <a:pt x="11799" y="5482"/>
                  <a:pt x="11865" y="5482"/>
                  <a:pt x="11931" y="5482"/>
                </a:cubicBezTo>
              </a:path>
              <a:path w="5359" h="1390">
                <a:moveTo>
                  <a:pt x="8111" y="5308"/>
                </a:moveTo>
                <a:cubicBezTo>
                  <a:pt x="8084" y="5263"/>
                  <a:pt x="7957" y="5149"/>
                  <a:pt x="7888" y="5234"/>
                </a:cubicBezTo>
                <a:cubicBezTo>
                  <a:pt x="7793" y="5351"/>
                  <a:pt x="7825" y="5682"/>
                  <a:pt x="8037" y="5507"/>
                </a:cubicBezTo>
                <a:cubicBezTo>
                  <a:pt x="8081" y="5418"/>
                  <a:pt x="8097" y="5397"/>
                  <a:pt x="8086" y="5333"/>
                </a:cubicBezTo>
                <a:cubicBezTo>
                  <a:pt x="8132" y="5518"/>
                  <a:pt x="8193" y="5642"/>
                  <a:pt x="8210" y="5854"/>
                </a:cubicBezTo>
                <a:cubicBezTo>
                  <a:pt x="8210" y="6004"/>
                  <a:pt x="8204" y="6039"/>
                  <a:pt x="8235" y="6127"/>
                </a:cubicBezTo>
                <a:cubicBezTo>
                  <a:pt x="8246" y="6018"/>
                  <a:pt x="8305" y="5845"/>
                  <a:pt x="8210" y="5755"/>
                </a:cubicBezTo>
                <a:cubicBezTo>
                  <a:pt x="8150" y="5735"/>
                  <a:pt x="8135" y="5736"/>
                  <a:pt x="8111" y="5705"/>
                </a:cubicBezTo>
              </a:path>
              <a:path w="5359" h="1390">
                <a:moveTo>
                  <a:pt x="8235" y="5234"/>
                </a:moveTo>
                <a:cubicBezTo>
                  <a:pt x="8269" y="5331"/>
                  <a:pt x="8295" y="5397"/>
                  <a:pt x="8359" y="5482"/>
                </a:cubicBezTo>
                <a:cubicBezTo>
                  <a:pt x="8298" y="5397"/>
                  <a:pt x="8226" y="5238"/>
                  <a:pt x="8310" y="5135"/>
                </a:cubicBezTo>
                <a:cubicBezTo>
                  <a:pt x="8383" y="5110"/>
                  <a:pt x="8406" y="5102"/>
                  <a:pt x="8458" y="5110"/>
                </a:cubicBezTo>
              </a:path>
              <a:path w="5359" h="1390">
                <a:moveTo>
                  <a:pt x="8533" y="5234"/>
                </a:moveTo>
                <a:cubicBezTo>
                  <a:pt x="8585" y="5204"/>
                  <a:pt x="8646" y="5173"/>
                  <a:pt x="8607" y="5135"/>
                </a:cubicBezTo>
                <a:cubicBezTo>
                  <a:pt x="8497" y="5148"/>
                  <a:pt x="8459" y="5332"/>
                  <a:pt x="8582" y="5432"/>
                </a:cubicBezTo>
                <a:cubicBezTo>
                  <a:pt x="8689" y="5459"/>
                  <a:pt x="8727" y="5463"/>
                  <a:pt x="8781" y="5383"/>
                </a:cubicBezTo>
              </a:path>
              <a:path w="5359" h="1390">
                <a:moveTo>
                  <a:pt x="8905" y="5135"/>
                </a:moveTo>
                <a:cubicBezTo>
                  <a:pt x="8905" y="5118"/>
                  <a:pt x="8905" y="5102"/>
                  <a:pt x="8905" y="5085"/>
                </a:cubicBezTo>
                <a:cubicBezTo>
                  <a:pt x="8767" y="5116"/>
                  <a:pt x="8714" y="5208"/>
                  <a:pt x="8731" y="5358"/>
                </a:cubicBezTo>
                <a:cubicBezTo>
                  <a:pt x="8739" y="5374"/>
                  <a:pt x="8748" y="5391"/>
                  <a:pt x="8756" y="5407"/>
                </a:cubicBezTo>
                <a:cubicBezTo>
                  <a:pt x="8908" y="5325"/>
                  <a:pt x="8824" y="5252"/>
                  <a:pt x="8880" y="5159"/>
                </a:cubicBezTo>
                <a:cubicBezTo>
                  <a:pt x="8923" y="5088"/>
                  <a:pt x="8923" y="5321"/>
                  <a:pt x="8979" y="5383"/>
                </a:cubicBezTo>
                <a:cubicBezTo>
                  <a:pt x="8987" y="5383"/>
                  <a:pt x="8996" y="5383"/>
                  <a:pt x="9004" y="5383"/>
                </a:cubicBezTo>
              </a:path>
              <a:path w="5359" h="1390">
                <a:moveTo>
                  <a:pt x="8880" y="4936"/>
                </a:moveTo>
                <a:cubicBezTo>
                  <a:pt x="8946" y="5064"/>
                  <a:pt x="8999" y="5177"/>
                  <a:pt x="9054" y="5308"/>
                </a:cubicBezTo>
              </a:path>
              <a:path w="5359" h="1390">
                <a:moveTo>
                  <a:pt x="9054" y="5308"/>
                </a:moveTo>
                <a:lnTo>
                  <a:pt x="9054" y="5308"/>
                </a:lnTo>
              </a:path>
              <a:path w="5359" h="1390">
                <a:moveTo>
                  <a:pt x="8855" y="5110"/>
                </a:moveTo>
                <a:cubicBezTo>
                  <a:pt x="8988" y="5091"/>
                  <a:pt x="9120" y="5079"/>
                  <a:pt x="9252" y="5060"/>
                </a:cubicBezTo>
              </a:path>
              <a:path w="5359" h="1390">
                <a:moveTo>
                  <a:pt x="9227" y="5085"/>
                </a:moveTo>
                <a:cubicBezTo>
                  <a:pt x="9255" y="5057"/>
                  <a:pt x="9264" y="5044"/>
                  <a:pt x="9252" y="5011"/>
                </a:cubicBezTo>
                <a:cubicBezTo>
                  <a:pt x="9147" y="5011"/>
                  <a:pt x="9111" y="5132"/>
                  <a:pt x="9153" y="5234"/>
                </a:cubicBezTo>
                <a:cubicBezTo>
                  <a:pt x="9247" y="5463"/>
                  <a:pt x="9393" y="5226"/>
                  <a:pt x="9451" y="5159"/>
                </a:cubicBezTo>
                <a:cubicBezTo>
                  <a:pt x="9473" y="5134"/>
                  <a:pt x="9451" y="5226"/>
                  <a:pt x="9451" y="5259"/>
                </a:cubicBezTo>
                <a:cubicBezTo>
                  <a:pt x="9451" y="5153"/>
                  <a:pt x="9464" y="5052"/>
                  <a:pt x="9525" y="4961"/>
                </a:cubicBezTo>
                <a:cubicBezTo>
                  <a:pt x="9533" y="4961"/>
                  <a:pt x="9542" y="4961"/>
                  <a:pt x="9550" y="4961"/>
                </a:cubicBezTo>
              </a:path>
              <a:path w="5359" h="1390">
                <a:moveTo>
                  <a:pt x="9947" y="4887"/>
                </a:moveTo>
                <a:cubicBezTo>
                  <a:pt x="9985" y="5021"/>
                  <a:pt x="10056" y="5146"/>
                  <a:pt x="10096" y="5283"/>
                </a:cubicBezTo>
              </a:path>
              <a:path w="5359" h="1390">
                <a:moveTo>
                  <a:pt x="9897" y="5135"/>
                </a:moveTo>
                <a:cubicBezTo>
                  <a:pt x="10099" y="5115"/>
                  <a:pt x="10088" y="5126"/>
                  <a:pt x="10195" y="4961"/>
                </a:cubicBezTo>
              </a:path>
              <a:path w="5359" h="1390">
                <a:moveTo>
                  <a:pt x="10195" y="4961"/>
                </a:moveTo>
                <a:lnTo>
                  <a:pt x="10195" y="4961"/>
                </a:lnTo>
              </a:path>
              <a:path w="5359" h="1390">
                <a:moveTo>
                  <a:pt x="10120" y="4812"/>
                </a:moveTo>
                <a:cubicBezTo>
                  <a:pt x="10162" y="4936"/>
                  <a:pt x="10203" y="5060"/>
                  <a:pt x="10244" y="5184"/>
                </a:cubicBezTo>
                <a:cubicBezTo>
                  <a:pt x="10240" y="5158"/>
                  <a:pt x="10176" y="4913"/>
                  <a:pt x="10269" y="4961"/>
                </a:cubicBezTo>
                <a:cubicBezTo>
                  <a:pt x="10361" y="5009"/>
                  <a:pt x="10379" y="5124"/>
                  <a:pt x="10418" y="5209"/>
                </a:cubicBezTo>
              </a:path>
              <a:path w="5359" h="1390">
                <a:moveTo>
                  <a:pt x="10517" y="4837"/>
                </a:moveTo>
                <a:cubicBezTo>
                  <a:pt x="10467" y="4867"/>
                  <a:pt x="10391" y="4955"/>
                  <a:pt x="10418" y="5035"/>
                </a:cubicBezTo>
                <a:cubicBezTo>
                  <a:pt x="10426" y="5043"/>
                  <a:pt x="10435" y="5052"/>
                  <a:pt x="10443" y="5060"/>
                </a:cubicBezTo>
                <a:cubicBezTo>
                  <a:pt x="10500" y="5009"/>
                  <a:pt x="10542" y="4897"/>
                  <a:pt x="10542" y="4911"/>
                </a:cubicBezTo>
                <a:cubicBezTo>
                  <a:pt x="10612" y="4998"/>
                  <a:pt x="10607" y="5018"/>
                  <a:pt x="10666" y="4911"/>
                </a:cubicBezTo>
              </a:path>
              <a:path w="5359" h="1390">
                <a:moveTo>
                  <a:pt x="10691" y="4787"/>
                </a:moveTo>
                <a:cubicBezTo>
                  <a:pt x="10691" y="4837"/>
                  <a:pt x="10691" y="4854"/>
                  <a:pt x="10691" y="4887"/>
                </a:cubicBezTo>
                <a:cubicBezTo>
                  <a:pt x="10700" y="4835"/>
                  <a:pt x="10719" y="4705"/>
                  <a:pt x="10790" y="4762"/>
                </a:cubicBezTo>
                <a:cubicBezTo>
                  <a:pt x="10872" y="4828"/>
                  <a:pt x="10875" y="4863"/>
                  <a:pt x="10889" y="4961"/>
                </a:cubicBezTo>
              </a:path>
              <a:path w="5359" h="1390">
                <a:moveTo>
                  <a:pt x="10889" y="4961"/>
                </a:moveTo>
                <a:lnTo>
                  <a:pt x="10889" y="496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99000" y="1731960"/>
            <a:ext cx="1044720" cy="250920"/>
          </a:xfrm>
          <a:custGeom>
            <a:avLst/>
            <a:gdLst/>
            <a:ahLst/>
            <a:rect l="l" t="t" r="r" b="b"/>
            <a:pathLst>
              <a:path w="2904" h="696">
                <a:moveTo>
                  <a:pt x="13196" y="4936"/>
                </a:moveTo>
                <a:cubicBezTo>
                  <a:pt x="13131" y="4882"/>
                  <a:pt x="12957" y="4781"/>
                  <a:pt x="12898" y="4911"/>
                </a:cubicBezTo>
                <a:cubicBezTo>
                  <a:pt x="12799" y="5128"/>
                  <a:pt x="13181" y="5319"/>
                  <a:pt x="13146" y="5457"/>
                </a:cubicBezTo>
                <a:cubicBezTo>
                  <a:pt x="13121" y="5440"/>
                  <a:pt x="13097" y="5424"/>
                  <a:pt x="13072" y="5407"/>
                </a:cubicBezTo>
              </a:path>
              <a:path w="2904" h="696">
                <a:moveTo>
                  <a:pt x="12774" y="5283"/>
                </a:moveTo>
                <a:cubicBezTo>
                  <a:pt x="13007" y="5253"/>
                  <a:pt x="13239" y="5230"/>
                  <a:pt x="13469" y="5184"/>
                </a:cubicBezTo>
              </a:path>
              <a:path w="2904" h="696">
                <a:moveTo>
                  <a:pt x="13519" y="5110"/>
                </a:moveTo>
                <a:cubicBezTo>
                  <a:pt x="13438" y="5164"/>
                  <a:pt x="13332" y="5319"/>
                  <a:pt x="13419" y="5432"/>
                </a:cubicBezTo>
                <a:cubicBezTo>
                  <a:pt x="13545" y="5594"/>
                  <a:pt x="13610" y="5258"/>
                  <a:pt x="13618" y="5234"/>
                </a:cubicBezTo>
                <a:cubicBezTo>
                  <a:pt x="13626" y="5226"/>
                  <a:pt x="13635" y="5217"/>
                  <a:pt x="13643" y="5209"/>
                </a:cubicBezTo>
                <a:cubicBezTo>
                  <a:pt x="13698" y="5378"/>
                  <a:pt x="13737" y="5343"/>
                  <a:pt x="13866" y="5283"/>
                </a:cubicBezTo>
              </a:path>
              <a:path w="2904" h="696">
                <a:moveTo>
                  <a:pt x="14089" y="5110"/>
                </a:moveTo>
                <a:cubicBezTo>
                  <a:pt x="13960" y="5110"/>
                  <a:pt x="13961" y="5023"/>
                  <a:pt x="13866" y="5209"/>
                </a:cubicBezTo>
                <a:cubicBezTo>
                  <a:pt x="13676" y="5579"/>
                  <a:pt x="14199" y="5413"/>
                  <a:pt x="14312" y="5358"/>
                </a:cubicBezTo>
              </a:path>
              <a:path w="2904" h="696">
                <a:moveTo>
                  <a:pt x="14312" y="4812"/>
                </a:moveTo>
                <a:cubicBezTo>
                  <a:pt x="14364" y="4992"/>
                  <a:pt x="14413" y="5223"/>
                  <a:pt x="14511" y="5383"/>
                </a:cubicBezTo>
                <a:cubicBezTo>
                  <a:pt x="14519" y="5383"/>
                  <a:pt x="14528" y="5383"/>
                  <a:pt x="14536" y="5383"/>
                </a:cubicBezTo>
              </a:path>
              <a:path w="2904" h="696">
                <a:moveTo>
                  <a:pt x="14536" y="5383"/>
                </a:moveTo>
                <a:lnTo>
                  <a:pt x="14536" y="5383"/>
                </a:lnTo>
              </a:path>
              <a:path w="2904" h="696">
                <a:moveTo>
                  <a:pt x="14139" y="5159"/>
                </a:moveTo>
                <a:cubicBezTo>
                  <a:pt x="14304" y="5140"/>
                  <a:pt x="14469" y="5120"/>
                  <a:pt x="14635" y="5110"/>
                </a:cubicBezTo>
                <a:cubicBezTo>
                  <a:pt x="14612" y="5178"/>
                  <a:pt x="14522" y="5268"/>
                  <a:pt x="14560" y="5383"/>
                </a:cubicBezTo>
                <a:cubicBezTo>
                  <a:pt x="14617" y="5558"/>
                  <a:pt x="14744" y="5491"/>
                  <a:pt x="14858" y="5457"/>
                </a:cubicBezTo>
                <a:cubicBezTo>
                  <a:pt x="14916" y="5215"/>
                  <a:pt x="14822" y="5193"/>
                  <a:pt x="14585" y="5159"/>
                </a:cubicBezTo>
              </a:path>
              <a:path w="2904" h="696">
                <a:moveTo>
                  <a:pt x="15007" y="5333"/>
                </a:moveTo>
                <a:cubicBezTo>
                  <a:pt x="15007" y="5374"/>
                  <a:pt x="15007" y="5382"/>
                  <a:pt x="15007" y="5407"/>
                </a:cubicBezTo>
                <a:cubicBezTo>
                  <a:pt x="15007" y="5312"/>
                  <a:pt x="15005" y="5228"/>
                  <a:pt x="15032" y="5135"/>
                </a:cubicBezTo>
                <a:cubicBezTo>
                  <a:pt x="15063" y="5029"/>
                  <a:pt x="15318" y="5047"/>
                  <a:pt x="15404" y="5035"/>
                </a:cubicBezTo>
              </a:path>
              <a:path w="2904" h="696">
                <a:moveTo>
                  <a:pt x="15453" y="5011"/>
                </a:moveTo>
                <a:cubicBezTo>
                  <a:pt x="15366" y="5054"/>
                  <a:pt x="15342" y="5061"/>
                  <a:pt x="15304" y="5110"/>
                </a:cubicBezTo>
                <a:cubicBezTo>
                  <a:pt x="15375" y="5233"/>
                  <a:pt x="15588" y="5132"/>
                  <a:pt x="15677" y="5259"/>
                </a:cubicBezTo>
                <a:cubicBezTo>
                  <a:pt x="15795" y="5426"/>
                  <a:pt x="15426" y="5446"/>
                  <a:pt x="15379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3160" y="6313320"/>
            <a:ext cx="581040" cy="536760"/>
          </a:xfrm>
          <a:custGeom>
            <a:avLst/>
            <a:gdLst/>
            <a:ahLst/>
            <a:rect l="l" t="t" r="r" b="b"/>
            <a:pathLst>
              <a:path w="1613" h="1489">
                <a:moveTo>
                  <a:pt x="6846" y="19025"/>
                </a:moveTo>
                <a:cubicBezTo>
                  <a:pt x="6813" y="18944"/>
                  <a:pt x="6826" y="18971"/>
                  <a:pt x="6747" y="18876"/>
                </a:cubicBezTo>
                <a:cubicBezTo>
                  <a:pt x="6722" y="18846"/>
                  <a:pt x="6576" y="18699"/>
                  <a:pt x="6573" y="18653"/>
                </a:cubicBezTo>
                <a:cubicBezTo>
                  <a:pt x="6555" y="18403"/>
                  <a:pt x="6789" y="18109"/>
                  <a:pt x="6896" y="17909"/>
                </a:cubicBezTo>
                <a:cubicBezTo>
                  <a:pt x="6962" y="17784"/>
                  <a:pt x="7027" y="17661"/>
                  <a:pt x="7094" y="17537"/>
                </a:cubicBezTo>
                <a:cubicBezTo>
                  <a:pt x="6881" y="17652"/>
                  <a:pt x="6672" y="17764"/>
                  <a:pt x="6449" y="17859"/>
                </a:cubicBezTo>
                <a:cubicBezTo>
                  <a:pt x="6191" y="17969"/>
                  <a:pt x="5927" y="18074"/>
                  <a:pt x="5680" y="18207"/>
                </a:cubicBezTo>
                <a:cubicBezTo>
                  <a:pt x="5586" y="18258"/>
                  <a:pt x="5540" y="18261"/>
                  <a:pt x="5507" y="18331"/>
                </a:cubicBezTo>
                <a:cubicBezTo>
                  <a:pt x="5494" y="18359"/>
                  <a:pt x="5486" y="18454"/>
                  <a:pt x="5482" y="18479"/>
                </a:cubicBezTo>
                <a:cubicBezTo>
                  <a:pt x="5465" y="18582"/>
                  <a:pt x="5600" y="18518"/>
                  <a:pt x="5655" y="18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0680" y="4232160"/>
            <a:ext cx="6099120" cy="1617840"/>
          </a:xfrm>
          <a:custGeom>
            <a:avLst/>
            <a:gdLst/>
            <a:ahLst/>
            <a:rect l="l" t="t" r="r" b="b"/>
            <a:pathLst>
              <a:path w="16942" h="4491">
                <a:moveTo>
                  <a:pt x="6003" y="12725"/>
                </a:moveTo>
                <a:cubicBezTo>
                  <a:pt x="5718" y="12664"/>
                  <a:pt x="5624" y="12569"/>
                  <a:pt x="5308" y="12626"/>
                </a:cubicBezTo>
                <a:cubicBezTo>
                  <a:pt x="5124" y="12659"/>
                  <a:pt x="4884" y="12777"/>
                  <a:pt x="4762" y="12923"/>
                </a:cubicBezTo>
                <a:cubicBezTo>
                  <a:pt x="4412" y="13343"/>
                  <a:pt x="4826" y="13671"/>
                  <a:pt x="4862" y="14039"/>
                </a:cubicBezTo>
                <a:cubicBezTo>
                  <a:pt x="4872" y="14142"/>
                  <a:pt x="4832" y="13974"/>
                  <a:pt x="4787" y="14238"/>
                </a:cubicBezTo>
                <a:cubicBezTo>
                  <a:pt x="4720" y="14632"/>
                  <a:pt x="4602" y="14904"/>
                  <a:pt x="5060" y="15106"/>
                </a:cubicBezTo>
                <a:cubicBezTo>
                  <a:pt x="5483" y="15293"/>
                  <a:pt x="5978" y="15115"/>
                  <a:pt x="6400" y="15056"/>
                </a:cubicBezTo>
                <a:cubicBezTo>
                  <a:pt x="6487" y="15185"/>
                  <a:pt x="6208" y="15304"/>
                  <a:pt x="6499" y="15429"/>
                </a:cubicBezTo>
                <a:cubicBezTo>
                  <a:pt x="6951" y="15623"/>
                  <a:pt x="7590" y="15380"/>
                  <a:pt x="8037" y="15280"/>
                </a:cubicBezTo>
                <a:cubicBezTo>
                  <a:pt x="8168" y="15242"/>
                  <a:pt x="8183" y="15225"/>
                  <a:pt x="8260" y="15230"/>
                </a:cubicBezTo>
                <a:cubicBezTo>
                  <a:pt x="8404" y="15462"/>
                  <a:pt x="8215" y="15548"/>
                  <a:pt x="8582" y="15701"/>
                </a:cubicBezTo>
                <a:cubicBezTo>
                  <a:pt x="8899" y="15833"/>
                  <a:pt x="9180" y="15794"/>
                  <a:pt x="9500" y="15751"/>
                </a:cubicBezTo>
                <a:cubicBezTo>
                  <a:pt x="9557" y="15713"/>
                  <a:pt x="9560" y="15697"/>
                  <a:pt x="9599" y="15701"/>
                </a:cubicBezTo>
                <a:cubicBezTo>
                  <a:pt x="9765" y="15970"/>
                  <a:pt x="9660" y="16085"/>
                  <a:pt x="10071" y="16173"/>
                </a:cubicBezTo>
                <a:cubicBezTo>
                  <a:pt x="10582" y="16282"/>
                  <a:pt x="11102" y="16167"/>
                  <a:pt x="11584" y="16173"/>
                </a:cubicBezTo>
                <a:cubicBezTo>
                  <a:pt x="11897" y="16177"/>
                  <a:pt x="12211" y="16218"/>
                  <a:pt x="12526" y="16222"/>
                </a:cubicBezTo>
                <a:cubicBezTo>
                  <a:pt x="12845" y="16226"/>
                  <a:pt x="13203" y="16093"/>
                  <a:pt x="13494" y="16098"/>
                </a:cubicBezTo>
                <a:cubicBezTo>
                  <a:pt x="13660" y="16101"/>
                  <a:pt x="13773" y="16179"/>
                  <a:pt x="13990" y="16197"/>
                </a:cubicBezTo>
                <a:cubicBezTo>
                  <a:pt x="14506" y="16239"/>
                  <a:pt x="14892" y="16060"/>
                  <a:pt x="15379" y="16024"/>
                </a:cubicBezTo>
                <a:cubicBezTo>
                  <a:pt x="15532" y="16013"/>
                  <a:pt x="15527" y="16092"/>
                  <a:pt x="15701" y="16073"/>
                </a:cubicBezTo>
                <a:cubicBezTo>
                  <a:pt x="16120" y="16027"/>
                  <a:pt x="16482" y="15778"/>
                  <a:pt x="16818" y="15701"/>
                </a:cubicBezTo>
                <a:cubicBezTo>
                  <a:pt x="16924" y="15677"/>
                  <a:pt x="17386" y="15733"/>
                  <a:pt x="17512" y="15726"/>
                </a:cubicBezTo>
                <a:cubicBezTo>
                  <a:pt x="17949" y="15701"/>
                  <a:pt x="18383" y="15533"/>
                  <a:pt x="18802" y="15503"/>
                </a:cubicBezTo>
                <a:cubicBezTo>
                  <a:pt x="19089" y="15483"/>
                  <a:pt x="19361" y="15538"/>
                  <a:pt x="19670" y="15478"/>
                </a:cubicBezTo>
                <a:cubicBezTo>
                  <a:pt x="20050" y="15404"/>
                  <a:pt x="20257" y="15136"/>
                  <a:pt x="20563" y="15007"/>
                </a:cubicBezTo>
                <a:cubicBezTo>
                  <a:pt x="20690" y="14954"/>
                  <a:pt x="20817" y="14994"/>
                  <a:pt x="20960" y="14908"/>
                </a:cubicBezTo>
                <a:cubicBezTo>
                  <a:pt x="21470" y="14600"/>
                  <a:pt x="21641" y="14288"/>
                  <a:pt x="21431" y="13717"/>
                </a:cubicBezTo>
                <a:cubicBezTo>
                  <a:pt x="21331" y="13445"/>
                  <a:pt x="21126" y="13205"/>
                  <a:pt x="21034" y="12923"/>
                </a:cubicBezTo>
                <a:cubicBezTo>
                  <a:pt x="20977" y="12749"/>
                  <a:pt x="21100" y="12688"/>
                  <a:pt x="20935" y="12502"/>
                </a:cubicBezTo>
                <a:cubicBezTo>
                  <a:pt x="20614" y="12140"/>
                  <a:pt x="20211" y="12032"/>
                  <a:pt x="19745" y="12005"/>
                </a:cubicBezTo>
                <a:cubicBezTo>
                  <a:pt x="19588" y="11996"/>
                  <a:pt x="19449" y="12007"/>
                  <a:pt x="19298" y="11981"/>
                </a:cubicBezTo>
                <a:cubicBezTo>
                  <a:pt x="18846" y="11902"/>
                  <a:pt x="18516" y="11829"/>
                  <a:pt x="18033" y="11857"/>
                </a:cubicBezTo>
                <a:cubicBezTo>
                  <a:pt x="17720" y="11875"/>
                  <a:pt x="17230" y="12035"/>
                  <a:pt x="16917" y="12005"/>
                </a:cubicBezTo>
                <a:cubicBezTo>
                  <a:pt x="16495" y="11964"/>
                  <a:pt x="16124" y="11805"/>
                  <a:pt x="15652" y="11807"/>
                </a:cubicBezTo>
                <a:cubicBezTo>
                  <a:pt x="15159" y="11810"/>
                  <a:pt x="14617" y="12009"/>
                  <a:pt x="14139" y="11981"/>
                </a:cubicBezTo>
                <a:cubicBezTo>
                  <a:pt x="13859" y="11965"/>
                  <a:pt x="13580" y="11844"/>
                  <a:pt x="13295" y="11807"/>
                </a:cubicBezTo>
                <a:cubicBezTo>
                  <a:pt x="12713" y="11731"/>
                  <a:pt x="12184" y="11825"/>
                  <a:pt x="11609" y="11857"/>
                </a:cubicBezTo>
                <a:cubicBezTo>
                  <a:pt x="11414" y="11868"/>
                  <a:pt x="11297" y="11845"/>
                  <a:pt x="11112" y="11832"/>
                </a:cubicBezTo>
                <a:cubicBezTo>
                  <a:pt x="10322" y="11776"/>
                  <a:pt x="9662" y="12082"/>
                  <a:pt x="8930" y="12105"/>
                </a:cubicBezTo>
                <a:cubicBezTo>
                  <a:pt x="8791" y="12109"/>
                  <a:pt x="8739" y="11988"/>
                  <a:pt x="8582" y="11981"/>
                </a:cubicBezTo>
                <a:cubicBezTo>
                  <a:pt x="7949" y="11953"/>
                  <a:pt x="7385" y="12169"/>
                  <a:pt x="6772" y="12204"/>
                </a:cubicBezTo>
                <a:cubicBezTo>
                  <a:pt x="6485" y="12220"/>
                  <a:pt x="6387" y="12174"/>
                  <a:pt x="6102" y="12328"/>
                </a:cubicBezTo>
                <a:cubicBezTo>
                  <a:pt x="6057" y="12353"/>
                  <a:pt x="5981" y="12452"/>
                  <a:pt x="5953" y="12477"/>
                </a:cubicBezTo>
                <a:cubicBezTo>
                  <a:pt x="5925" y="12502"/>
                  <a:pt x="5860" y="12544"/>
                  <a:pt x="5829" y="12576"/>
                </a:cubicBezTo>
                <a:cubicBezTo>
                  <a:pt x="5796" y="12610"/>
                  <a:pt x="5834" y="12639"/>
                  <a:pt x="5804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review what we already know about fraction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00200" y="2666880"/>
                <a:ext cx="571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32520" y="4543560"/>
            <a:ext cx="564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it mean to simplify a fraction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he fraction above be simplified? 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03640" y="2830680"/>
            <a:ext cx="241200" cy="250560"/>
          </a:xfrm>
          <a:custGeom>
            <a:avLst/>
            <a:gdLst/>
            <a:ahLst/>
            <a:rect l="l" t="t" r="r" b="b"/>
            <a:pathLst>
              <a:path w="670" h="696">
                <a:moveTo>
                  <a:pt x="6400" y="8136"/>
                </a:moveTo>
                <a:cubicBezTo>
                  <a:pt x="6474" y="8102"/>
                  <a:pt x="6549" y="8071"/>
                  <a:pt x="6623" y="8037"/>
                </a:cubicBezTo>
              </a:path>
              <a:path w="670" h="696">
                <a:moveTo>
                  <a:pt x="6573" y="7863"/>
                </a:moveTo>
                <a:lnTo>
                  <a:pt x="6573" y="7863"/>
                </a:lnTo>
                <a:lnTo>
                  <a:pt x="6573" y="7863"/>
                </a:lnTo>
              </a:path>
              <a:path w="670" h="696">
                <a:moveTo>
                  <a:pt x="6573" y="7863"/>
                </a:moveTo>
                <a:lnTo>
                  <a:pt x="6573" y="7863"/>
                </a:lnTo>
              </a:path>
              <a:path w="670" h="696">
                <a:moveTo>
                  <a:pt x="6499" y="8260"/>
                </a:moveTo>
                <a:lnTo>
                  <a:pt x="6499" y="8260"/>
                </a:lnTo>
              </a:path>
              <a:path w="670" h="696">
                <a:moveTo>
                  <a:pt x="6896" y="8037"/>
                </a:moveTo>
                <a:cubicBezTo>
                  <a:pt x="6888" y="8097"/>
                  <a:pt x="6827" y="8192"/>
                  <a:pt x="6921" y="8210"/>
                </a:cubicBezTo>
                <a:cubicBezTo>
                  <a:pt x="7003" y="8210"/>
                  <a:pt x="7020" y="8210"/>
                  <a:pt x="7069" y="8210"/>
                </a:cubicBezTo>
              </a:path>
              <a:path w="670" h="696">
                <a:moveTo>
                  <a:pt x="7045" y="7913"/>
                </a:moveTo>
                <a:cubicBezTo>
                  <a:pt x="7017" y="8128"/>
                  <a:pt x="7021" y="8342"/>
                  <a:pt x="6995" y="85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57680" y="2894040"/>
            <a:ext cx="928440" cy="1766880"/>
          </a:xfrm>
          <a:custGeom>
            <a:avLst/>
            <a:gdLst/>
            <a:ahLst/>
            <a:rect l="l" t="t" r="r" b="b"/>
            <a:pathLst>
              <a:path w="2580" h="4912">
                <a:moveTo>
                  <a:pt x="7938" y="8905"/>
                </a:moveTo>
                <a:cubicBezTo>
                  <a:pt x="8040" y="8883"/>
                  <a:pt x="8133" y="8863"/>
                  <a:pt x="8235" y="8855"/>
                </a:cubicBezTo>
              </a:path>
              <a:path w="2580" h="4912">
                <a:moveTo>
                  <a:pt x="8012" y="9004"/>
                </a:moveTo>
                <a:cubicBezTo>
                  <a:pt x="8163" y="8979"/>
                  <a:pt x="8214" y="8970"/>
                  <a:pt x="8310" y="8930"/>
                </a:cubicBezTo>
              </a:path>
              <a:path w="2580" h="4912">
                <a:moveTo>
                  <a:pt x="8310" y="8930"/>
                </a:moveTo>
                <a:lnTo>
                  <a:pt x="8310" y="8930"/>
                </a:lnTo>
              </a:path>
              <a:path w="2580" h="4912">
                <a:moveTo>
                  <a:pt x="9872" y="8037"/>
                </a:moveTo>
                <a:cubicBezTo>
                  <a:pt x="9872" y="8219"/>
                  <a:pt x="9872" y="8400"/>
                  <a:pt x="9872" y="8582"/>
                </a:cubicBezTo>
              </a:path>
              <a:path w="2580" h="4912">
                <a:moveTo>
                  <a:pt x="9649" y="8632"/>
                </a:moveTo>
                <a:cubicBezTo>
                  <a:pt x="9889" y="8611"/>
                  <a:pt x="10127" y="8590"/>
                  <a:pt x="10368" y="8582"/>
                </a:cubicBezTo>
              </a:path>
              <a:path w="2580" h="4912">
                <a:moveTo>
                  <a:pt x="10319" y="12948"/>
                </a:moveTo>
                <a:cubicBezTo>
                  <a:pt x="10351" y="12883"/>
                  <a:pt x="10390" y="12871"/>
                  <a:pt x="10418" y="12750"/>
                </a:cubicBezTo>
                <a:cubicBezTo>
                  <a:pt x="10454" y="12596"/>
                  <a:pt x="10481" y="12434"/>
                  <a:pt x="10492" y="12278"/>
                </a:cubicBezTo>
                <a:cubicBezTo>
                  <a:pt x="10508" y="12048"/>
                  <a:pt x="10531" y="11817"/>
                  <a:pt x="10517" y="11584"/>
                </a:cubicBezTo>
                <a:cubicBezTo>
                  <a:pt x="10503" y="11346"/>
                  <a:pt x="10475" y="11089"/>
                  <a:pt x="10393" y="10864"/>
                </a:cubicBezTo>
                <a:cubicBezTo>
                  <a:pt x="10349" y="10742"/>
                  <a:pt x="10292" y="10639"/>
                  <a:pt x="10269" y="10517"/>
                </a:cubicBezTo>
                <a:cubicBezTo>
                  <a:pt x="10259" y="10465"/>
                  <a:pt x="10246" y="10386"/>
                  <a:pt x="10220" y="10344"/>
                </a:cubicBezTo>
                <a:cubicBezTo>
                  <a:pt x="10187" y="10291"/>
                  <a:pt x="10142" y="10247"/>
                  <a:pt x="10120" y="10195"/>
                </a:cubicBezTo>
                <a:cubicBezTo>
                  <a:pt x="10102" y="10154"/>
                  <a:pt x="10078" y="10140"/>
                  <a:pt x="10071" y="10096"/>
                </a:cubicBezTo>
                <a:cubicBezTo>
                  <a:pt x="10062" y="10040"/>
                  <a:pt x="10061" y="10031"/>
                  <a:pt x="10046" y="9996"/>
                </a:cubicBezTo>
                <a:cubicBezTo>
                  <a:pt x="10046" y="9968"/>
                  <a:pt x="10044" y="9957"/>
                  <a:pt x="10021" y="9947"/>
                </a:cubicBezTo>
                <a:cubicBezTo>
                  <a:pt x="10002" y="9961"/>
                  <a:pt x="9849" y="10136"/>
                  <a:pt x="9798" y="10220"/>
                </a:cubicBezTo>
                <a:cubicBezTo>
                  <a:pt x="9737" y="10320"/>
                  <a:pt x="9726" y="10423"/>
                  <a:pt x="9773" y="10269"/>
                </a:cubicBezTo>
                <a:cubicBezTo>
                  <a:pt x="9812" y="10141"/>
                  <a:pt x="9861" y="9988"/>
                  <a:pt x="9922" y="9872"/>
                </a:cubicBezTo>
                <a:cubicBezTo>
                  <a:pt x="9930" y="9864"/>
                  <a:pt x="9939" y="9855"/>
                  <a:pt x="9947" y="9847"/>
                </a:cubicBezTo>
                <a:cubicBezTo>
                  <a:pt x="10095" y="9900"/>
                  <a:pt x="10250" y="9975"/>
                  <a:pt x="10393" y="10021"/>
                </a:cubicBezTo>
                <a:cubicBezTo>
                  <a:pt x="10401" y="10021"/>
                  <a:pt x="10410" y="10021"/>
                  <a:pt x="10418" y="10021"/>
                </a:cubicBezTo>
              </a:path>
              <a:path w="2580" h="4912">
                <a:moveTo>
                  <a:pt x="9674" y="9079"/>
                </a:moveTo>
                <a:cubicBezTo>
                  <a:pt x="9674" y="8979"/>
                  <a:pt x="9764" y="8942"/>
                  <a:pt x="9847" y="8905"/>
                </a:cubicBezTo>
                <a:cubicBezTo>
                  <a:pt x="9855" y="8905"/>
                  <a:pt x="9864" y="8905"/>
                  <a:pt x="9872" y="8905"/>
                </a:cubicBezTo>
                <a:cubicBezTo>
                  <a:pt x="9854" y="9015"/>
                  <a:pt x="9820" y="9092"/>
                  <a:pt x="9723" y="9153"/>
                </a:cubicBezTo>
                <a:cubicBezTo>
                  <a:pt x="9715" y="9153"/>
                  <a:pt x="9707" y="9153"/>
                  <a:pt x="9699" y="9153"/>
                </a:cubicBezTo>
                <a:cubicBezTo>
                  <a:pt x="9795" y="9137"/>
                  <a:pt x="9969" y="9074"/>
                  <a:pt x="9922" y="9252"/>
                </a:cubicBezTo>
                <a:cubicBezTo>
                  <a:pt x="9877" y="9422"/>
                  <a:pt x="9707" y="9471"/>
                  <a:pt x="9575" y="9451"/>
                </a:cubicBezTo>
                <a:cubicBezTo>
                  <a:pt x="9567" y="9451"/>
                  <a:pt x="9558" y="9451"/>
                  <a:pt x="9550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95360" y="3411360"/>
            <a:ext cx="339840" cy="223920"/>
          </a:xfrm>
          <a:custGeom>
            <a:avLst/>
            <a:gdLst/>
            <a:ahLst/>
            <a:rect l="l" t="t" r="r" b="b"/>
            <a:pathLst>
              <a:path w="943" h="622">
                <a:moveTo>
                  <a:pt x="6375" y="9723"/>
                </a:moveTo>
                <a:cubicBezTo>
                  <a:pt x="6484" y="9710"/>
                  <a:pt x="6595" y="9702"/>
                  <a:pt x="6697" y="9674"/>
                </a:cubicBezTo>
              </a:path>
              <a:path w="943" h="622">
                <a:moveTo>
                  <a:pt x="6598" y="9475"/>
                </a:moveTo>
                <a:cubicBezTo>
                  <a:pt x="6590" y="9475"/>
                  <a:pt x="6581" y="9475"/>
                  <a:pt x="6573" y="9475"/>
                </a:cubicBezTo>
              </a:path>
              <a:path w="943" h="622">
                <a:moveTo>
                  <a:pt x="6573" y="9475"/>
                </a:moveTo>
                <a:lnTo>
                  <a:pt x="6573" y="9475"/>
                </a:lnTo>
              </a:path>
              <a:path w="943" h="622">
                <a:moveTo>
                  <a:pt x="6573" y="9922"/>
                </a:moveTo>
                <a:cubicBezTo>
                  <a:pt x="6573" y="9947"/>
                  <a:pt x="6573" y="9955"/>
                  <a:pt x="6598" y="9947"/>
                </a:cubicBezTo>
              </a:path>
              <a:path w="943" h="622">
                <a:moveTo>
                  <a:pt x="6921" y="9624"/>
                </a:moveTo>
                <a:cubicBezTo>
                  <a:pt x="6926" y="9675"/>
                  <a:pt x="6921" y="9823"/>
                  <a:pt x="6995" y="9823"/>
                </a:cubicBezTo>
                <a:cubicBezTo>
                  <a:pt x="7097" y="9823"/>
                  <a:pt x="7218" y="9775"/>
                  <a:pt x="7317" y="9748"/>
                </a:cubicBezTo>
              </a:path>
              <a:path w="943" h="622">
                <a:moveTo>
                  <a:pt x="7193" y="9500"/>
                </a:moveTo>
                <a:cubicBezTo>
                  <a:pt x="7201" y="9700"/>
                  <a:pt x="7218" y="9896"/>
                  <a:pt x="7218" y="100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760" y="2303640"/>
            <a:ext cx="179280" cy="22356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1166" y="6573"/>
                </a:moveTo>
                <a:cubicBezTo>
                  <a:pt x="1127" y="6691"/>
                  <a:pt x="1061" y="6899"/>
                  <a:pt x="1191" y="6995"/>
                </a:cubicBezTo>
                <a:cubicBezTo>
                  <a:pt x="1307" y="7081"/>
                  <a:pt x="1376" y="6965"/>
                  <a:pt x="1439" y="6896"/>
                </a:cubicBezTo>
              </a:path>
              <a:path w="497" h="621">
                <a:moveTo>
                  <a:pt x="1439" y="6400"/>
                </a:moveTo>
                <a:cubicBezTo>
                  <a:pt x="1457" y="6513"/>
                  <a:pt x="1481" y="6650"/>
                  <a:pt x="1389" y="6747"/>
                </a:cubicBezTo>
                <a:cubicBezTo>
                  <a:pt x="1349" y="6790"/>
                  <a:pt x="1309" y="6704"/>
                  <a:pt x="1290" y="6648"/>
                </a:cubicBezTo>
              </a:path>
              <a:path w="497" h="621">
                <a:moveTo>
                  <a:pt x="1290" y="6449"/>
                </a:moveTo>
                <a:cubicBezTo>
                  <a:pt x="1337" y="6539"/>
                  <a:pt x="1374" y="6628"/>
                  <a:pt x="1414" y="6722"/>
                </a:cubicBezTo>
              </a:path>
              <a:path w="497" h="621">
                <a:moveTo>
                  <a:pt x="1414" y="6722"/>
                </a:moveTo>
                <a:lnTo>
                  <a:pt x="1414" y="6722"/>
                </a:lnTo>
              </a:path>
              <a:path w="497" h="621">
                <a:moveTo>
                  <a:pt x="1339" y="6772"/>
                </a:moveTo>
                <a:cubicBezTo>
                  <a:pt x="1372" y="6764"/>
                  <a:pt x="1406" y="6755"/>
                  <a:pt x="1439" y="6747"/>
                </a:cubicBezTo>
              </a:path>
              <a:path w="497" h="621">
                <a:moveTo>
                  <a:pt x="1315" y="6524"/>
                </a:moveTo>
                <a:cubicBezTo>
                  <a:pt x="1372" y="6505"/>
                  <a:pt x="1379" y="6496"/>
                  <a:pt x="1414" y="6499"/>
                </a:cubicBezTo>
                <a:cubicBezTo>
                  <a:pt x="1433" y="6567"/>
                  <a:pt x="1408" y="6728"/>
                  <a:pt x="1364" y="6796"/>
                </a:cubicBezTo>
                <a:cubicBezTo>
                  <a:pt x="1356" y="6796"/>
                  <a:pt x="1347" y="6796"/>
                  <a:pt x="1339" y="6796"/>
                </a:cubicBezTo>
              </a:path>
              <a:path w="497" h="621">
                <a:moveTo>
                  <a:pt x="1265" y="6697"/>
                </a:moveTo>
                <a:cubicBezTo>
                  <a:pt x="1356" y="6679"/>
                  <a:pt x="1427" y="6618"/>
                  <a:pt x="1488" y="6548"/>
                </a:cubicBezTo>
                <a:cubicBezTo>
                  <a:pt x="1549" y="6467"/>
                  <a:pt x="1554" y="6445"/>
                  <a:pt x="1612" y="6424"/>
                </a:cubicBezTo>
              </a:path>
              <a:path w="497" h="621">
                <a:moveTo>
                  <a:pt x="1290" y="6747"/>
                </a:moveTo>
                <a:cubicBezTo>
                  <a:pt x="1364" y="6697"/>
                  <a:pt x="1476" y="6674"/>
                  <a:pt x="1563" y="6648"/>
                </a:cubicBezTo>
                <a:cubicBezTo>
                  <a:pt x="1571" y="6648"/>
                  <a:pt x="1580" y="6648"/>
                  <a:pt x="1588" y="6648"/>
                </a:cubicBezTo>
              </a:path>
              <a:path w="497" h="621">
                <a:moveTo>
                  <a:pt x="1588" y="6648"/>
                </a:moveTo>
                <a:lnTo>
                  <a:pt x="1588" y="664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960" y="2133720"/>
            <a:ext cx="249120" cy="268200"/>
          </a:xfrm>
          <a:custGeom>
            <a:avLst/>
            <a:gdLst/>
            <a:ahLst/>
            <a:rect l="l" t="t" r="r" b="b"/>
            <a:pathLst>
              <a:path w="696" h="745">
                <a:moveTo>
                  <a:pt x="2183" y="6375"/>
                </a:moveTo>
                <a:cubicBezTo>
                  <a:pt x="2075" y="6397"/>
                  <a:pt x="2038" y="6495"/>
                  <a:pt x="2009" y="6598"/>
                </a:cubicBezTo>
                <a:cubicBezTo>
                  <a:pt x="2009" y="6615"/>
                  <a:pt x="2009" y="6631"/>
                  <a:pt x="2009" y="6648"/>
                </a:cubicBezTo>
                <a:cubicBezTo>
                  <a:pt x="2122" y="6647"/>
                  <a:pt x="2297" y="6574"/>
                  <a:pt x="2232" y="6400"/>
                </a:cubicBezTo>
                <a:cubicBezTo>
                  <a:pt x="2177" y="6372"/>
                  <a:pt x="2154" y="6364"/>
                  <a:pt x="2108" y="6375"/>
                </a:cubicBezTo>
              </a:path>
              <a:path w="696" h="745">
                <a:moveTo>
                  <a:pt x="2555" y="5928"/>
                </a:moveTo>
                <a:cubicBezTo>
                  <a:pt x="2434" y="6019"/>
                  <a:pt x="2431" y="6126"/>
                  <a:pt x="2480" y="6276"/>
                </a:cubicBezTo>
                <a:cubicBezTo>
                  <a:pt x="2502" y="6344"/>
                  <a:pt x="2566" y="6438"/>
                  <a:pt x="2530" y="6474"/>
                </a:cubicBezTo>
              </a:path>
              <a:path w="696" h="745">
                <a:moveTo>
                  <a:pt x="2332" y="6325"/>
                </a:moveTo>
                <a:cubicBezTo>
                  <a:pt x="2461" y="6297"/>
                  <a:pt x="2578" y="6263"/>
                  <a:pt x="2704" y="6226"/>
                </a:cubicBezTo>
              </a:path>
              <a:path w="696" h="745">
                <a:moveTo>
                  <a:pt x="2704" y="6226"/>
                </a:moveTo>
                <a:lnTo>
                  <a:pt x="2704" y="62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60640" y="1973160"/>
            <a:ext cx="679320" cy="420840"/>
          </a:xfrm>
          <a:custGeom>
            <a:avLst/>
            <a:gdLst/>
            <a:ahLst/>
            <a:rect l="l" t="t" r="r" b="b"/>
            <a:pathLst>
              <a:path w="1886" h="1167">
                <a:moveTo>
                  <a:pt x="3249" y="6251"/>
                </a:moveTo>
                <a:cubicBezTo>
                  <a:pt x="3261" y="6372"/>
                  <a:pt x="3261" y="6539"/>
                  <a:pt x="3324" y="6648"/>
                </a:cubicBezTo>
                <a:cubicBezTo>
                  <a:pt x="3324" y="6640"/>
                  <a:pt x="3324" y="6631"/>
                  <a:pt x="3324" y="6623"/>
                </a:cubicBezTo>
                <a:cubicBezTo>
                  <a:pt x="3248" y="6374"/>
                  <a:pt x="3230" y="6248"/>
                  <a:pt x="3373" y="6028"/>
                </a:cubicBezTo>
                <a:cubicBezTo>
                  <a:pt x="3454" y="6115"/>
                  <a:pt x="3557" y="6298"/>
                  <a:pt x="3324" y="6325"/>
                </a:cubicBezTo>
                <a:cubicBezTo>
                  <a:pt x="3291" y="6317"/>
                  <a:pt x="3258" y="6308"/>
                  <a:pt x="3225" y="6300"/>
                </a:cubicBezTo>
              </a:path>
              <a:path w="1886" h="1167">
                <a:moveTo>
                  <a:pt x="3746" y="6028"/>
                </a:moveTo>
                <a:cubicBezTo>
                  <a:pt x="3586" y="6063"/>
                  <a:pt x="3572" y="6152"/>
                  <a:pt x="3572" y="6300"/>
                </a:cubicBezTo>
                <a:cubicBezTo>
                  <a:pt x="3750" y="6319"/>
                  <a:pt x="3767" y="6212"/>
                  <a:pt x="3795" y="6052"/>
                </a:cubicBezTo>
                <a:cubicBezTo>
                  <a:pt x="3795" y="6107"/>
                  <a:pt x="3774" y="6194"/>
                  <a:pt x="3845" y="6201"/>
                </a:cubicBezTo>
                <a:cubicBezTo>
                  <a:pt x="3919" y="6209"/>
                  <a:pt x="3966" y="6245"/>
                  <a:pt x="3994" y="6226"/>
                </a:cubicBezTo>
                <a:cubicBezTo>
                  <a:pt x="3970" y="6084"/>
                  <a:pt x="4000" y="6052"/>
                  <a:pt x="4068" y="5928"/>
                </a:cubicBezTo>
              </a:path>
              <a:path w="1886" h="1167">
                <a:moveTo>
                  <a:pt x="4217" y="5680"/>
                </a:moveTo>
                <a:cubicBezTo>
                  <a:pt x="4254" y="5859"/>
                  <a:pt x="4277" y="6043"/>
                  <a:pt x="4366" y="6201"/>
                </a:cubicBezTo>
              </a:path>
              <a:path w="1886" h="1167">
                <a:moveTo>
                  <a:pt x="4118" y="5978"/>
                </a:moveTo>
                <a:cubicBezTo>
                  <a:pt x="4300" y="5928"/>
                  <a:pt x="4472" y="5808"/>
                  <a:pt x="4638" y="5755"/>
                </a:cubicBezTo>
                <a:cubicBezTo>
                  <a:pt x="4638" y="5763"/>
                  <a:pt x="4638" y="5771"/>
                  <a:pt x="4638" y="5779"/>
                </a:cubicBezTo>
                <a:cubicBezTo>
                  <a:pt x="4513" y="5907"/>
                  <a:pt x="4619" y="5811"/>
                  <a:pt x="4738" y="5904"/>
                </a:cubicBezTo>
                <a:cubicBezTo>
                  <a:pt x="4908" y="6037"/>
                  <a:pt x="4679" y="6131"/>
                  <a:pt x="4589" y="6176"/>
                </a:cubicBezTo>
              </a:path>
              <a:path w="1886" h="1167">
                <a:moveTo>
                  <a:pt x="4738" y="5482"/>
                </a:moveTo>
                <a:cubicBezTo>
                  <a:pt x="4961" y="5562"/>
                  <a:pt x="5107" y="5793"/>
                  <a:pt x="5110" y="6052"/>
                </a:cubicBezTo>
                <a:cubicBezTo>
                  <a:pt x="5112" y="6222"/>
                  <a:pt x="5001" y="6320"/>
                  <a:pt x="4887" y="64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7120" y="2509920"/>
            <a:ext cx="1374840" cy="411120"/>
          </a:xfrm>
          <a:custGeom>
            <a:avLst/>
            <a:gdLst/>
            <a:ahLst/>
            <a:rect l="l" t="t" r="r" b="b"/>
            <a:pathLst>
              <a:path w="3821" h="1142">
                <a:moveTo>
                  <a:pt x="992" y="7689"/>
                </a:moveTo>
                <a:cubicBezTo>
                  <a:pt x="1057" y="7820"/>
                  <a:pt x="1111" y="7943"/>
                  <a:pt x="1141" y="8086"/>
                </a:cubicBezTo>
                <a:cubicBezTo>
                  <a:pt x="1141" y="8094"/>
                  <a:pt x="1141" y="8103"/>
                  <a:pt x="1141" y="8111"/>
                </a:cubicBezTo>
                <a:cubicBezTo>
                  <a:pt x="1087" y="7990"/>
                  <a:pt x="985" y="7798"/>
                  <a:pt x="1042" y="7665"/>
                </a:cubicBezTo>
                <a:cubicBezTo>
                  <a:pt x="1125" y="7471"/>
                  <a:pt x="1463" y="7538"/>
                  <a:pt x="1488" y="7739"/>
                </a:cubicBezTo>
                <a:cubicBezTo>
                  <a:pt x="1496" y="7800"/>
                  <a:pt x="1405" y="7974"/>
                  <a:pt x="1389" y="8037"/>
                </a:cubicBezTo>
              </a:path>
              <a:path w="3821" h="1142">
                <a:moveTo>
                  <a:pt x="1364" y="7590"/>
                </a:moveTo>
                <a:cubicBezTo>
                  <a:pt x="1392" y="7728"/>
                  <a:pt x="1441" y="7855"/>
                  <a:pt x="1488" y="7987"/>
                </a:cubicBezTo>
                <a:cubicBezTo>
                  <a:pt x="1674" y="7913"/>
                  <a:pt x="1673" y="7781"/>
                  <a:pt x="1687" y="7590"/>
                </a:cubicBezTo>
                <a:cubicBezTo>
                  <a:pt x="1687" y="7582"/>
                  <a:pt x="1687" y="7573"/>
                  <a:pt x="1687" y="7565"/>
                </a:cubicBezTo>
                <a:cubicBezTo>
                  <a:pt x="1695" y="7602"/>
                  <a:pt x="1759" y="7896"/>
                  <a:pt x="1836" y="7888"/>
                </a:cubicBezTo>
                <a:cubicBezTo>
                  <a:pt x="1861" y="7871"/>
                  <a:pt x="1885" y="7855"/>
                  <a:pt x="1910" y="7838"/>
                </a:cubicBezTo>
              </a:path>
              <a:path w="3821" h="1142">
                <a:moveTo>
                  <a:pt x="1935" y="7516"/>
                </a:moveTo>
                <a:cubicBezTo>
                  <a:pt x="1952" y="7619"/>
                  <a:pt x="1971" y="7750"/>
                  <a:pt x="2009" y="7838"/>
                </a:cubicBezTo>
                <a:cubicBezTo>
                  <a:pt x="1957" y="7721"/>
                  <a:pt x="1920" y="7619"/>
                  <a:pt x="1960" y="7491"/>
                </a:cubicBezTo>
                <a:cubicBezTo>
                  <a:pt x="2026" y="7280"/>
                  <a:pt x="2204" y="7701"/>
                  <a:pt x="2208" y="7714"/>
                </a:cubicBezTo>
                <a:cubicBezTo>
                  <a:pt x="2216" y="7739"/>
                  <a:pt x="2224" y="7764"/>
                  <a:pt x="2232" y="7789"/>
                </a:cubicBezTo>
                <a:cubicBezTo>
                  <a:pt x="2224" y="7772"/>
                  <a:pt x="2216" y="7756"/>
                  <a:pt x="2208" y="7739"/>
                </a:cubicBezTo>
                <a:cubicBezTo>
                  <a:pt x="2208" y="7731"/>
                  <a:pt x="2225" y="7267"/>
                  <a:pt x="2332" y="7417"/>
                </a:cubicBezTo>
                <a:cubicBezTo>
                  <a:pt x="2388" y="7496"/>
                  <a:pt x="2430" y="7739"/>
                  <a:pt x="2381" y="7739"/>
                </a:cubicBezTo>
              </a:path>
              <a:path w="3821" h="1142">
                <a:moveTo>
                  <a:pt x="2505" y="7516"/>
                </a:moveTo>
                <a:cubicBezTo>
                  <a:pt x="2529" y="7507"/>
                  <a:pt x="2729" y="7446"/>
                  <a:pt x="2729" y="7441"/>
                </a:cubicBezTo>
                <a:cubicBezTo>
                  <a:pt x="2721" y="7416"/>
                  <a:pt x="2712" y="7392"/>
                  <a:pt x="2704" y="7367"/>
                </a:cubicBezTo>
                <a:cubicBezTo>
                  <a:pt x="2606" y="7293"/>
                  <a:pt x="2528" y="7489"/>
                  <a:pt x="2530" y="7565"/>
                </a:cubicBezTo>
                <a:cubicBezTo>
                  <a:pt x="2538" y="7911"/>
                  <a:pt x="2841" y="7622"/>
                  <a:pt x="2927" y="7541"/>
                </a:cubicBezTo>
              </a:path>
              <a:path w="3821" h="1142">
                <a:moveTo>
                  <a:pt x="2952" y="7441"/>
                </a:moveTo>
                <a:cubicBezTo>
                  <a:pt x="2969" y="7519"/>
                  <a:pt x="2987" y="7615"/>
                  <a:pt x="3001" y="7615"/>
                </a:cubicBezTo>
                <a:cubicBezTo>
                  <a:pt x="2975" y="7519"/>
                  <a:pt x="2905" y="7299"/>
                  <a:pt x="3076" y="7268"/>
                </a:cubicBezTo>
                <a:cubicBezTo>
                  <a:pt x="3117" y="7268"/>
                  <a:pt x="3159" y="7268"/>
                  <a:pt x="3200" y="7268"/>
                </a:cubicBezTo>
              </a:path>
              <a:path w="3821" h="1142">
                <a:moveTo>
                  <a:pt x="3473" y="7317"/>
                </a:moveTo>
                <a:cubicBezTo>
                  <a:pt x="3392" y="7349"/>
                  <a:pt x="3171" y="7517"/>
                  <a:pt x="3299" y="7640"/>
                </a:cubicBezTo>
                <a:cubicBezTo>
                  <a:pt x="3441" y="7776"/>
                  <a:pt x="3498" y="7476"/>
                  <a:pt x="3522" y="7417"/>
                </a:cubicBezTo>
                <a:cubicBezTo>
                  <a:pt x="3522" y="7400"/>
                  <a:pt x="3522" y="7384"/>
                  <a:pt x="3522" y="7367"/>
                </a:cubicBezTo>
                <a:cubicBezTo>
                  <a:pt x="3541" y="7462"/>
                  <a:pt x="3626" y="7681"/>
                  <a:pt x="3770" y="7565"/>
                </a:cubicBezTo>
                <a:cubicBezTo>
                  <a:pt x="3932" y="7434"/>
                  <a:pt x="3852" y="7204"/>
                  <a:pt x="3820" y="7045"/>
                </a:cubicBezTo>
                <a:cubicBezTo>
                  <a:pt x="3853" y="7193"/>
                  <a:pt x="3905" y="7342"/>
                  <a:pt x="3944" y="7491"/>
                </a:cubicBezTo>
              </a:path>
              <a:path w="3821" h="1142">
                <a:moveTo>
                  <a:pt x="3597" y="7218"/>
                </a:moveTo>
                <a:cubicBezTo>
                  <a:pt x="3774" y="7254"/>
                  <a:pt x="3945" y="7233"/>
                  <a:pt x="4118" y="7169"/>
                </a:cubicBezTo>
                <a:cubicBezTo>
                  <a:pt x="4126" y="7161"/>
                  <a:pt x="4134" y="7152"/>
                  <a:pt x="4142" y="7144"/>
                </a:cubicBezTo>
                <a:cubicBezTo>
                  <a:pt x="4135" y="7265"/>
                  <a:pt x="4129" y="7333"/>
                  <a:pt x="4167" y="7441"/>
                </a:cubicBezTo>
                <a:cubicBezTo>
                  <a:pt x="4291" y="7449"/>
                  <a:pt x="4529" y="7374"/>
                  <a:pt x="4341" y="7193"/>
                </a:cubicBezTo>
                <a:cubicBezTo>
                  <a:pt x="4227" y="7148"/>
                  <a:pt x="4195" y="7134"/>
                  <a:pt x="4118" y="7119"/>
                </a:cubicBezTo>
                <a:cubicBezTo>
                  <a:pt x="4259" y="7145"/>
                  <a:pt x="4354" y="7203"/>
                  <a:pt x="4465" y="7293"/>
                </a:cubicBezTo>
                <a:cubicBezTo>
                  <a:pt x="4533" y="7150"/>
                  <a:pt x="4564" y="7030"/>
                  <a:pt x="4738" y="6970"/>
                </a:cubicBezTo>
                <a:cubicBezTo>
                  <a:pt x="4763" y="6970"/>
                  <a:pt x="4787" y="6970"/>
                  <a:pt x="4812" y="69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7760" y="2724120"/>
            <a:ext cx="188640" cy="160200"/>
          </a:xfrm>
          <a:custGeom>
            <a:avLst/>
            <a:gdLst/>
            <a:ahLst/>
            <a:rect l="l" t="t" r="r" b="b"/>
            <a:pathLst>
              <a:path w="522" h="448">
                <a:moveTo>
                  <a:pt x="4341" y="7665"/>
                </a:moveTo>
                <a:cubicBezTo>
                  <a:pt x="4365" y="7760"/>
                  <a:pt x="4463" y="7827"/>
                  <a:pt x="4539" y="7888"/>
                </a:cubicBezTo>
                <a:cubicBezTo>
                  <a:pt x="4597" y="7934"/>
                  <a:pt x="4639" y="7963"/>
                  <a:pt x="4688" y="8012"/>
                </a:cubicBezTo>
              </a:path>
              <a:path w="522" h="448">
                <a:moveTo>
                  <a:pt x="4266" y="7689"/>
                </a:moveTo>
                <a:cubicBezTo>
                  <a:pt x="4231" y="7620"/>
                  <a:pt x="4219" y="7841"/>
                  <a:pt x="4217" y="7888"/>
                </a:cubicBezTo>
                <a:cubicBezTo>
                  <a:pt x="4217" y="7913"/>
                  <a:pt x="4217" y="7921"/>
                  <a:pt x="4217" y="7888"/>
                </a:cubicBezTo>
                <a:cubicBezTo>
                  <a:pt x="4251" y="7784"/>
                  <a:pt x="4275" y="7674"/>
                  <a:pt x="4291" y="7565"/>
                </a:cubicBezTo>
                <a:cubicBezTo>
                  <a:pt x="4408" y="7565"/>
                  <a:pt x="4523" y="7618"/>
                  <a:pt x="4638" y="7615"/>
                </a:cubicBezTo>
                <a:cubicBezTo>
                  <a:pt x="4696" y="7596"/>
                  <a:pt x="4703" y="7587"/>
                  <a:pt x="4738" y="75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65200" y="3625920"/>
            <a:ext cx="169920" cy="14292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539" y="10170"/>
                </a:moveTo>
                <a:cubicBezTo>
                  <a:pt x="4539" y="10162"/>
                  <a:pt x="4539" y="10153"/>
                  <a:pt x="4539" y="10145"/>
                </a:cubicBezTo>
                <a:cubicBezTo>
                  <a:pt x="4416" y="10207"/>
                  <a:pt x="4287" y="10295"/>
                  <a:pt x="4142" y="10344"/>
                </a:cubicBezTo>
                <a:cubicBezTo>
                  <a:pt x="4134" y="10344"/>
                  <a:pt x="4126" y="10344"/>
                  <a:pt x="4118" y="10344"/>
                </a:cubicBezTo>
              </a:path>
              <a:path w="472" h="398">
                <a:moveTo>
                  <a:pt x="4242" y="10071"/>
                </a:moveTo>
                <a:cubicBezTo>
                  <a:pt x="4225" y="10105"/>
                  <a:pt x="4054" y="10320"/>
                  <a:pt x="4068" y="10368"/>
                </a:cubicBezTo>
                <a:cubicBezTo>
                  <a:pt x="4100" y="10481"/>
                  <a:pt x="4303" y="10468"/>
                  <a:pt x="4390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8280" y="3963960"/>
            <a:ext cx="1598760" cy="376200"/>
          </a:xfrm>
          <a:custGeom>
            <a:avLst/>
            <a:gdLst/>
            <a:ahLst/>
            <a:rect l="l" t="t" r="r" b="b"/>
            <a:pathLst>
              <a:path w="4441" h="1043">
                <a:moveTo>
                  <a:pt x="695" y="11683"/>
                </a:moveTo>
                <a:cubicBezTo>
                  <a:pt x="659" y="11626"/>
                  <a:pt x="583" y="11495"/>
                  <a:pt x="496" y="11509"/>
                </a:cubicBezTo>
                <a:cubicBezTo>
                  <a:pt x="330" y="11536"/>
                  <a:pt x="213" y="11843"/>
                  <a:pt x="298" y="11981"/>
                </a:cubicBezTo>
                <a:cubicBezTo>
                  <a:pt x="479" y="12273"/>
                  <a:pt x="613" y="11691"/>
                  <a:pt x="620" y="11658"/>
                </a:cubicBezTo>
              </a:path>
              <a:path w="4441" h="1043">
                <a:moveTo>
                  <a:pt x="496" y="11212"/>
                </a:moveTo>
                <a:cubicBezTo>
                  <a:pt x="535" y="11425"/>
                  <a:pt x="591" y="11643"/>
                  <a:pt x="620" y="11857"/>
                </a:cubicBezTo>
                <a:cubicBezTo>
                  <a:pt x="620" y="11931"/>
                  <a:pt x="620" y="11940"/>
                  <a:pt x="620" y="11981"/>
                </a:cubicBezTo>
              </a:path>
              <a:path w="4441" h="1043">
                <a:moveTo>
                  <a:pt x="620" y="11981"/>
                </a:moveTo>
                <a:lnTo>
                  <a:pt x="620" y="11981"/>
                </a:lnTo>
              </a:path>
              <a:path w="4441" h="1043">
                <a:moveTo>
                  <a:pt x="843" y="11807"/>
                </a:moveTo>
                <a:cubicBezTo>
                  <a:pt x="913" y="11807"/>
                  <a:pt x="962" y="11815"/>
                  <a:pt x="1017" y="11782"/>
                </a:cubicBezTo>
                <a:cubicBezTo>
                  <a:pt x="973" y="11703"/>
                  <a:pt x="874" y="11529"/>
                  <a:pt x="794" y="11708"/>
                </a:cubicBezTo>
                <a:cubicBezTo>
                  <a:pt x="762" y="11781"/>
                  <a:pt x="711" y="12115"/>
                  <a:pt x="893" y="12055"/>
                </a:cubicBezTo>
                <a:cubicBezTo>
                  <a:pt x="934" y="12030"/>
                  <a:pt x="976" y="12006"/>
                  <a:pt x="1017" y="11981"/>
                </a:cubicBezTo>
              </a:path>
              <a:path w="4441" h="1043">
                <a:moveTo>
                  <a:pt x="1091" y="11708"/>
                </a:moveTo>
                <a:cubicBezTo>
                  <a:pt x="1122" y="11797"/>
                  <a:pt x="1151" y="11902"/>
                  <a:pt x="1191" y="11981"/>
                </a:cubicBezTo>
                <a:cubicBezTo>
                  <a:pt x="1173" y="11837"/>
                  <a:pt x="1167" y="11790"/>
                  <a:pt x="1240" y="11658"/>
                </a:cubicBezTo>
                <a:cubicBezTo>
                  <a:pt x="1375" y="11707"/>
                  <a:pt x="1397" y="11801"/>
                  <a:pt x="1339" y="11956"/>
                </a:cubicBezTo>
                <a:cubicBezTo>
                  <a:pt x="1331" y="11964"/>
                  <a:pt x="1323" y="11973"/>
                  <a:pt x="1315" y="11981"/>
                </a:cubicBezTo>
              </a:path>
              <a:path w="4441" h="1043">
                <a:moveTo>
                  <a:pt x="1315" y="11981"/>
                </a:moveTo>
                <a:lnTo>
                  <a:pt x="1315" y="11981"/>
                </a:lnTo>
              </a:path>
              <a:path w="4441" h="1043">
                <a:moveTo>
                  <a:pt x="1538" y="11609"/>
                </a:moveTo>
                <a:cubicBezTo>
                  <a:pt x="1423" y="11721"/>
                  <a:pt x="1394" y="11780"/>
                  <a:pt x="1364" y="11931"/>
                </a:cubicBezTo>
                <a:cubicBezTo>
                  <a:pt x="1470" y="11951"/>
                  <a:pt x="1805" y="12007"/>
                  <a:pt x="1761" y="11782"/>
                </a:cubicBezTo>
                <a:cubicBezTo>
                  <a:pt x="1694" y="11692"/>
                  <a:pt x="1678" y="11665"/>
                  <a:pt x="1612" y="11633"/>
                </a:cubicBezTo>
              </a:path>
              <a:path w="4441" h="1043">
                <a:moveTo>
                  <a:pt x="1836" y="11658"/>
                </a:moveTo>
                <a:cubicBezTo>
                  <a:pt x="1856" y="11783"/>
                  <a:pt x="1856" y="11810"/>
                  <a:pt x="1885" y="11881"/>
                </a:cubicBezTo>
                <a:cubicBezTo>
                  <a:pt x="1885" y="11785"/>
                  <a:pt x="1842" y="11650"/>
                  <a:pt x="1935" y="11584"/>
                </a:cubicBezTo>
                <a:cubicBezTo>
                  <a:pt x="2051" y="11502"/>
                  <a:pt x="2162" y="11735"/>
                  <a:pt x="2183" y="11807"/>
                </a:cubicBezTo>
                <a:cubicBezTo>
                  <a:pt x="2164" y="11730"/>
                  <a:pt x="2144" y="11662"/>
                  <a:pt x="2133" y="11584"/>
                </a:cubicBezTo>
                <a:cubicBezTo>
                  <a:pt x="2256" y="11621"/>
                  <a:pt x="2370" y="11683"/>
                  <a:pt x="2356" y="11832"/>
                </a:cubicBezTo>
                <a:cubicBezTo>
                  <a:pt x="2348" y="11840"/>
                  <a:pt x="2340" y="11849"/>
                  <a:pt x="2332" y="11857"/>
                </a:cubicBezTo>
              </a:path>
              <a:path w="4441" h="1043">
                <a:moveTo>
                  <a:pt x="2456" y="11534"/>
                </a:moveTo>
                <a:cubicBezTo>
                  <a:pt x="2464" y="11573"/>
                  <a:pt x="2505" y="11913"/>
                  <a:pt x="2505" y="11782"/>
                </a:cubicBezTo>
              </a:path>
              <a:path w="4441" h="1043">
                <a:moveTo>
                  <a:pt x="2505" y="11782"/>
                </a:moveTo>
                <a:lnTo>
                  <a:pt x="2505" y="11782"/>
                </a:lnTo>
              </a:path>
              <a:path w="4441" h="1043">
                <a:moveTo>
                  <a:pt x="2406" y="11385"/>
                </a:moveTo>
                <a:cubicBezTo>
                  <a:pt x="2423" y="11393"/>
                  <a:pt x="2439" y="11402"/>
                  <a:pt x="2456" y="11410"/>
                </a:cubicBezTo>
              </a:path>
              <a:path w="4441" h="1043">
                <a:moveTo>
                  <a:pt x="2629" y="11733"/>
                </a:moveTo>
                <a:cubicBezTo>
                  <a:pt x="2637" y="11749"/>
                  <a:pt x="2646" y="11766"/>
                  <a:pt x="2654" y="11782"/>
                </a:cubicBezTo>
                <a:cubicBezTo>
                  <a:pt x="2662" y="11711"/>
                  <a:pt x="2673" y="11460"/>
                  <a:pt x="2803" y="11460"/>
                </a:cubicBezTo>
                <a:cubicBezTo>
                  <a:pt x="2881" y="11460"/>
                  <a:pt x="3087" y="11689"/>
                  <a:pt x="3001" y="11757"/>
                </a:cubicBezTo>
                <a:cubicBezTo>
                  <a:pt x="2993" y="11749"/>
                  <a:pt x="2985" y="11741"/>
                  <a:pt x="2977" y="11733"/>
                </a:cubicBezTo>
              </a:path>
              <a:path w="4441" h="1043">
                <a:moveTo>
                  <a:pt x="3324" y="11410"/>
                </a:moveTo>
                <a:cubicBezTo>
                  <a:pt x="3324" y="11236"/>
                  <a:pt x="3165" y="11414"/>
                  <a:pt x="3125" y="11485"/>
                </a:cubicBezTo>
                <a:cubicBezTo>
                  <a:pt x="3084" y="11609"/>
                  <a:pt x="3060" y="11634"/>
                  <a:pt x="3101" y="11708"/>
                </a:cubicBezTo>
                <a:cubicBezTo>
                  <a:pt x="3331" y="11673"/>
                  <a:pt x="3376" y="11648"/>
                  <a:pt x="3349" y="11410"/>
                </a:cubicBezTo>
                <a:cubicBezTo>
                  <a:pt x="3457" y="11611"/>
                  <a:pt x="3476" y="11639"/>
                  <a:pt x="3671" y="11559"/>
                </a:cubicBezTo>
              </a:path>
              <a:path w="4441" h="1043">
                <a:moveTo>
                  <a:pt x="3621" y="11013"/>
                </a:moveTo>
                <a:cubicBezTo>
                  <a:pt x="3670" y="11201"/>
                  <a:pt x="3705" y="11402"/>
                  <a:pt x="3770" y="11584"/>
                </a:cubicBezTo>
                <a:cubicBezTo>
                  <a:pt x="3770" y="11576"/>
                  <a:pt x="3770" y="11567"/>
                  <a:pt x="3770" y="11559"/>
                </a:cubicBezTo>
              </a:path>
              <a:path w="4441" h="1043">
                <a:moveTo>
                  <a:pt x="3770" y="11559"/>
                </a:moveTo>
                <a:lnTo>
                  <a:pt x="3770" y="11559"/>
                </a:lnTo>
              </a:path>
              <a:path w="4441" h="1043">
                <a:moveTo>
                  <a:pt x="3473" y="11261"/>
                </a:moveTo>
                <a:cubicBezTo>
                  <a:pt x="3614" y="11240"/>
                  <a:pt x="3750" y="11199"/>
                  <a:pt x="3894" y="11187"/>
                </a:cubicBezTo>
                <a:cubicBezTo>
                  <a:pt x="3904" y="11371"/>
                  <a:pt x="3881" y="11604"/>
                  <a:pt x="4142" y="11509"/>
                </a:cubicBezTo>
                <a:cubicBezTo>
                  <a:pt x="4372" y="11425"/>
                  <a:pt x="4223" y="11236"/>
                  <a:pt x="4068" y="11187"/>
                </a:cubicBezTo>
                <a:cubicBezTo>
                  <a:pt x="4035" y="11187"/>
                  <a:pt x="4002" y="11187"/>
                  <a:pt x="3969" y="11187"/>
                </a:cubicBezTo>
              </a:path>
              <a:path w="4441" h="1043">
                <a:moveTo>
                  <a:pt x="4366" y="11336"/>
                </a:moveTo>
                <a:cubicBezTo>
                  <a:pt x="4462" y="11498"/>
                  <a:pt x="4385" y="11407"/>
                  <a:pt x="4390" y="11311"/>
                </a:cubicBezTo>
                <a:cubicBezTo>
                  <a:pt x="4400" y="11124"/>
                  <a:pt x="4529" y="11074"/>
                  <a:pt x="4688" y="11038"/>
                </a:cubicBezTo>
                <a:cubicBezTo>
                  <a:pt x="4713" y="11038"/>
                  <a:pt x="4721" y="11038"/>
                  <a:pt x="4713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6920" y="4321080"/>
            <a:ext cx="1177920" cy="331920"/>
          </a:xfrm>
          <a:custGeom>
            <a:avLst/>
            <a:gdLst/>
            <a:ahLst/>
            <a:rect l="l" t="t" r="r" b="b"/>
            <a:pathLst>
              <a:path w="3275" h="919">
                <a:moveTo>
                  <a:pt x="595" y="12353"/>
                </a:moveTo>
                <a:cubicBezTo>
                  <a:pt x="595" y="12328"/>
                  <a:pt x="595" y="12320"/>
                  <a:pt x="595" y="12303"/>
                </a:cubicBezTo>
                <a:cubicBezTo>
                  <a:pt x="560" y="12461"/>
                  <a:pt x="488" y="12644"/>
                  <a:pt x="595" y="12799"/>
                </a:cubicBezTo>
                <a:cubicBezTo>
                  <a:pt x="667" y="12904"/>
                  <a:pt x="778" y="12923"/>
                  <a:pt x="893" y="12923"/>
                </a:cubicBezTo>
              </a:path>
              <a:path w="3275" h="919">
                <a:moveTo>
                  <a:pt x="893" y="12601"/>
                </a:moveTo>
                <a:cubicBezTo>
                  <a:pt x="905" y="12662"/>
                  <a:pt x="924" y="12676"/>
                  <a:pt x="967" y="12725"/>
                </a:cubicBezTo>
                <a:cubicBezTo>
                  <a:pt x="909" y="12701"/>
                  <a:pt x="838" y="12630"/>
                  <a:pt x="868" y="12551"/>
                </a:cubicBezTo>
                <a:cubicBezTo>
                  <a:pt x="912" y="12435"/>
                  <a:pt x="1010" y="12403"/>
                  <a:pt x="1116" y="12452"/>
                </a:cubicBezTo>
                <a:cubicBezTo>
                  <a:pt x="1199" y="12491"/>
                  <a:pt x="1224" y="12552"/>
                  <a:pt x="1265" y="12626"/>
                </a:cubicBezTo>
              </a:path>
              <a:path w="3275" h="919">
                <a:moveTo>
                  <a:pt x="1414" y="12452"/>
                </a:moveTo>
                <a:cubicBezTo>
                  <a:pt x="1386" y="12395"/>
                  <a:pt x="1370" y="12377"/>
                  <a:pt x="1315" y="12378"/>
                </a:cubicBezTo>
                <a:cubicBezTo>
                  <a:pt x="1226" y="12413"/>
                  <a:pt x="1221" y="12549"/>
                  <a:pt x="1290" y="12626"/>
                </a:cubicBezTo>
                <a:cubicBezTo>
                  <a:pt x="1412" y="12760"/>
                  <a:pt x="1504" y="12561"/>
                  <a:pt x="1463" y="12452"/>
                </a:cubicBezTo>
                <a:cubicBezTo>
                  <a:pt x="1455" y="12444"/>
                  <a:pt x="1447" y="12435"/>
                  <a:pt x="1439" y="12427"/>
                </a:cubicBezTo>
                <a:cubicBezTo>
                  <a:pt x="1507" y="12469"/>
                  <a:pt x="1583" y="12650"/>
                  <a:pt x="1612" y="12576"/>
                </a:cubicBezTo>
                <a:cubicBezTo>
                  <a:pt x="1612" y="12535"/>
                  <a:pt x="1612" y="12493"/>
                  <a:pt x="1612" y="12452"/>
                </a:cubicBezTo>
              </a:path>
              <a:path w="3275" h="919">
                <a:moveTo>
                  <a:pt x="1612" y="12427"/>
                </a:moveTo>
                <a:cubicBezTo>
                  <a:pt x="1636" y="12485"/>
                  <a:pt x="1668" y="12545"/>
                  <a:pt x="1687" y="12601"/>
                </a:cubicBezTo>
                <a:cubicBezTo>
                  <a:pt x="1680" y="12576"/>
                  <a:pt x="1580" y="12395"/>
                  <a:pt x="1662" y="12402"/>
                </a:cubicBezTo>
                <a:cubicBezTo>
                  <a:pt x="1767" y="12411"/>
                  <a:pt x="1780" y="12530"/>
                  <a:pt x="1885" y="12526"/>
                </a:cubicBezTo>
                <a:cubicBezTo>
                  <a:pt x="1882" y="12505"/>
                  <a:pt x="1823" y="12299"/>
                  <a:pt x="1910" y="12328"/>
                </a:cubicBezTo>
                <a:cubicBezTo>
                  <a:pt x="2025" y="12367"/>
                  <a:pt x="2034" y="12428"/>
                  <a:pt x="2084" y="12526"/>
                </a:cubicBezTo>
              </a:path>
              <a:path w="3275" h="919">
                <a:moveTo>
                  <a:pt x="2108" y="12378"/>
                </a:moveTo>
                <a:cubicBezTo>
                  <a:pt x="2168" y="12366"/>
                  <a:pt x="2231" y="12354"/>
                  <a:pt x="2282" y="12328"/>
                </a:cubicBezTo>
                <a:cubicBezTo>
                  <a:pt x="2245" y="12322"/>
                  <a:pt x="2156" y="12270"/>
                  <a:pt x="2133" y="12328"/>
                </a:cubicBezTo>
                <a:cubicBezTo>
                  <a:pt x="2078" y="12466"/>
                  <a:pt x="2156" y="12608"/>
                  <a:pt x="2307" y="12551"/>
                </a:cubicBezTo>
                <a:cubicBezTo>
                  <a:pt x="2332" y="12535"/>
                  <a:pt x="2356" y="12518"/>
                  <a:pt x="2381" y="12502"/>
                </a:cubicBezTo>
              </a:path>
              <a:path w="3275" h="919">
                <a:moveTo>
                  <a:pt x="2853" y="12030"/>
                </a:moveTo>
                <a:cubicBezTo>
                  <a:pt x="2926" y="12153"/>
                  <a:pt x="2993" y="12288"/>
                  <a:pt x="3076" y="12402"/>
                </a:cubicBezTo>
              </a:path>
              <a:path w="3275" h="919">
                <a:moveTo>
                  <a:pt x="2704" y="12303"/>
                </a:moveTo>
                <a:cubicBezTo>
                  <a:pt x="2840" y="12303"/>
                  <a:pt x="3108" y="12346"/>
                  <a:pt x="3200" y="12204"/>
                </a:cubicBezTo>
                <a:cubicBezTo>
                  <a:pt x="3200" y="12179"/>
                  <a:pt x="3200" y="12154"/>
                  <a:pt x="3200" y="12129"/>
                </a:cubicBezTo>
              </a:path>
              <a:path w="3275" h="919">
                <a:moveTo>
                  <a:pt x="3200" y="12129"/>
                </a:moveTo>
                <a:lnTo>
                  <a:pt x="3200" y="12129"/>
                </a:lnTo>
              </a:path>
              <a:path w="3275" h="919">
                <a:moveTo>
                  <a:pt x="3125" y="12005"/>
                </a:moveTo>
                <a:cubicBezTo>
                  <a:pt x="3191" y="12113"/>
                  <a:pt x="3239" y="12217"/>
                  <a:pt x="3299" y="12328"/>
                </a:cubicBezTo>
                <a:cubicBezTo>
                  <a:pt x="3293" y="12295"/>
                  <a:pt x="3241" y="12132"/>
                  <a:pt x="3324" y="12129"/>
                </a:cubicBezTo>
                <a:cubicBezTo>
                  <a:pt x="3431" y="12125"/>
                  <a:pt x="3527" y="12206"/>
                  <a:pt x="3547" y="12303"/>
                </a:cubicBezTo>
              </a:path>
              <a:path w="3275" h="919">
                <a:moveTo>
                  <a:pt x="3572" y="12179"/>
                </a:moveTo>
                <a:cubicBezTo>
                  <a:pt x="3621" y="12163"/>
                  <a:pt x="3710" y="12131"/>
                  <a:pt x="3721" y="12080"/>
                </a:cubicBezTo>
                <a:cubicBezTo>
                  <a:pt x="3721" y="12072"/>
                  <a:pt x="3721" y="12063"/>
                  <a:pt x="3721" y="12055"/>
                </a:cubicBezTo>
                <a:cubicBezTo>
                  <a:pt x="3596" y="12086"/>
                  <a:pt x="3584" y="12153"/>
                  <a:pt x="3572" y="12278"/>
                </a:cubicBezTo>
                <a:cubicBezTo>
                  <a:pt x="3565" y="12347"/>
                  <a:pt x="3779" y="12290"/>
                  <a:pt x="3820" y="12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54120" y="3983040"/>
            <a:ext cx="741240" cy="374760"/>
          </a:xfrm>
          <a:custGeom>
            <a:avLst/>
            <a:gdLst/>
            <a:ahLst/>
            <a:rect l="l" t="t" r="r" b="b"/>
            <a:pathLst>
              <a:path w="2060" h="1043">
                <a:moveTo>
                  <a:pt x="4341" y="11881"/>
                </a:moveTo>
                <a:cubicBezTo>
                  <a:pt x="4313" y="11994"/>
                  <a:pt x="4336" y="12018"/>
                  <a:pt x="4415" y="12105"/>
                </a:cubicBezTo>
                <a:cubicBezTo>
                  <a:pt x="4553" y="12074"/>
                  <a:pt x="4574" y="12019"/>
                  <a:pt x="4539" y="11881"/>
                </a:cubicBezTo>
                <a:cubicBezTo>
                  <a:pt x="4539" y="11889"/>
                  <a:pt x="4539" y="11898"/>
                  <a:pt x="4539" y="11906"/>
                </a:cubicBezTo>
                <a:cubicBezTo>
                  <a:pt x="4603" y="11980"/>
                  <a:pt x="4821" y="12215"/>
                  <a:pt x="4812" y="11956"/>
                </a:cubicBezTo>
                <a:cubicBezTo>
                  <a:pt x="4807" y="11799"/>
                  <a:pt x="4692" y="11770"/>
                  <a:pt x="4564" y="11757"/>
                </a:cubicBezTo>
              </a:path>
              <a:path w="2060" h="1043">
                <a:moveTo>
                  <a:pt x="4837" y="11485"/>
                </a:moveTo>
                <a:cubicBezTo>
                  <a:pt x="4880" y="11623"/>
                  <a:pt x="4964" y="11750"/>
                  <a:pt x="5035" y="11881"/>
                </a:cubicBezTo>
                <a:cubicBezTo>
                  <a:pt x="5023" y="11831"/>
                  <a:pt x="4918" y="11600"/>
                  <a:pt x="5085" y="11658"/>
                </a:cubicBezTo>
                <a:cubicBezTo>
                  <a:pt x="5185" y="11693"/>
                  <a:pt x="5307" y="11816"/>
                  <a:pt x="5184" y="11857"/>
                </a:cubicBezTo>
              </a:path>
              <a:path w="2060" h="1043">
                <a:moveTo>
                  <a:pt x="5283" y="11559"/>
                </a:moveTo>
                <a:cubicBezTo>
                  <a:pt x="5240" y="11691"/>
                  <a:pt x="5219" y="11723"/>
                  <a:pt x="5259" y="11807"/>
                </a:cubicBezTo>
                <a:cubicBezTo>
                  <a:pt x="5353" y="11841"/>
                  <a:pt x="5615" y="11847"/>
                  <a:pt x="5482" y="11658"/>
                </a:cubicBezTo>
                <a:cubicBezTo>
                  <a:pt x="5404" y="11607"/>
                  <a:pt x="5374" y="11589"/>
                  <a:pt x="5308" y="11584"/>
                </a:cubicBezTo>
              </a:path>
              <a:path w="2060" h="1043">
                <a:moveTo>
                  <a:pt x="5308" y="11584"/>
                </a:moveTo>
                <a:lnTo>
                  <a:pt x="5308" y="11584"/>
                </a:lnTo>
              </a:path>
              <a:path w="2060" h="1043">
                <a:moveTo>
                  <a:pt x="5482" y="11237"/>
                </a:moveTo>
                <a:cubicBezTo>
                  <a:pt x="5580" y="11412"/>
                  <a:pt x="5652" y="11613"/>
                  <a:pt x="5755" y="11782"/>
                </a:cubicBezTo>
                <a:cubicBezTo>
                  <a:pt x="5755" y="11774"/>
                  <a:pt x="5755" y="11765"/>
                  <a:pt x="5755" y="11757"/>
                </a:cubicBezTo>
              </a:path>
              <a:path w="2060" h="1043">
                <a:moveTo>
                  <a:pt x="5829" y="11559"/>
                </a:moveTo>
                <a:cubicBezTo>
                  <a:pt x="5903" y="11546"/>
                  <a:pt x="6022" y="11529"/>
                  <a:pt x="6052" y="11485"/>
                </a:cubicBezTo>
                <a:cubicBezTo>
                  <a:pt x="5952" y="11400"/>
                  <a:pt x="5891" y="11353"/>
                  <a:pt x="5854" y="11509"/>
                </a:cubicBezTo>
                <a:cubicBezTo>
                  <a:pt x="5802" y="11730"/>
                  <a:pt x="5918" y="11875"/>
                  <a:pt x="6127" y="11708"/>
                </a:cubicBezTo>
                <a:cubicBezTo>
                  <a:pt x="6152" y="11675"/>
                  <a:pt x="6176" y="11642"/>
                  <a:pt x="6201" y="11609"/>
                </a:cubicBezTo>
              </a:path>
              <a:path w="2060" h="1043">
                <a:moveTo>
                  <a:pt x="5953" y="11063"/>
                </a:moveTo>
                <a:cubicBezTo>
                  <a:pt x="6150" y="11244"/>
                  <a:pt x="6450" y="11448"/>
                  <a:pt x="6350" y="11757"/>
                </a:cubicBezTo>
                <a:cubicBezTo>
                  <a:pt x="6255" y="11900"/>
                  <a:pt x="6229" y="11947"/>
                  <a:pt x="6102" y="11956"/>
                </a:cubicBezTo>
              </a:path>
              <a:path w="2060" h="1043">
                <a:moveTo>
                  <a:pt x="6102" y="11956"/>
                </a:moveTo>
                <a:lnTo>
                  <a:pt x="6102" y="1195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880" y="5072040"/>
            <a:ext cx="1519200" cy="527040"/>
          </a:xfrm>
          <a:custGeom>
            <a:avLst/>
            <a:gdLst/>
            <a:ahLst/>
            <a:rect l="l" t="t" r="r" b="b"/>
            <a:pathLst>
              <a:path w="4218" h="1465">
                <a:moveTo>
                  <a:pt x="2034" y="14461"/>
                </a:moveTo>
                <a:cubicBezTo>
                  <a:pt x="2090" y="14461"/>
                  <a:pt x="2181" y="14736"/>
                  <a:pt x="2257" y="14833"/>
                </a:cubicBezTo>
                <a:cubicBezTo>
                  <a:pt x="2285" y="14833"/>
                  <a:pt x="2291" y="14835"/>
                  <a:pt x="2257" y="14858"/>
                </a:cubicBezTo>
                <a:cubicBezTo>
                  <a:pt x="2137" y="14723"/>
                  <a:pt x="1938" y="14530"/>
                  <a:pt x="2108" y="14337"/>
                </a:cubicBezTo>
                <a:cubicBezTo>
                  <a:pt x="2264" y="14159"/>
                  <a:pt x="2407" y="14209"/>
                  <a:pt x="2480" y="14387"/>
                </a:cubicBezTo>
              </a:path>
              <a:path w="4218" h="1465">
                <a:moveTo>
                  <a:pt x="2555" y="14511"/>
                </a:moveTo>
                <a:cubicBezTo>
                  <a:pt x="2656" y="14492"/>
                  <a:pt x="2753" y="14478"/>
                  <a:pt x="2853" y="14461"/>
                </a:cubicBezTo>
                <a:cubicBezTo>
                  <a:pt x="2835" y="14389"/>
                  <a:pt x="2735" y="14316"/>
                  <a:pt x="2654" y="14312"/>
                </a:cubicBezTo>
                <a:cubicBezTo>
                  <a:pt x="2475" y="14304"/>
                  <a:pt x="2561" y="14760"/>
                  <a:pt x="2604" y="14833"/>
                </a:cubicBezTo>
                <a:cubicBezTo>
                  <a:pt x="2692" y="14982"/>
                  <a:pt x="2862" y="14888"/>
                  <a:pt x="2977" y="14858"/>
                </a:cubicBezTo>
              </a:path>
              <a:path w="4218" h="1465">
                <a:moveTo>
                  <a:pt x="3522" y="14486"/>
                </a:moveTo>
                <a:cubicBezTo>
                  <a:pt x="3462" y="14385"/>
                  <a:pt x="3363" y="14376"/>
                  <a:pt x="3249" y="14362"/>
                </a:cubicBezTo>
                <a:cubicBezTo>
                  <a:pt x="3118" y="14585"/>
                  <a:pt x="3132" y="14692"/>
                  <a:pt x="3299" y="14883"/>
                </a:cubicBezTo>
                <a:cubicBezTo>
                  <a:pt x="3529" y="14707"/>
                  <a:pt x="3501" y="14729"/>
                  <a:pt x="3473" y="14436"/>
                </a:cubicBezTo>
              </a:path>
              <a:path w="4218" h="1465">
                <a:moveTo>
                  <a:pt x="3175" y="14089"/>
                </a:moveTo>
                <a:cubicBezTo>
                  <a:pt x="3328" y="14318"/>
                  <a:pt x="3465" y="14546"/>
                  <a:pt x="3597" y="14784"/>
                </a:cubicBezTo>
                <a:cubicBezTo>
                  <a:pt x="3640" y="14849"/>
                  <a:pt x="3651" y="14883"/>
                  <a:pt x="3671" y="14808"/>
                </a:cubicBezTo>
              </a:path>
              <a:path w="4218" h="1465">
                <a:moveTo>
                  <a:pt x="3671" y="14808"/>
                </a:moveTo>
                <a:lnTo>
                  <a:pt x="3671" y="14808"/>
                </a:lnTo>
              </a:path>
              <a:path w="4218" h="1465">
                <a:moveTo>
                  <a:pt x="3696" y="14337"/>
                </a:moveTo>
                <a:cubicBezTo>
                  <a:pt x="3736" y="14459"/>
                  <a:pt x="3832" y="14672"/>
                  <a:pt x="3919" y="14784"/>
                </a:cubicBezTo>
                <a:cubicBezTo>
                  <a:pt x="3944" y="14800"/>
                  <a:pt x="3969" y="14817"/>
                  <a:pt x="3994" y="14833"/>
                </a:cubicBezTo>
                <a:cubicBezTo>
                  <a:pt x="4120" y="14705"/>
                  <a:pt x="4120" y="14541"/>
                  <a:pt x="4068" y="14362"/>
                </a:cubicBezTo>
                <a:cubicBezTo>
                  <a:pt x="4060" y="14354"/>
                  <a:pt x="4051" y="14345"/>
                  <a:pt x="4043" y="14337"/>
                </a:cubicBezTo>
                <a:cubicBezTo>
                  <a:pt x="4131" y="14468"/>
                  <a:pt x="4159" y="14631"/>
                  <a:pt x="4266" y="14759"/>
                </a:cubicBezTo>
                <a:cubicBezTo>
                  <a:pt x="4326" y="14789"/>
                  <a:pt x="4352" y="14791"/>
                  <a:pt x="4390" y="14734"/>
                </a:cubicBezTo>
              </a:path>
              <a:path w="4218" h="1465">
                <a:moveTo>
                  <a:pt x="4688" y="14461"/>
                </a:moveTo>
                <a:cubicBezTo>
                  <a:pt x="4713" y="14461"/>
                  <a:pt x="4721" y="14461"/>
                  <a:pt x="4713" y="14436"/>
                </a:cubicBezTo>
                <a:cubicBezTo>
                  <a:pt x="4541" y="14344"/>
                  <a:pt x="4512" y="14473"/>
                  <a:pt x="4539" y="14660"/>
                </a:cubicBezTo>
                <a:cubicBezTo>
                  <a:pt x="4594" y="15032"/>
                  <a:pt x="4824" y="14831"/>
                  <a:pt x="4936" y="14660"/>
                </a:cubicBezTo>
              </a:path>
              <a:path w="4218" h="1465">
                <a:moveTo>
                  <a:pt x="4936" y="14436"/>
                </a:moveTo>
                <a:cubicBezTo>
                  <a:pt x="5009" y="14555"/>
                  <a:pt x="5052" y="14603"/>
                  <a:pt x="5085" y="14734"/>
                </a:cubicBezTo>
              </a:path>
              <a:path w="4218" h="1465">
                <a:moveTo>
                  <a:pt x="5085" y="14734"/>
                </a:moveTo>
                <a:lnTo>
                  <a:pt x="5085" y="14734"/>
                </a:lnTo>
              </a:path>
              <a:path w="4218" h="1465">
                <a:moveTo>
                  <a:pt x="4738" y="14188"/>
                </a:moveTo>
                <a:cubicBezTo>
                  <a:pt x="4746" y="14188"/>
                  <a:pt x="4754" y="14188"/>
                  <a:pt x="4762" y="14188"/>
                </a:cubicBezTo>
              </a:path>
              <a:path w="4218" h="1465">
                <a:moveTo>
                  <a:pt x="5308" y="14660"/>
                </a:moveTo>
                <a:cubicBezTo>
                  <a:pt x="5348" y="14760"/>
                  <a:pt x="5353" y="14778"/>
                  <a:pt x="5383" y="14833"/>
                </a:cubicBezTo>
                <a:cubicBezTo>
                  <a:pt x="5289" y="14740"/>
                  <a:pt x="5259" y="14592"/>
                  <a:pt x="5259" y="14461"/>
                </a:cubicBezTo>
                <a:cubicBezTo>
                  <a:pt x="5267" y="14453"/>
                  <a:pt x="5275" y="14444"/>
                  <a:pt x="5283" y="14436"/>
                </a:cubicBezTo>
                <a:cubicBezTo>
                  <a:pt x="5470" y="14523"/>
                  <a:pt x="5478" y="14657"/>
                  <a:pt x="5606" y="14808"/>
                </a:cubicBezTo>
                <a:cubicBezTo>
                  <a:pt x="5606" y="14800"/>
                  <a:pt x="5606" y="14792"/>
                  <a:pt x="5606" y="14784"/>
                </a:cubicBezTo>
              </a:path>
              <a:path w="4218" h="1465">
                <a:moveTo>
                  <a:pt x="5705" y="14337"/>
                </a:moveTo>
                <a:cubicBezTo>
                  <a:pt x="5663" y="14569"/>
                  <a:pt x="5607" y="14718"/>
                  <a:pt x="5854" y="14784"/>
                </a:cubicBezTo>
                <a:cubicBezTo>
                  <a:pt x="5945" y="14591"/>
                  <a:pt x="5915" y="14575"/>
                  <a:pt x="5854" y="14387"/>
                </a:cubicBezTo>
                <a:cubicBezTo>
                  <a:pt x="5862" y="14403"/>
                  <a:pt x="5871" y="14420"/>
                  <a:pt x="5879" y="14436"/>
                </a:cubicBezTo>
                <a:cubicBezTo>
                  <a:pt x="6049" y="14620"/>
                  <a:pt x="6383" y="14931"/>
                  <a:pt x="6251" y="15230"/>
                </a:cubicBezTo>
                <a:cubicBezTo>
                  <a:pt x="6166" y="15423"/>
                  <a:pt x="5892" y="15431"/>
                  <a:pt x="5730" y="15453"/>
                </a:cubicBezTo>
              </a:path>
              <a:path w="4218" h="1465">
                <a:moveTo>
                  <a:pt x="2158" y="15553"/>
                </a:moveTo>
                <a:cubicBezTo>
                  <a:pt x="2244" y="15502"/>
                  <a:pt x="2283" y="15475"/>
                  <a:pt x="2381" y="15453"/>
                </a:cubicBezTo>
                <a:cubicBezTo>
                  <a:pt x="2586" y="15407"/>
                  <a:pt x="2820" y="15351"/>
                  <a:pt x="3026" y="15329"/>
                </a:cubicBezTo>
                <a:cubicBezTo>
                  <a:pt x="3262" y="15304"/>
                  <a:pt x="3486" y="15279"/>
                  <a:pt x="3721" y="15230"/>
                </a:cubicBezTo>
                <a:cubicBezTo>
                  <a:pt x="3967" y="15178"/>
                  <a:pt x="4218" y="15124"/>
                  <a:pt x="4465" y="15081"/>
                </a:cubicBezTo>
                <a:cubicBezTo>
                  <a:pt x="4658" y="15048"/>
                  <a:pt x="4866" y="15003"/>
                  <a:pt x="5060" y="14982"/>
                </a:cubicBezTo>
                <a:cubicBezTo>
                  <a:pt x="5210" y="14966"/>
                  <a:pt x="5357" y="14926"/>
                  <a:pt x="5507" y="14908"/>
                </a:cubicBezTo>
                <a:cubicBezTo>
                  <a:pt x="5572" y="14900"/>
                  <a:pt x="5618" y="14893"/>
                  <a:pt x="5680" y="14883"/>
                </a:cubicBezTo>
                <a:cubicBezTo>
                  <a:pt x="5688" y="14883"/>
                  <a:pt x="5697" y="14883"/>
                  <a:pt x="5705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1360" y="4643280"/>
            <a:ext cx="374760" cy="1009800"/>
          </a:xfrm>
          <a:custGeom>
            <a:avLst/>
            <a:gdLst/>
            <a:ahLst/>
            <a:rect l="l" t="t" r="r" b="b"/>
            <a:pathLst>
              <a:path w="1043" h="2804">
                <a:moveTo>
                  <a:pt x="10443" y="12898"/>
                </a:moveTo>
                <a:cubicBezTo>
                  <a:pt x="10413" y="12937"/>
                  <a:pt x="10374" y="12993"/>
                  <a:pt x="10319" y="13022"/>
                </a:cubicBezTo>
                <a:cubicBezTo>
                  <a:pt x="10233" y="13068"/>
                  <a:pt x="10138" y="13117"/>
                  <a:pt x="10046" y="13146"/>
                </a:cubicBezTo>
                <a:cubicBezTo>
                  <a:pt x="9911" y="13188"/>
                  <a:pt x="9837" y="13249"/>
                  <a:pt x="9723" y="13320"/>
                </a:cubicBezTo>
                <a:cubicBezTo>
                  <a:pt x="9637" y="13373"/>
                  <a:pt x="9629" y="13385"/>
                  <a:pt x="9575" y="13469"/>
                </a:cubicBezTo>
                <a:cubicBezTo>
                  <a:pt x="9516" y="13562"/>
                  <a:pt x="9478" y="13631"/>
                  <a:pt x="9475" y="13742"/>
                </a:cubicBezTo>
                <a:cubicBezTo>
                  <a:pt x="9472" y="13853"/>
                  <a:pt x="9506" y="13962"/>
                  <a:pt x="9550" y="14064"/>
                </a:cubicBezTo>
                <a:cubicBezTo>
                  <a:pt x="9597" y="14171"/>
                  <a:pt x="9658" y="14265"/>
                  <a:pt x="9723" y="14362"/>
                </a:cubicBezTo>
                <a:cubicBezTo>
                  <a:pt x="9791" y="14464"/>
                  <a:pt x="9812" y="14577"/>
                  <a:pt x="9872" y="14684"/>
                </a:cubicBezTo>
                <a:cubicBezTo>
                  <a:pt x="9921" y="14770"/>
                  <a:pt x="9959" y="14881"/>
                  <a:pt x="10021" y="14957"/>
                </a:cubicBezTo>
                <a:cubicBezTo>
                  <a:pt x="10069" y="15015"/>
                  <a:pt x="10108" y="15053"/>
                  <a:pt x="10145" y="15131"/>
                </a:cubicBezTo>
                <a:cubicBezTo>
                  <a:pt x="10166" y="15175"/>
                  <a:pt x="10176" y="15216"/>
                  <a:pt x="10195" y="15255"/>
                </a:cubicBezTo>
                <a:cubicBezTo>
                  <a:pt x="10225" y="15318"/>
                  <a:pt x="10244" y="15391"/>
                  <a:pt x="10269" y="15453"/>
                </a:cubicBezTo>
                <a:cubicBezTo>
                  <a:pt x="10290" y="15506"/>
                  <a:pt x="10304" y="15551"/>
                  <a:pt x="10319" y="15602"/>
                </a:cubicBezTo>
                <a:cubicBezTo>
                  <a:pt x="10326" y="15625"/>
                  <a:pt x="10365" y="15666"/>
                  <a:pt x="10368" y="15677"/>
                </a:cubicBezTo>
                <a:cubicBezTo>
                  <a:pt x="10368" y="15685"/>
                  <a:pt x="10368" y="15693"/>
                  <a:pt x="10368" y="15701"/>
                </a:cubicBezTo>
              </a:path>
              <a:path w="1043" h="2804">
                <a:moveTo>
                  <a:pt x="10120" y="15627"/>
                </a:moveTo>
                <a:cubicBezTo>
                  <a:pt x="10206" y="15638"/>
                  <a:pt x="10283" y="15679"/>
                  <a:pt x="10368" y="15701"/>
                </a:cubicBezTo>
                <a:cubicBezTo>
                  <a:pt x="10376" y="15701"/>
                  <a:pt x="10385" y="15701"/>
                  <a:pt x="10393" y="15701"/>
                </a:cubicBezTo>
                <a:cubicBezTo>
                  <a:pt x="10448" y="15606"/>
                  <a:pt x="10432" y="15472"/>
                  <a:pt x="10492" y="15379"/>
                </a:cubicBezTo>
                <a:cubicBezTo>
                  <a:pt x="10500" y="15379"/>
                  <a:pt x="10509" y="15379"/>
                  <a:pt x="10517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49840" y="4653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196" y="12923"/>
                </a:moveTo>
                <a:lnTo>
                  <a:pt x="13196" y="1292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6960" y="2751120"/>
            <a:ext cx="152280" cy="25884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14288" y="7863"/>
                </a:moveTo>
                <a:cubicBezTo>
                  <a:pt x="14272" y="7960"/>
                  <a:pt x="14252" y="8024"/>
                  <a:pt x="14188" y="8086"/>
                </a:cubicBezTo>
                <a:cubicBezTo>
                  <a:pt x="14315" y="8086"/>
                  <a:pt x="14435" y="8080"/>
                  <a:pt x="14560" y="8111"/>
                </a:cubicBezTo>
                <a:cubicBezTo>
                  <a:pt x="14577" y="8119"/>
                  <a:pt x="14593" y="8128"/>
                  <a:pt x="14610" y="8136"/>
                </a:cubicBezTo>
              </a:path>
              <a:path w="423" h="720">
                <a:moveTo>
                  <a:pt x="14511" y="7640"/>
                </a:moveTo>
                <a:cubicBezTo>
                  <a:pt x="14511" y="7866"/>
                  <a:pt x="14504" y="8086"/>
                  <a:pt x="14486" y="8310"/>
                </a:cubicBezTo>
                <a:cubicBezTo>
                  <a:pt x="14486" y="8326"/>
                  <a:pt x="14486" y="8343"/>
                  <a:pt x="14486" y="8359"/>
                </a:cubicBezTo>
              </a:path>
              <a:path w="423" h="720">
                <a:moveTo>
                  <a:pt x="14486" y="8359"/>
                </a:moveTo>
                <a:lnTo>
                  <a:pt x="14486" y="835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70720" y="2714760"/>
            <a:ext cx="598320" cy="233280"/>
          </a:xfrm>
          <a:custGeom>
            <a:avLst/>
            <a:gdLst/>
            <a:ahLst/>
            <a:rect l="l" t="t" r="r" b="b"/>
            <a:pathLst>
              <a:path w="1663" h="646">
                <a:moveTo>
                  <a:pt x="15875" y="7714"/>
                </a:moveTo>
                <a:cubicBezTo>
                  <a:pt x="15909" y="7611"/>
                  <a:pt x="15918" y="7854"/>
                  <a:pt x="15925" y="7962"/>
                </a:cubicBezTo>
                <a:cubicBezTo>
                  <a:pt x="15925" y="7995"/>
                  <a:pt x="15925" y="8029"/>
                  <a:pt x="15925" y="8062"/>
                </a:cubicBezTo>
              </a:path>
              <a:path w="1663" h="646">
                <a:moveTo>
                  <a:pt x="16123" y="7590"/>
                </a:moveTo>
                <a:cubicBezTo>
                  <a:pt x="16149" y="7714"/>
                  <a:pt x="16171" y="7838"/>
                  <a:pt x="16197" y="7962"/>
                </a:cubicBezTo>
              </a:path>
              <a:path w="1663" h="646">
                <a:moveTo>
                  <a:pt x="16197" y="7962"/>
                </a:moveTo>
                <a:lnTo>
                  <a:pt x="16197" y="7962"/>
                </a:lnTo>
              </a:path>
              <a:path w="1663" h="646">
                <a:moveTo>
                  <a:pt x="15751" y="7838"/>
                </a:moveTo>
                <a:cubicBezTo>
                  <a:pt x="15934" y="7816"/>
                  <a:pt x="16113" y="7796"/>
                  <a:pt x="16297" y="7789"/>
                </a:cubicBezTo>
              </a:path>
              <a:path w="1663" h="646">
                <a:moveTo>
                  <a:pt x="15974" y="7938"/>
                </a:moveTo>
                <a:cubicBezTo>
                  <a:pt x="16040" y="7930"/>
                  <a:pt x="16107" y="7921"/>
                  <a:pt x="16173" y="7913"/>
                </a:cubicBezTo>
              </a:path>
              <a:path w="1663" h="646">
                <a:moveTo>
                  <a:pt x="16173" y="7913"/>
                </a:moveTo>
                <a:lnTo>
                  <a:pt x="16173" y="7913"/>
                </a:lnTo>
              </a:path>
              <a:path w="1663" h="646">
                <a:moveTo>
                  <a:pt x="16768" y="7863"/>
                </a:moveTo>
                <a:cubicBezTo>
                  <a:pt x="16652" y="7933"/>
                  <a:pt x="16662" y="8037"/>
                  <a:pt x="16669" y="8161"/>
                </a:cubicBezTo>
                <a:cubicBezTo>
                  <a:pt x="16765" y="8166"/>
                  <a:pt x="17150" y="8157"/>
                  <a:pt x="16991" y="7938"/>
                </a:cubicBezTo>
                <a:cubicBezTo>
                  <a:pt x="16950" y="7913"/>
                  <a:pt x="16908" y="7888"/>
                  <a:pt x="16867" y="7863"/>
                </a:cubicBezTo>
              </a:path>
              <a:path w="1663" h="646">
                <a:moveTo>
                  <a:pt x="17363" y="7541"/>
                </a:moveTo>
                <a:cubicBezTo>
                  <a:pt x="17178" y="7608"/>
                  <a:pt x="17210" y="7776"/>
                  <a:pt x="17264" y="7962"/>
                </a:cubicBezTo>
                <a:cubicBezTo>
                  <a:pt x="17300" y="8052"/>
                  <a:pt x="17317" y="8057"/>
                  <a:pt x="17314" y="8111"/>
                </a:cubicBezTo>
              </a:path>
              <a:path w="1663" h="646">
                <a:moveTo>
                  <a:pt x="17016" y="7789"/>
                </a:moveTo>
                <a:cubicBezTo>
                  <a:pt x="17223" y="7811"/>
                  <a:pt x="17281" y="7821"/>
                  <a:pt x="17413" y="7789"/>
                </a:cubicBezTo>
              </a:path>
              <a:path w="1663" h="646">
                <a:moveTo>
                  <a:pt x="17413" y="7789"/>
                </a:moveTo>
                <a:lnTo>
                  <a:pt x="17413" y="778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91160" y="2678040"/>
            <a:ext cx="876600" cy="304920"/>
          </a:xfrm>
          <a:custGeom>
            <a:avLst/>
            <a:gdLst/>
            <a:ahLst/>
            <a:rect l="l" t="t" r="r" b="b"/>
            <a:pathLst>
              <a:path w="2432" h="845">
                <a:moveTo>
                  <a:pt x="18182" y="7516"/>
                </a:moveTo>
                <a:cubicBezTo>
                  <a:pt x="18232" y="7711"/>
                  <a:pt x="18256" y="7884"/>
                  <a:pt x="18256" y="8086"/>
                </a:cubicBezTo>
              </a:path>
              <a:path w="2432" h="845">
                <a:moveTo>
                  <a:pt x="18033" y="7789"/>
                </a:moveTo>
                <a:cubicBezTo>
                  <a:pt x="18216" y="7783"/>
                  <a:pt x="18397" y="7764"/>
                  <a:pt x="18579" y="7764"/>
                </a:cubicBezTo>
                <a:cubicBezTo>
                  <a:pt x="18579" y="7912"/>
                  <a:pt x="18565" y="8067"/>
                  <a:pt x="18752" y="8086"/>
                </a:cubicBezTo>
                <a:cubicBezTo>
                  <a:pt x="18877" y="8099"/>
                  <a:pt x="18897" y="7941"/>
                  <a:pt x="18926" y="7863"/>
                </a:cubicBezTo>
                <a:cubicBezTo>
                  <a:pt x="18926" y="7938"/>
                  <a:pt x="18951" y="8083"/>
                  <a:pt x="19050" y="8086"/>
                </a:cubicBezTo>
                <a:cubicBezTo>
                  <a:pt x="19083" y="8070"/>
                  <a:pt x="19116" y="8053"/>
                  <a:pt x="19149" y="8037"/>
                </a:cubicBezTo>
              </a:path>
              <a:path w="2432" h="845">
                <a:moveTo>
                  <a:pt x="19149" y="7441"/>
                </a:moveTo>
                <a:cubicBezTo>
                  <a:pt x="19169" y="7580"/>
                  <a:pt x="19199" y="7739"/>
                  <a:pt x="19224" y="7888"/>
                </a:cubicBezTo>
                <a:cubicBezTo>
                  <a:pt x="19237" y="7966"/>
                  <a:pt x="19248" y="7996"/>
                  <a:pt x="19248" y="8062"/>
                </a:cubicBezTo>
              </a:path>
              <a:path w="2432" h="845">
                <a:moveTo>
                  <a:pt x="19546" y="7789"/>
                </a:moveTo>
                <a:cubicBezTo>
                  <a:pt x="19615" y="7876"/>
                  <a:pt x="19630" y="7984"/>
                  <a:pt x="19645" y="8111"/>
                </a:cubicBezTo>
              </a:path>
              <a:path w="2432" h="845">
                <a:moveTo>
                  <a:pt x="19546" y="7640"/>
                </a:moveTo>
                <a:cubicBezTo>
                  <a:pt x="19546" y="7632"/>
                  <a:pt x="19546" y="7623"/>
                  <a:pt x="19546" y="7615"/>
                </a:cubicBezTo>
              </a:path>
              <a:path w="2432" h="845">
                <a:moveTo>
                  <a:pt x="19720" y="7764"/>
                </a:moveTo>
                <a:cubicBezTo>
                  <a:pt x="19808" y="7932"/>
                  <a:pt x="19867" y="8102"/>
                  <a:pt x="19918" y="8285"/>
                </a:cubicBezTo>
                <a:cubicBezTo>
                  <a:pt x="19871" y="8190"/>
                  <a:pt x="19874" y="8120"/>
                  <a:pt x="19869" y="8012"/>
                </a:cubicBezTo>
              </a:path>
              <a:path w="2432" h="845">
                <a:moveTo>
                  <a:pt x="19769" y="7640"/>
                </a:moveTo>
                <a:cubicBezTo>
                  <a:pt x="19861" y="7605"/>
                  <a:pt x="20064" y="7585"/>
                  <a:pt x="20141" y="7689"/>
                </a:cubicBezTo>
                <a:cubicBezTo>
                  <a:pt x="20255" y="7843"/>
                  <a:pt x="19979" y="7941"/>
                  <a:pt x="19869" y="7913"/>
                </a:cubicBezTo>
                <a:cubicBezTo>
                  <a:pt x="19805" y="7870"/>
                  <a:pt x="19767" y="7854"/>
                  <a:pt x="19844" y="7863"/>
                </a:cubicBezTo>
              </a:path>
              <a:path w="2432" h="845">
                <a:moveTo>
                  <a:pt x="19844" y="7863"/>
                </a:moveTo>
                <a:lnTo>
                  <a:pt x="19844" y="7863"/>
                </a:lnTo>
              </a:path>
              <a:path w="2432" h="845">
                <a:moveTo>
                  <a:pt x="20389" y="7640"/>
                </a:moveTo>
                <a:cubicBezTo>
                  <a:pt x="20312" y="7666"/>
                  <a:pt x="20284" y="7676"/>
                  <a:pt x="20241" y="7714"/>
                </a:cubicBezTo>
                <a:cubicBezTo>
                  <a:pt x="20313" y="7765"/>
                  <a:pt x="20383" y="7795"/>
                  <a:pt x="20464" y="7838"/>
                </a:cubicBezTo>
                <a:cubicBezTo>
                  <a:pt x="20371" y="7958"/>
                  <a:pt x="20341" y="7946"/>
                  <a:pt x="20191" y="79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16880" y="2687760"/>
            <a:ext cx="241200" cy="179280"/>
          </a:xfrm>
          <a:custGeom>
            <a:avLst/>
            <a:gdLst/>
            <a:ahLst/>
            <a:rect l="l" t="t" r="r" b="b"/>
            <a:pathLst>
              <a:path w="671" h="497">
                <a:moveTo>
                  <a:pt x="21208" y="7640"/>
                </a:moveTo>
                <a:cubicBezTo>
                  <a:pt x="21208" y="7747"/>
                  <a:pt x="21208" y="7855"/>
                  <a:pt x="21208" y="7962"/>
                </a:cubicBezTo>
              </a:path>
              <a:path w="671" h="497">
                <a:moveTo>
                  <a:pt x="21158" y="7466"/>
                </a:moveTo>
                <a:lnTo>
                  <a:pt x="21158" y="7466"/>
                </a:lnTo>
              </a:path>
              <a:path w="671" h="497">
                <a:moveTo>
                  <a:pt x="21382" y="7764"/>
                </a:moveTo>
                <a:cubicBezTo>
                  <a:pt x="21402" y="7848"/>
                  <a:pt x="21404" y="7867"/>
                  <a:pt x="21431" y="7913"/>
                </a:cubicBezTo>
                <a:cubicBezTo>
                  <a:pt x="21431" y="7807"/>
                  <a:pt x="21499" y="7704"/>
                  <a:pt x="21605" y="7665"/>
                </a:cubicBezTo>
                <a:cubicBezTo>
                  <a:pt x="21776" y="7602"/>
                  <a:pt x="21792" y="7838"/>
                  <a:pt x="21828" y="79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2687760"/>
            <a:ext cx="536400" cy="161640"/>
          </a:xfrm>
          <a:custGeom>
            <a:avLst/>
            <a:gdLst/>
            <a:ahLst/>
            <a:rect l="l" t="t" r="r" b="b"/>
            <a:pathLst>
              <a:path w="1489" h="448">
                <a:moveTo>
                  <a:pt x="22225" y="7565"/>
                </a:moveTo>
                <a:cubicBezTo>
                  <a:pt x="22298" y="7682"/>
                  <a:pt x="22372" y="7798"/>
                  <a:pt x="22448" y="7913"/>
                </a:cubicBezTo>
                <a:cubicBezTo>
                  <a:pt x="22448" y="7804"/>
                  <a:pt x="22455" y="7716"/>
                  <a:pt x="22498" y="7615"/>
                </a:cubicBezTo>
                <a:cubicBezTo>
                  <a:pt x="22530" y="7551"/>
                  <a:pt x="22553" y="7538"/>
                  <a:pt x="22622" y="7590"/>
                </a:cubicBezTo>
              </a:path>
              <a:path w="1489" h="448">
                <a:moveTo>
                  <a:pt x="22870" y="7565"/>
                </a:moveTo>
                <a:cubicBezTo>
                  <a:pt x="22732" y="7547"/>
                  <a:pt x="22611" y="7703"/>
                  <a:pt x="22647" y="7863"/>
                </a:cubicBezTo>
                <a:cubicBezTo>
                  <a:pt x="22663" y="7871"/>
                  <a:pt x="22680" y="7880"/>
                  <a:pt x="22696" y="7888"/>
                </a:cubicBezTo>
                <a:cubicBezTo>
                  <a:pt x="22791" y="7837"/>
                  <a:pt x="22884" y="7607"/>
                  <a:pt x="22895" y="7714"/>
                </a:cubicBezTo>
                <a:cubicBezTo>
                  <a:pt x="22906" y="7828"/>
                  <a:pt x="22934" y="7834"/>
                  <a:pt x="23019" y="7888"/>
                </a:cubicBezTo>
              </a:path>
              <a:path w="1489" h="448">
                <a:moveTo>
                  <a:pt x="23217" y="7516"/>
                </a:moveTo>
                <a:cubicBezTo>
                  <a:pt x="23085" y="7599"/>
                  <a:pt x="23119" y="7642"/>
                  <a:pt x="23217" y="7764"/>
                </a:cubicBezTo>
                <a:cubicBezTo>
                  <a:pt x="23342" y="7919"/>
                  <a:pt x="23160" y="7875"/>
                  <a:pt x="23044" y="7863"/>
                </a:cubicBezTo>
              </a:path>
              <a:path w="1489" h="448">
                <a:moveTo>
                  <a:pt x="23044" y="7863"/>
                </a:moveTo>
                <a:lnTo>
                  <a:pt x="23044" y="7863"/>
                </a:lnTo>
              </a:path>
              <a:path w="1489" h="448">
                <a:moveTo>
                  <a:pt x="23341" y="7590"/>
                </a:moveTo>
                <a:cubicBezTo>
                  <a:pt x="23425" y="7582"/>
                  <a:pt x="23519" y="7575"/>
                  <a:pt x="23589" y="7541"/>
                </a:cubicBezTo>
                <a:cubicBezTo>
                  <a:pt x="23569" y="7403"/>
                  <a:pt x="23400" y="7486"/>
                  <a:pt x="23366" y="7590"/>
                </a:cubicBezTo>
                <a:cubicBezTo>
                  <a:pt x="23271" y="7876"/>
                  <a:pt x="23554" y="7858"/>
                  <a:pt x="23713" y="78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89680" y="3394080"/>
            <a:ext cx="322200" cy="25884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14188" y="9475"/>
                </a:moveTo>
                <a:cubicBezTo>
                  <a:pt x="14188" y="9657"/>
                  <a:pt x="14166" y="9838"/>
                  <a:pt x="14163" y="10021"/>
                </a:cubicBezTo>
                <a:cubicBezTo>
                  <a:pt x="14163" y="10112"/>
                  <a:pt x="14196" y="10153"/>
                  <a:pt x="14139" y="10145"/>
                </a:cubicBezTo>
              </a:path>
              <a:path w="894" h="720">
                <a:moveTo>
                  <a:pt x="14536" y="9426"/>
                </a:moveTo>
                <a:cubicBezTo>
                  <a:pt x="14786" y="9489"/>
                  <a:pt x="15025" y="9680"/>
                  <a:pt x="14858" y="9996"/>
                </a:cubicBezTo>
                <a:cubicBezTo>
                  <a:pt x="14732" y="10235"/>
                  <a:pt x="14575" y="10051"/>
                  <a:pt x="14585" y="9897"/>
                </a:cubicBezTo>
                <a:cubicBezTo>
                  <a:pt x="14784" y="9867"/>
                  <a:pt x="14914" y="9893"/>
                  <a:pt x="15032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07000" y="3375000"/>
            <a:ext cx="1179720" cy="268200"/>
          </a:xfrm>
          <a:custGeom>
            <a:avLst/>
            <a:gdLst/>
            <a:ahLst/>
            <a:rect l="l" t="t" r="r" b="b"/>
            <a:pathLst>
              <a:path w="3276" h="745">
                <a:moveTo>
                  <a:pt x="16049" y="9624"/>
                </a:moveTo>
                <a:cubicBezTo>
                  <a:pt x="16094" y="9471"/>
                  <a:pt x="16061" y="9445"/>
                  <a:pt x="15925" y="9376"/>
                </a:cubicBezTo>
                <a:cubicBezTo>
                  <a:pt x="15789" y="9606"/>
                  <a:pt x="15859" y="9758"/>
                  <a:pt x="15900" y="10021"/>
                </a:cubicBezTo>
                <a:cubicBezTo>
                  <a:pt x="15900" y="10073"/>
                  <a:pt x="15881" y="10062"/>
                  <a:pt x="15825" y="9971"/>
                </a:cubicBezTo>
              </a:path>
              <a:path w="3276" h="745">
                <a:moveTo>
                  <a:pt x="15577" y="9748"/>
                </a:moveTo>
                <a:cubicBezTo>
                  <a:pt x="15849" y="9788"/>
                  <a:pt x="16027" y="9794"/>
                  <a:pt x="16297" y="9748"/>
                </a:cubicBezTo>
              </a:path>
              <a:path w="3276" h="745">
                <a:moveTo>
                  <a:pt x="16346" y="9376"/>
                </a:moveTo>
                <a:cubicBezTo>
                  <a:pt x="16384" y="9602"/>
                  <a:pt x="16414" y="9815"/>
                  <a:pt x="16421" y="10046"/>
                </a:cubicBezTo>
                <a:cubicBezTo>
                  <a:pt x="16421" y="10054"/>
                  <a:pt x="16421" y="10063"/>
                  <a:pt x="16421" y="10071"/>
                </a:cubicBezTo>
              </a:path>
              <a:path w="3276" h="745">
                <a:moveTo>
                  <a:pt x="16421" y="10071"/>
                </a:moveTo>
                <a:lnTo>
                  <a:pt x="16421" y="10071"/>
                </a:lnTo>
              </a:path>
              <a:path w="3276" h="745">
                <a:moveTo>
                  <a:pt x="16694" y="9575"/>
                </a:moveTo>
                <a:cubicBezTo>
                  <a:pt x="16576" y="9818"/>
                  <a:pt x="16518" y="9965"/>
                  <a:pt x="16818" y="9996"/>
                </a:cubicBezTo>
                <a:cubicBezTo>
                  <a:pt x="16936" y="9798"/>
                  <a:pt x="16900" y="9728"/>
                  <a:pt x="16694" y="9624"/>
                </a:cubicBezTo>
              </a:path>
              <a:path w="3276" h="745">
                <a:moveTo>
                  <a:pt x="17016" y="9674"/>
                </a:moveTo>
                <a:cubicBezTo>
                  <a:pt x="17021" y="9748"/>
                  <a:pt x="17023" y="10231"/>
                  <a:pt x="17214" y="10096"/>
                </a:cubicBezTo>
                <a:cubicBezTo>
                  <a:pt x="17299" y="9983"/>
                  <a:pt x="17326" y="9933"/>
                  <a:pt x="17314" y="9823"/>
                </a:cubicBezTo>
                <a:cubicBezTo>
                  <a:pt x="17314" y="9815"/>
                  <a:pt x="17314" y="9806"/>
                  <a:pt x="17314" y="9798"/>
                </a:cubicBezTo>
                <a:cubicBezTo>
                  <a:pt x="17325" y="9935"/>
                  <a:pt x="17361" y="10180"/>
                  <a:pt x="17562" y="10021"/>
                </a:cubicBezTo>
                <a:cubicBezTo>
                  <a:pt x="17703" y="9909"/>
                  <a:pt x="17525" y="9775"/>
                  <a:pt x="17462" y="9699"/>
                </a:cubicBezTo>
              </a:path>
              <a:path w="3276" h="745">
                <a:moveTo>
                  <a:pt x="17735" y="9798"/>
                </a:moveTo>
                <a:cubicBezTo>
                  <a:pt x="17803" y="9730"/>
                  <a:pt x="17825" y="9713"/>
                  <a:pt x="17835" y="9649"/>
                </a:cubicBezTo>
                <a:cubicBezTo>
                  <a:pt x="17640" y="9673"/>
                  <a:pt x="17509" y="9817"/>
                  <a:pt x="17636" y="10021"/>
                </a:cubicBezTo>
                <a:cubicBezTo>
                  <a:pt x="17815" y="10307"/>
                  <a:pt x="17952" y="9870"/>
                  <a:pt x="18033" y="9847"/>
                </a:cubicBezTo>
                <a:cubicBezTo>
                  <a:pt x="18081" y="9834"/>
                  <a:pt x="18033" y="9946"/>
                  <a:pt x="18033" y="9996"/>
                </a:cubicBezTo>
                <a:cubicBezTo>
                  <a:pt x="18049" y="9833"/>
                  <a:pt x="18114" y="9716"/>
                  <a:pt x="18256" y="9624"/>
                </a:cubicBezTo>
                <a:cubicBezTo>
                  <a:pt x="18341" y="9596"/>
                  <a:pt x="18376" y="9592"/>
                  <a:pt x="18430" y="9649"/>
                </a:cubicBezTo>
              </a:path>
              <a:path w="3276" h="745">
                <a:moveTo>
                  <a:pt x="18728" y="9599"/>
                </a:moveTo>
                <a:cubicBezTo>
                  <a:pt x="18623" y="9632"/>
                  <a:pt x="18574" y="9643"/>
                  <a:pt x="18504" y="9723"/>
                </a:cubicBezTo>
                <a:cubicBezTo>
                  <a:pt x="18639" y="9791"/>
                  <a:pt x="18737" y="9851"/>
                  <a:pt x="18852" y="9947"/>
                </a:cubicBezTo>
                <a:cubicBezTo>
                  <a:pt x="18611" y="10112"/>
                  <a:pt x="18417" y="10156"/>
                  <a:pt x="18579" y="9847"/>
                </a:cubicBezTo>
              </a:path>
              <a:path w="3276" h="745">
                <a:moveTo>
                  <a:pt x="18579" y="9847"/>
                </a:moveTo>
                <a:lnTo>
                  <a:pt x="18579" y="984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27920" y="3330720"/>
            <a:ext cx="258840" cy="258480"/>
          </a:xfrm>
          <a:custGeom>
            <a:avLst/>
            <a:gdLst/>
            <a:ahLst/>
            <a:rect l="l" t="t" r="r" b="b"/>
            <a:pathLst>
              <a:path w="721" h="720">
                <a:moveTo>
                  <a:pt x="19571" y="9500"/>
                </a:moveTo>
                <a:cubicBezTo>
                  <a:pt x="19553" y="9609"/>
                  <a:pt x="19471" y="9766"/>
                  <a:pt x="19546" y="9872"/>
                </a:cubicBezTo>
                <a:cubicBezTo>
                  <a:pt x="19579" y="9889"/>
                  <a:pt x="19612" y="9905"/>
                  <a:pt x="19645" y="9922"/>
                </a:cubicBezTo>
                <a:cubicBezTo>
                  <a:pt x="19800" y="9824"/>
                  <a:pt x="19870" y="9766"/>
                  <a:pt x="19918" y="9575"/>
                </a:cubicBezTo>
                <a:cubicBezTo>
                  <a:pt x="19912" y="9641"/>
                  <a:pt x="19884" y="9870"/>
                  <a:pt x="19893" y="9847"/>
                </a:cubicBezTo>
                <a:cubicBezTo>
                  <a:pt x="19923" y="9776"/>
                  <a:pt x="20110" y="9396"/>
                  <a:pt x="20216" y="9649"/>
                </a:cubicBezTo>
                <a:cubicBezTo>
                  <a:pt x="20238" y="9823"/>
                  <a:pt x="20251" y="9865"/>
                  <a:pt x="20216" y="9971"/>
                </a:cubicBezTo>
              </a:path>
              <a:path w="721" h="720">
                <a:moveTo>
                  <a:pt x="19521" y="9252"/>
                </a:moveTo>
                <a:cubicBezTo>
                  <a:pt x="19562" y="9269"/>
                  <a:pt x="19604" y="9285"/>
                  <a:pt x="19645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73960" y="3330720"/>
            <a:ext cx="911160" cy="241200"/>
          </a:xfrm>
          <a:custGeom>
            <a:avLst/>
            <a:gdLst/>
            <a:ahLst/>
            <a:rect l="l" t="t" r="r" b="b"/>
            <a:pathLst>
              <a:path w="2531" h="671">
                <a:moveTo>
                  <a:pt x="21010" y="9723"/>
                </a:moveTo>
                <a:cubicBezTo>
                  <a:pt x="21001" y="9673"/>
                  <a:pt x="20987" y="9640"/>
                  <a:pt x="20960" y="9599"/>
                </a:cubicBezTo>
                <a:cubicBezTo>
                  <a:pt x="20800" y="9706"/>
                  <a:pt x="20787" y="9701"/>
                  <a:pt x="20786" y="9897"/>
                </a:cubicBezTo>
                <a:cubicBezTo>
                  <a:pt x="20982" y="9897"/>
                  <a:pt x="20946" y="9886"/>
                  <a:pt x="21034" y="9699"/>
                </a:cubicBezTo>
                <a:cubicBezTo>
                  <a:pt x="21127" y="9819"/>
                  <a:pt x="21101" y="9829"/>
                  <a:pt x="21258" y="9872"/>
                </a:cubicBezTo>
              </a:path>
              <a:path w="2531" h="671">
                <a:moveTo>
                  <a:pt x="21555" y="9451"/>
                </a:moveTo>
                <a:cubicBezTo>
                  <a:pt x="21613" y="9589"/>
                  <a:pt x="21671" y="9698"/>
                  <a:pt x="21754" y="9823"/>
                </a:cubicBezTo>
                <a:cubicBezTo>
                  <a:pt x="21787" y="9690"/>
                  <a:pt x="21824" y="9518"/>
                  <a:pt x="21903" y="9401"/>
                </a:cubicBezTo>
                <a:cubicBezTo>
                  <a:pt x="21911" y="9401"/>
                  <a:pt x="21919" y="9401"/>
                  <a:pt x="21927" y="9401"/>
                </a:cubicBezTo>
              </a:path>
              <a:path w="2531" h="671">
                <a:moveTo>
                  <a:pt x="22299" y="9351"/>
                </a:moveTo>
                <a:cubicBezTo>
                  <a:pt x="22231" y="9398"/>
                  <a:pt x="21935" y="9606"/>
                  <a:pt x="22101" y="9723"/>
                </a:cubicBezTo>
                <a:cubicBezTo>
                  <a:pt x="22221" y="9808"/>
                  <a:pt x="22296" y="9531"/>
                  <a:pt x="22324" y="9475"/>
                </a:cubicBezTo>
                <a:cubicBezTo>
                  <a:pt x="22324" y="9615"/>
                  <a:pt x="22333" y="9585"/>
                  <a:pt x="22399" y="9723"/>
                </a:cubicBezTo>
              </a:path>
              <a:path w="2531" h="671">
                <a:moveTo>
                  <a:pt x="22696" y="9302"/>
                </a:moveTo>
                <a:cubicBezTo>
                  <a:pt x="22593" y="9407"/>
                  <a:pt x="22589" y="9484"/>
                  <a:pt x="22721" y="9575"/>
                </a:cubicBezTo>
                <a:cubicBezTo>
                  <a:pt x="22804" y="9616"/>
                  <a:pt x="22829" y="9616"/>
                  <a:pt x="22845" y="9674"/>
                </a:cubicBezTo>
                <a:cubicBezTo>
                  <a:pt x="22718" y="9790"/>
                  <a:pt x="22719" y="9766"/>
                  <a:pt x="22547" y="9723"/>
                </a:cubicBezTo>
              </a:path>
              <a:path w="2531" h="671">
                <a:moveTo>
                  <a:pt x="22547" y="9723"/>
                </a:moveTo>
                <a:lnTo>
                  <a:pt x="22547" y="9723"/>
                </a:lnTo>
              </a:path>
              <a:path w="2531" h="671">
                <a:moveTo>
                  <a:pt x="22969" y="9376"/>
                </a:moveTo>
                <a:cubicBezTo>
                  <a:pt x="23059" y="9348"/>
                  <a:pt x="23118" y="9329"/>
                  <a:pt x="23192" y="9277"/>
                </a:cubicBezTo>
                <a:cubicBezTo>
                  <a:pt x="23036" y="9286"/>
                  <a:pt x="22834" y="9452"/>
                  <a:pt x="23044" y="9624"/>
                </a:cubicBezTo>
                <a:cubicBezTo>
                  <a:pt x="23175" y="9668"/>
                  <a:pt x="23207" y="9689"/>
                  <a:pt x="23292" y="96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4884840"/>
            <a:ext cx="731880" cy="633240"/>
          </a:xfrm>
          <a:custGeom>
            <a:avLst/>
            <a:gdLst/>
            <a:ahLst/>
            <a:rect l="l" t="t" r="r" b="b"/>
            <a:pathLst>
              <a:path w="2035" h="1762">
                <a:moveTo>
                  <a:pt x="16297" y="15329"/>
                </a:moveTo>
                <a:cubicBezTo>
                  <a:pt x="16567" y="15271"/>
                  <a:pt x="16807" y="15037"/>
                  <a:pt x="17016" y="14858"/>
                </a:cubicBezTo>
                <a:cubicBezTo>
                  <a:pt x="17337" y="14583"/>
                  <a:pt x="17594" y="14246"/>
                  <a:pt x="17884" y="13940"/>
                </a:cubicBezTo>
                <a:cubicBezTo>
                  <a:pt x="17976" y="13842"/>
                  <a:pt x="18092" y="13708"/>
                  <a:pt x="18157" y="13618"/>
                </a:cubicBezTo>
                <a:cubicBezTo>
                  <a:pt x="17997" y="13643"/>
                  <a:pt x="17847" y="13696"/>
                  <a:pt x="17686" y="13742"/>
                </a:cubicBezTo>
                <a:cubicBezTo>
                  <a:pt x="17609" y="13764"/>
                  <a:pt x="17577" y="13769"/>
                  <a:pt x="17512" y="13816"/>
                </a:cubicBezTo>
                <a:cubicBezTo>
                  <a:pt x="17706" y="13729"/>
                  <a:pt x="17905" y="13635"/>
                  <a:pt x="18107" y="13568"/>
                </a:cubicBezTo>
                <a:cubicBezTo>
                  <a:pt x="18115" y="13568"/>
                  <a:pt x="18124" y="13568"/>
                  <a:pt x="18132" y="13568"/>
                </a:cubicBezTo>
                <a:cubicBezTo>
                  <a:pt x="18213" y="13703"/>
                  <a:pt x="18292" y="13889"/>
                  <a:pt x="18306" y="139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75640" y="3963960"/>
            <a:ext cx="411120" cy="689040"/>
          </a:xfrm>
          <a:custGeom>
            <a:avLst/>
            <a:gdLst/>
            <a:ahLst/>
            <a:rect l="l" t="t" r="r" b="b"/>
            <a:pathLst>
              <a:path w="1142" h="1911">
                <a:moveTo>
                  <a:pt x="19645" y="11013"/>
                </a:moveTo>
                <a:cubicBezTo>
                  <a:pt x="19688" y="11184"/>
                  <a:pt x="19730" y="11354"/>
                  <a:pt x="19745" y="11534"/>
                </a:cubicBezTo>
                <a:cubicBezTo>
                  <a:pt x="19745" y="11608"/>
                  <a:pt x="19745" y="11617"/>
                  <a:pt x="19745" y="11658"/>
                </a:cubicBezTo>
              </a:path>
              <a:path w="1142" h="1911">
                <a:moveTo>
                  <a:pt x="19100" y="11807"/>
                </a:moveTo>
                <a:cubicBezTo>
                  <a:pt x="19474" y="11822"/>
                  <a:pt x="19872" y="11737"/>
                  <a:pt x="20241" y="11782"/>
                </a:cubicBezTo>
                <a:cubicBezTo>
                  <a:pt x="20241" y="11790"/>
                  <a:pt x="20241" y="11799"/>
                  <a:pt x="20241" y="11807"/>
                </a:cubicBezTo>
              </a:path>
              <a:path w="1142" h="1911">
                <a:moveTo>
                  <a:pt x="19472" y="12204"/>
                </a:moveTo>
                <a:cubicBezTo>
                  <a:pt x="19543" y="12204"/>
                  <a:pt x="20105" y="12150"/>
                  <a:pt x="20042" y="12328"/>
                </a:cubicBezTo>
                <a:cubicBezTo>
                  <a:pt x="19990" y="12475"/>
                  <a:pt x="19764" y="12477"/>
                  <a:pt x="19645" y="12502"/>
                </a:cubicBezTo>
                <a:cubicBezTo>
                  <a:pt x="19629" y="12510"/>
                  <a:pt x="19612" y="12518"/>
                  <a:pt x="19596" y="12526"/>
                </a:cubicBezTo>
                <a:cubicBezTo>
                  <a:pt x="19697" y="12526"/>
                  <a:pt x="19978" y="12499"/>
                  <a:pt x="20042" y="12601"/>
                </a:cubicBezTo>
                <a:cubicBezTo>
                  <a:pt x="20180" y="12821"/>
                  <a:pt x="19435" y="12921"/>
                  <a:pt x="19372" y="12923"/>
                </a:cubicBezTo>
                <a:cubicBezTo>
                  <a:pt x="19339" y="12915"/>
                  <a:pt x="19306" y="12906"/>
                  <a:pt x="19273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59800" y="3840120"/>
            <a:ext cx="839520" cy="411120"/>
          </a:xfrm>
          <a:custGeom>
            <a:avLst/>
            <a:gdLst/>
            <a:ahLst/>
            <a:rect l="l" t="t" r="r" b="b"/>
            <a:pathLst>
              <a:path w="2333" h="1142">
                <a:moveTo>
                  <a:pt x="21878" y="10914"/>
                </a:moveTo>
                <a:cubicBezTo>
                  <a:pt x="21888" y="11064"/>
                  <a:pt x="21917" y="11211"/>
                  <a:pt x="21927" y="11361"/>
                </a:cubicBezTo>
              </a:path>
              <a:path w="2333" h="1142">
                <a:moveTo>
                  <a:pt x="21555" y="11112"/>
                </a:moveTo>
                <a:cubicBezTo>
                  <a:pt x="21765" y="11106"/>
                  <a:pt x="21967" y="11081"/>
                  <a:pt x="22175" y="11063"/>
                </a:cubicBezTo>
                <a:cubicBezTo>
                  <a:pt x="22175" y="11141"/>
                  <a:pt x="22154" y="11353"/>
                  <a:pt x="22299" y="11336"/>
                </a:cubicBezTo>
                <a:cubicBezTo>
                  <a:pt x="22391" y="11325"/>
                  <a:pt x="22434" y="11184"/>
                  <a:pt x="22448" y="11112"/>
                </a:cubicBezTo>
                <a:cubicBezTo>
                  <a:pt x="22467" y="11228"/>
                  <a:pt x="22534" y="11324"/>
                  <a:pt x="22647" y="11286"/>
                </a:cubicBezTo>
              </a:path>
              <a:path w="2333" h="1142">
                <a:moveTo>
                  <a:pt x="22572" y="10765"/>
                </a:moveTo>
                <a:cubicBezTo>
                  <a:pt x="22639" y="10932"/>
                  <a:pt x="22710" y="11108"/>
                  <a:pt x="22796" y="11261"/>
                </a:cubicBezTo>
              </a:path>
              <a:path w="2333" h="1142">
                <a:moveTo>
                  <a:pt x="22796" y="11261"/>
                </a:moveTo>
                <a:lnTo>
                  <a:pt x="22796" y="11261"/>
                </a:lnTo>
              </a:path>
              <a:path w="2333" h="1142">
                <a:moveTo>
                  <a:pt x="22920" y="11088"/>
                </a:moveTo>
                <a:cubicBezTo>
                  <a:pt x="22941" y="11196"/>
                  <a:pt x="22944" y="11222"/>
                  <a:pt x="22969" y="11286"/>
                </a:cubicBezTo>
              </a:path>
              <a:path w="2333" h="1142">
                <a:moveTo>
                  <a:pt x="23292" y="11237"/>
                </a:moveTo>
                <a:cubicBezTo>
                  <a:pt x="23313" y="11365"/>
                  <a:pt x="23310" y="11398"/>
                  <a:pt x="23366" y="11460"/>
                </a:cubicBezTo>
                <a:cubicBezTo>
                  <a:pt x="23319" y="11337"/>
                  <a:pt x="23177" y="11096"/>
                  <a:pt x="23267" y="10964"/>
                </a:cubicBezTo>
                <a:cubicBezTo>
                  <a:pt x="23368" y="10816"/>
                  <a:pt x="23438" y="10912"/>
                  <a:pt x="23515" y="10988"/>
                </a:cubicBezTo>
                <a:cubicBezTo>
                  <a:pt x="23434" y="11151"/>
                  <a:pt x="23367" y="11175"/>
                  <a:pt x="23192" y="11112"/>
                </a:cubicBezTo>
              </a:path>
              <a:path w="2333" h="1142">
                <a:moveTo>
                  <a:pt x="23738" y="10914"/>
                </a:moveTo>
                <a:cubicBezTo>
                  <a:pt x="23713" y="10889"/>
                  <a:pt x="23705" y="10881"/>
                  <a:pt x="23688" y="10914"/>
                </a:cubicBezTo>
                <a:cubicBezTo>
                  <a:pt x="23589" y="10991"/>
                  <a:pt x="23724" y="11024"/>
                  <a:pt x="23812" y="11063"/>
                </a:cubicBezTo>
                <a:cubicBezTo>
                  <a:pt x="23957" y="11127"/>
                  <a:pt x="23698" y="11152"/>
                  <a:pt x="23540" y="11137"/>
                </a:cubicBezTo>
              </a:path>
              <a:path w="2333" h="1142">
                <a:moveTo>
                  <a:pt x="23044" y="10666"/>
                </a:moveTo>
                <a:lnTo>
                  <a:pt x="23044" y="10666"/>
                </a:lnTo>
              </a:path>
              <a:path w="2333" h="1142">
                <a:moveTo>
                  <a:pt x="21779" y="11807"/>
                </a:moveTo>
                <a:cubicBezTo>
                  <a:pt x="22287" y="11716"/>
                  <a:pt x="22824" y="11661"/>
                  <a:pt x="23341" y="11633"/>
                </a:cubicBezTo>
                <a:cubicBezTo>
                  <a:pt x="23606" y="11633"/>
                  <a:pt x="23639" y="11633"/>
                  <a:pt x="23788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3040" y="2901960"/>
            <a:ext cx="428760" cy="108000"/>
          </a:xfrm>
          <a:custGeom>
            <a:avLst/>
            <a:gdLst/>
            <a:ahLst/>
            <a:rect l="l" t="t" r="r" b="b"/>
            <a:pathLst>
              <a:path w="1191" h="298">
                <a:moveTo>
                  <a:pt x="1315" y="8359"/>
                </a:moveTo>
                <a:cubicBezTo>
                  <a:pt x="1388" y="8286"/>
                  <a:pt x="1623" y="8266"/>
                  <a:pt x="1736" y="8260"/>
                </a:cubicBezTo>
                <a:cubicBezTo>
                  <a:pt x="1998" y="8246"/>
                  <a:pt x="2224" y="8208"/>
                  <a:pt x="2480" y="8161"/>
                </a:cubicBezTo>
                <a:cubicBezTo>
                  <a:pt x="2505" y="8161"/>
                  <a:pt x="2513" y="8161"/>
                  <a:pt x="2480" y="8161"/>
                </a:cubicBezTo>
              </a:path>
              <a:path w="1191" h="298">
                <a:moveTo>
                  <a:pt x="1339" y="8359"/>
                </a:moveTo>
                <a:cubicBezTo>
                  <a:pt x="1579" y="8296"/>
                  <a:pt x="1817" y="8239"/>
                  <a:pt x="2059" y="8186"/>
                </a:cubicBezTo>
                <a:cubicBezTo>
                  <a:pt x="2204" y="8154"/>
                  <a:pt x="2334" y="8122"/>
                  <a:pt x="2480" y="8111"/>
                </a:cubicBezTo>
              </a:path>
              <a:path w="1191" h="298">
                <a:moveTo>
                  <a:pt x="1315" y="8285"/>
                </a:moveTo>
                <a:cubicBezTo>
                  <a:pt x="1523" y="8262"/>
                  <a:pt x="1728" y="8203"/>
                  <a:pt x="1935" y="8161"/>
                </a:cubicBezTo>
                <a:cubicBezTo>
                  <a:pt x="2109" y="8126"/>
                  <a:pt x="2284" y="8104"/>
                  <a:pt x="2456" y="8062"/>
                </a:cubicBezTo>
              </a:path>
              <a:path w="1191" h="298">
                <a:moveTo>
                  <a:pt x="2456" y="8062"/>
                </a:moveTo>
                <a:lnTo>
                  <a:pt x="2456" y="806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42160" y="4367160"/>
            <a:ext cx="1017720" cy="223920"/>
          </a:xfrm>
          <a:custGeom>
            <a:avLst/>
            <a:gdLst/>
            <a:ahLst/>
            <a:rect l="l" t="t" r="r" b="b"/>
            <a:pathLst>
              <a:path w="2828" h="622">
                <a:moveTo>
                  <a:pt x="21903" y="12278"/>
                </a:moveTo>
                <a:cubicBezTo>
                  <a:pt x="21869" y="12229"/>
                  <a:pt x="21793" y="12257"/>
                  <a:pt x="21729" y="12278"/>
                </a:cubicBezTo>
                <a:cubicBezTo>
                  <a:pt x="21688" y="12443"/>
                  <a:pt x="21840" y="12550"/>
                  <a:pt x="21952" y="12675"/>
                </a:cubicBezTo>
                <a:cubicBezTo>
                  <a:pt x="21999" y="12722"/>
                  <a:pt x="22020" y="12736"/>
                  <a:pt x="21952" y="12750"/>
                </a:cubicBezTo>
              </a:path>
              <a:path w="2828" h="622">
                <a:moveTo>
                  <a:pt x="21506" y="12502"/>
                </a:moveTo>
                <a:cubicBezTo>
                  <a:pt x="21757" y="12521"/>
                  <a:pt x="21954" y="12519"/>
                  <a:pt x="22200" y="12477"/>
                </a:cubicBezTo>
              </a:path>
              <a:path w="2828" h="622">
                <a:moveTo>
                  <a:pt x="22250" y="12303"/>
                </a:moveTo>
                <a:cubicBezTo>
                  <a:pt x="22271" y="12425"/>
                  <a:pt x="22342" y="12529"/>
                  <a:pt x="22374" y="12650"/>
                </a:cubicBezTo>
                <a:cubicBezTo>
                  <a:pt x="22374" y="12658"/>
                  <a:pt x="22374" y="12667"/>
                  <a:pt x="22374" y="12675"/>
                </a:cubicBezTo>
              </a:path>
              <a:path w="2828" h="622">
                <a:moveTo>
                  <a:pt x="22374" y="12675"/>
                </a:moveTo>
                <a:lnTo>
                  <a:pt x="22374" y="12675"/>
                </a:lnTo>
              </a:path>
              <a:path w="2828" h="622">
                <a:moveTo>
                  <a:pt x="22622" y="12427"/>
                </a:moveTo>
                <a:cubicBezTo>
                  <a:pt x="22598" y="12502"/>
                  <a:pt x="22549" y="12781"/>
                  <a:pt x="22746" y="12650"/>
                </a:cubicBezTo>
                <a:cubicBezTo>
                  <a:pt x="22901" y="12547"/>
                  <a:pt x="22730" y="12444"/>
                  <a:pt x="22647" y="12402"/>
                </a:cubicBezTo>
              </a:path>
              <a:path w="2828" h="622">
                <a:moveTo>
                  <a:pt x="22920" y="12328"/>
                </a:moveTo>
                <a:cubicBezTo>
                  <a:pt x="22925" y="12425"/>
                  <a:pt x="22904" y="12695"/>
                  <a:pt x="23093" y="12626"/>
                </a:cubicBezTo>
                <a:cubicBezTo>
                  <a:pt x="23152" y="12567"/>
                  <a:pt x="23175" y="12538"/>
                  <a:pt x="23192" y="12477"/>
                </a:cubicBezTo>
                <a:cubicBezTo>
                  <a:pt x="23113" y="12422"/>
                  <a:pt x="23245" y="12609"/>
                  <a:pt x="23292" y="12626"/>
                </a:cubicBezTo>
                <a:cubicBezTo>
                  <a:pt x="23457" y="12686"/>
                  <a:pt x="23561" y="12462"/>
                  <a:pt x="23440" y="12353"/>
                </a:cubicBezTo>
                <a:cubicBezTo>
                  <a:pt x="23399" y="12336"/>
                  <a:pt x="23357" y="12320"/>
                  <a:pt x="23316" y="12303"/>
                </a:cubicBezTo>
              </a:path>
              <a:path w="2828" h="622">
                <a:moveTo>
                  <a:pt x="23589" y="12378"/>
                </a:moveTo>
                <a:cubicBezTo>
                  <a:pt x="23657" y="12355"/>
                  <a:pt x="23678" y="12354"/>
                  <a:pt x="23688" y="12303"/>
                </a:cubicBezTo>
                <a:cubicBezTo>
                  <a:pt x="23615" y="12303"/>
                  <a:pt x="23536" y="12455"/>
                  <a:pt x="23664" y="12551"/>
                </a:cubicBezTo>
                <a:cubicBezTo>
                  <a:pt x="23825" y="12671"/>
                  <a:pt x="23853" y="12439"/>
                  <a:pt x="23912" y="12378"/>
                </a:cubicBezTo>
                <a:cubicBezTo>
                  <a:pt x="23929" y="12360"/>
                  <a:pt x="23929" y="12404"/>
                  <a:pt x="23937" y="12427"/>
                </a:cubicBezTo>
                <a:cubicBezTo>
                  <a:pt x="23965" y="12244"/>
                  <a:pt x="24019" y="12228"/>
                  <a:pt x="24185" y="12154"/>
                </a:cubicBezTo>
              </a:path>
              <a:path w="2828" h="622">
                <a:moveTo>
                  <a:pt x="24259" y="12129"/>
                </a:moveTo>
                <a:cubicBezTo>
                  <a:pt x="24201" y="12158"/>
                  <a:pt x="24141" y="12190"/>
                  <a:pt x="24110" y="12229"/>
                </a:cubicBezTo>
                <a:cubicBezTo>
                  <a:pt x="24174" y="12293"/>
                  <a:pt x="24278" y="12309"/>
                  <a:pt x="24333" y="12378"/>
                </a:cubicBezTo>
                <a:cubicBezTo>
                  <a:pt x="24212" y="12462"/>
                  <a:pt x="24141" y="12440"/>
                  <a:pt x="23986" y="12427"/>
                </a:cubicBezTo>
              </a:path>
              <a:path w="2828" h="622">
                <a:moveTo>
                  <a:pt x="23986" y="12427"/>
                </a:moveTo>
                <a:lnTo>
                  <a:pt x="23986" y="1242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19760" y="3062160"/>
            <a:ext cx="3376440" cy="179640"/>
          </a:xfrm>
          <a:custGeom>
            <a:avLst/>
            <a:gdLst/>
            <a:ahLst/>
            <a:rect l="l" t="t" r="r" b="b"/>
            <a:pathLst>
              <a:path w="9378" h="497">
                <a:moveTo>
                  <a:pt x="13667" y="8954"/>
                </a:moveTo>
                <a:cubicBezTo>
                  <a:pt x="14259" y="8954"/>
                  <a:pt x="14842" y="8981"/>
                  <a:pt x="15429" y="9004"/>
                </a:cubicBezTo>
                <a:cubicBezTo>
                  <a:pt x="15664" y="9013"/>
                  <a:pt x="15891" y="8983"/>
                  <a:pt x="16123" y="8979"/>
                </a:cubicBezTo>
                <a:cubicBezTo>
                  <a:pt x="16331" y="8976"/>
                  <a:pt x="16535" y="8958"/>
                  <a:pt x="16743" y="8954"/>
                </a:cubicBezTo>
                <a:cubicBezTo>
                  <a:pt x="16946" y="8951"/>
                  <a:pt x="17161" y="8949"/>
                  <a:pt x="17363" y="8930"/>
                </a:cubicBezTo>
                <a:cubicBezTo>
                  <a:pt x="17618" y="8907"/>
                  <a:pt x="17877" y="8907"/>
                  <a:pt x="18132" y="8880"/>
                </a:cubicBezTo>
                <a:cubicBezTo>
                  <a:pt x="18347" y="8857"/>
                  <a:pt x="18562" y="8831"/>
                  <a:pt x="18777" y="8806"/>
                </a:cubicBezTo>
                <a:cubicBezTo>
                  <a:pt x="19038" y="8775"/>
                  <a:pt x="19309" y="8746"/>
                  <a:pt x="19571" y="8731"/>
                </a:cubicBezTo>
                <a:cubicBezTo>
                  <a:pt x="19819" y="8717"/>
                  <a:pt x="20067" y="8726"/>
                  <a:pt x="20315" y="8706"/>
                </a:cubicBezTo>
                <a:cubicBezTo>
                  <a:pt x="20571" y="8685"/>
                  <a:pt x="20828" y="8677"/>
                  <a:pt x="21084" y="8657"/>
                </a:cubicBezTo>
                <a:cubicBezTo>
                  <a:pt x="21481" y="8626"/>
                  <a:pt x="21879" y="8571"/>
                  <a:pt x="22275" y="8533"/>
                </a:cubicBezTo>
                <a:cubicBezTo>
                  <a:pt x="22424" y="8519"/>
                  <a:pt x="22571" y="8510"/>
                  <a:pt x="22721" y="8508"/>
                </a:cubicBezTo>
                <a:cubicBezTo>
                  <a:pt x="22829" y="8506"/>
                  <a:pt x="22936" y="8508"/>
                  <a:pt x="23044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some times when you would need to work with fra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perations might you need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3040" y="15811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15" y="4390"/>
                </a:moveTo>
                <a:lnTo>
                  <a:pt x="1315" y="439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9760" y="204480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414" y="5680"/>
                </a:moveTo>
                <a:cubicBezTo>
                  <a:pt x="1422" y="5680"/>
                  <a:pt x="1431" y="5680"/>
                  <a:pt x="1439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5320" y="1946160"/>
            <a:ext cx="955800" cy="447840"/>
          </a:xfrm>
          <a:custGeom>
            <a:avLst/>
            <a:gdLst/>
            <a:ahLst/>
            <a:rect l="l" t="t" r="r" b="b"/>
            <a:pathLst>
              <a:path w="2655" h="1242">
                <a:moveTo>
                  <a:pt x="1736" y="5407"/>
                </a:moveTo>
                <a:cubicBezTo>
                  <a:pt x="1736" y="5564"/>
                  <a:pt x="1761" y="5724"/>
                  <a:pt x="1786" y="5879"/>
                </a:cubicBezTo>
                <a:cubicBezTo>
                  <a:pt x="1806" y="5978"/>
                  <a:pt x="1814" y="5993"/>
                  <a:pt x="1811" y="6052"/>
                </a:cubicBezTo>
                <a:cubicBezTo>
                  <a:pt x="1790" y="5927"/>
                  <a:pt x="1712" y="5785"/>
                  <a:pt x="1836" y="5680"/>
                </a:cubicBezTo>
                <a:cubicBezTo>
                  <a:pt x="1869" y="5664"/>
                  <a:pt x="1902" y="5647"/>
                  <a:pt x="1935" y="5631"/>
                </a:cubicBezTo>
                <a:cubicBezTo>
                  <a:pt x="2031" y="5718"/>
                  <a:pt x="2139" y="5848"/>
                  <a:pt x="2009" y="5978"/>
                </a:cubicBezTo>
                <a:cubicBezTo>
                  <a:pt x="1903" y="6085"/>
                  <a:pt x="1848" y="6053"/>
                  <a:pt x="1811" y="5978"/>
                </a:cubicBezTo>
              </a:path>
              <a:path w="2655" h="1242">
                <a:moveTo>
                  <a:pt x="2183" y="5755"/>
                </a:moveTo>
                <a:cubicBezTo>
                  <a:pt x="2183" y="5677"/>
                  <a:pt x="2179" y="5989"/>
                  <a:pt x="2183" y="6003"/>
                </a:cubicBezTo>
                <a:cubicBezTo>
                  <a:pt x="2199" y="6019"/>
                  <a:pt x="2216" y="6036"/>
                  <a:pt x="2232" y="6052"/>
                </a:cubicBezTo>
                <a:cubicBezTo>
                  <a:pt x="2329" y="6077"/>
                  <a:pt x="2403" y="5949"/>
                  <a:pt x="2431" y="5829"/>
                </a:cubicBezTo>
                <a:cubicBezTo>
                  <a:pt x="2447" y="5760"/>
                  <a:pt x="2388" y="5779"/>
                  <a:pt x="2431" y="5779"/>
                </a:cubicBezTo>
                <a:cubicBezTo>
                  <a:pt x="2439" y="5816"/>
                  <a:pt x="2514" y="6136"/>
                  <a:pt x="2530" y="6127"/>
                </a:cubicBezTo>
                <a:cubicBezTo>
                  <a:pt x="2555" y="6102"/>
                  <a:pt x="2579" y="6077"/>
                  <a:pt x="2604" y="6052"/>
                </a:cubicBezTo>
              </a:path>
              <a:path w="2655" h="1242">
                <a:moveTo>
                  <a:pt x="2679" y="5829"/>
                </a:moveTo>
                <a:cubicBezTo>
                  <a:pt x="2690" y="5909"/>
                  <a:pt x="2701" y="6035"/>
                  <a:pt x="2753" y="6102"/>
                </a:cubicBezTo>
                <a:cubicBezTo>
                  <a:pt x="2753" y="6094"/>
                  <a:pt x="2753" y="6085"/>
                  <a:pt x="2753" y="6077"/>
                </a:cubicBezTo>
              </a:path>
              <a:path w="2655" h="1242">
                <a:moveTo>
                  <a:pt x="2753" y="6077"/>
                </a:moveTo>
                <a:lnTo>
                  <a:pt x="2753" y="6077"/>
                </a:lnTo>
              </a:path>
              <a:path w="2655" h="1242">
                <a:moveTo>
                  <a:pt x="2629" y="5730"/>
                </a:moveTo>
                <a:lnTo>
                  <a:pt x="2629" y="5730"/>
                </a:lnTo>
              </a:path>
              <a:path w="2655" h="1242">
                <a:moveTo>
                  <a:pt x="2853" y="5581"/>
                </a:moveTo>
                <a:cubicBezTo>
                  <a:pt x="2871" y="5730"/>
                  <a:pt x="2911" y="5879"/>
                  <a:pt x="2927" y="6028"/>
                </a:cubicBezTo>
                <a:cubicBezTo>
                  <a:pt x="2942" y="6164"/>
                  <a:pt x="2929" y="6057"/>
                  <a:pt x="2952" y="6127"/>
                </a:cubicBezTo>
              </a:path>
              <a:path w="2655" h="1242">
                <a:moveTo>
                  <a:pt x="3349" y="5879"/>
                </a:moveTo>
                <a:cubicBezTo>
                  <a:pt x="3341" y="5840"/>
                  <a:pt x="3301" y="5752"/>
                  <a:pt x="3249" y="5755"/>
                </a:cubicBezTo>
                <a:cubicBezTo>
                  <a:pt x="3114" y="5763"/>
                  <a:pt x="3029" y="5995"/>
                  <a:pt x="3051" y="6102"/>
                </a:cubicBezTo>
                <a:cubicBezTo>
                  <a:pt x="3100" y="6344"/>
                  <a:pt x="3283" y="6086"/>
                  <a:pt x="3324" y="6028"/>
                </a:cubicBezTo>
              </a:path>
              <a:path w="2655" h="1242">
                <a:moveTo>
                  <a:pt x="3249" y="5556"/>
                </a:moveTo>
                <a:cubicBezTo>
                  <a:pt x="3267" y="5756"/>
                  <a:pt x="3327" y="5936"/>
                  <a:pt x="3373" y="6127"/>
                </a:cubicBezTo>
                <a:cubicBezTo>
                  <a:pt x="3373" y="6143"/>
                  <a:pt x="3373" y="6160"/>
                  <a:pt x="3373" y="6176"/>
                </a:cubicBezTo>
              </a:path>
              <a:path w="2655" h="1242">
                <a:moveTo>
                  <a:pt x="3373" y="6176"/>
                </a:moveTo>
                <a:lnTo>
                  <a:pt x="3373" y="6176"/>
                </a:lnTo>
              </a:path>
              <a:path w="2655" h="1242">
                <a:moveTo>
                  <a:pt x="3547" y="5854"/>
                </a:moveTo>
                <a:cubicBezTo>
                  <a:pt x="3556" y="5947"/>
                  <a:pt x="3572" y="6032"/>
                  <a:pt x="3572" y="6127"/>
                </a:cubicBezTo>
                <a:cubicBezTo>
                  <a:pt x="3572" y="6119"/>
                  <a:pt x="3572" y="6110"/>
                  <a:pt x="3572" y="6102"/>
                </a:cubicBezTo>
              </a:path>
              <a:path w="2655" h="1242">
                <a:moveTo>
                  <a:pt x="3522" y="5705"/>
                </a:moveTo>
                <a:cubicBezTo>
                  <a:pt x="3522" y="5680"/>
                  <a:pt x="3522" y="5672"/>
                  <a:pt x="3497" y="5680"/>
                </a:cubicBezTo>
              </a:path>
              <a:path w="2655" h="1242">
                <a:moveTo>
                  <a:pt x="3721" y="6003"/>
                </a:moveTo>
                <a:cubicBezTo>
                  <a:pt x="3743" y="6068"/>
                  <a:pt x="3751" y="6083"/>
                  <a:pt x="3746" y="6127"/>
                </a:cubicBezTo>
                <a:cubicBezTo>
                  <a:pt x="3746" y="6028"/>
                  <a:pt x="3707" y="5852"/>
                  <a:pt x="3795" y="5779"/>
                </a:cubicBezTo>
                <a:cubicBezTo>
                  <a:pt x="3906" y="5687"/>
                  <a:pt x="3989" y="5774"/>
                  <a:pt x="4018" y="5904"/>
                </a:cubicBezTo>
                <a:cubicBezTo>
                  <a:pt x="4018" y="6011"/>
                  <a:pt x="4018" y="6036"/>
                  <a:pt x="4018" y="6102"/>
                </a:cubicBezTo>
              </a:path>
              <a:path w="2655" h="1242">
                <a:moveTo>
                  <a:pt x="4291" y="5755"/>
                </a:moveTo>
                <a:cubicBezTo>
                  <a:pt x="4211" y="5826"/>
                  <a:pt x="4050" y="6002"/>
                  <a:pt x="4142" y="6127"/>
                </a:cubicBezTo>
                <a:cubicBezTo>
                  <a:pt x="4235" y="6254"/>
                  <a:pt x="4308" y="5984"/>
                  <a:pt x="4316" y="5953"/>
                </a:cubicBezTo>
                <a:cubicBezTo>
                  <a:pt x="4260" y="5897"/>
                  <a:pt x="4361" y="6124"/>
                  <a:pt x="4366" y="6152"/>
                </a:cubicBezTo>
                <a:cubicBezTo>
                  <a:pt x="4401" y="6331"/>
                  <a:pt x="4403" y="6569"/>
                  <a:pt x="4192" y="6648"/>
                </a:cubicBezTo>
                <a:cubicBezTo>
                  <a:pt x="4097" y="6683"/>
                  <a:pt x="4072" y="6627"/>
                  <a:pt x="4018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7960" y="1938240"/>
            <a:ext cx="750960" cy="285840"/>
          </a:xfrm>
          <a:custGeom>
            <a:avLst/>
            <a:gdLst/>
            <a:ahLst/>
            <a:rect l="l" t="t" r="r" b="b"/>
            <a:pathLst>
              <a:path w="2085" h="794">
                <a:moveTo>
                  <a:pt x="4862" y="5383"/>
                </a:moveTo>
                <a:cubicBezTo>
                  <a:pt x="4752" y="5522"/>
                  <a:pt x="4644" y="5715"/>
                  <a:pt x="4663" y="5904"/>
                </a:cubicBezTo>
                <a:cubicBezTo>
                  <a:pt x="4669" y="5969"/>
                  <a:pt x="4720" y="6085"/>
                  <a:pt x="4787" y="6102"/>
                </a:cubicBezTo>
              </a:path>
              <a:path w="2085" h="794">
                <a:moveTo>
                  <a:pt x="5011" y="5755"/>
                </a:moveTo>
                <a:cubicBezTo>
                  <a:pt x="5011" y="5846"/>
                  <a:pt x="5011" y="5937"/>
                  <a:pt x="5011" y="6028"/>
                </a:cubicBezTo>
                <a:cubicBezTo>
                  <a:pt x="4970" y="5973"/>
                  <a:pt x="4959" y="5845"/>
                  <a:pt x="4986" y="5779"/>
                </a:cubicBezTo>
                <a:cubicBezTo>
                  <a:pt x="5038" y="5654"/>
                  <a:pt x="5169" y="5713"/>
                  <a:pt x="5209" y="5804"/>
                </a:cubicBezTo>
                <a:cubicBezTo>
                  <a:pt x="5249" y="5895"/>
                  <a:pt x="5223" y="5919"/>
                  <a:pt x="5209" y="6003"/>
                </a:cubicBezTo>
                <a:cubicBezTo>
                  <a:pt x="5158" y="5952"/>
                  <a:pt x="5174" y="5805"/>
                  <a:pt x="5234" y="5730"/>
                </a:cubicBezTo>
                <a:cubicBezTo>
                  <a:pt x="5335" y="5605"/>
                  <a:pt x="5423" y="5729"/>
                  <a:pt x="5457" y="5829"/>
                </a:cubicBezTo>
                <a:cubicBezTo>
                  <a:pt x="5474" y="5880"/>
                  <a:pt x="5457" y="6086"/>
                  <a:pt x="5457" y="6052"/>
                </a:cubicBezTo>
              </a:path>
              <a:path w="2085" h="794">
                <a:moveTo>
                  <a:pt x="5730" y="5879"/>
                </a:moveTo>
                <a:cubicBezTo>
                  <a:pt x="5791" y="5897"/>
                  <a:pt x="5801" y="5904"/>
                  <a:pt x="5854" y="5904"/>
                </a:cubicBezTo>
                <a:cubicBezTo>
                  <a:pt x="5854" y="5840"/>
                  <a:pt x="5859" y="5806"/>
                  <a:pt x="5804" y="5779"/>
                </a:cubicBezTo>
                <a:cubicBezTo>
                  <a:pt x="5700" y="5728"/>
                  <a:pt x="5634" y="5816"/>
                  <a:pt x="5631" y="5928"/>
                </a:cubicBezTo>
                <a:cubicBezTo>
                  <a:pt x="5628" y="6053"/>
                  <a:pt x="5711" y="6209"/>
                  <a:pt x="5854" y="6176"/>
                </a:cubicBezTo>
                <a:cubicBezTo>
                  <a:pt x="5957" y="6125"/>
                  <a:pt x="5994" y="6106"/>
                  <a:pt x="6052" y="6052"/>
                </a:cubicBezTo>
              </a:path>
              <a:path w="2085" h="794">
                <a:moveTo>
                  <a:pt x="6176" y="5779"/>
                </a:moveTo>
                <a:cubicBezTo>
                  <a:pt x="6043" y="5779"/>
                  <a:pt x="6024" y="5882"/>
                  <a:pt x="6003" y="6003"/>
                </a:cubicBezTo>
                <a:cubicBezTo>
                  <a:pt x="6003" y="6028"/>
                  <a:pt x="6003" y="6052"/>
                  <a:pt x="6003" y="6077"/>
                </a:cubicBezTo>
                <a:cubicBezTo>
                  <a:pt x="6203" y="6118"/>
                  <a:pt x="6211" y="6043"/>
                  <a:pt x="6276" y="5879"/>
                </a:cubicBezTo>
                <a:cubicBezTo>
                  <a:pt x="6316" y="5777"/>
                  <a:pt x="6267" y="5846"/>
                  <a:pt x="6276" y="5904"/>
                </a:cubicBezTo>
                <a:cubicBezTo>
                  <a:pt x="6296" y="6028"/>
                  <a:pt x="6281" y="6051"/>
                  <a:pt x="6375" y="6077"/>
                </a:cubicBezTo>
              </a:path>
              <a:path w="2085" h="794">
                <a:moveTo>
                  <a:pt x="6697" y="5755"/>
                </a:moveTo>
                <a:cubicBezTo>
                  <a:pt x="6623" y="5768"/>
                  <a:pt x="6611" y="5779"/>
                  <a:pt x="6548" y="5804"/>
                </a:cubicBezTo>
                <a:cubicBezTo>
                  <a:pt x="6576" y="5914"/>
                  <a:pt x="6727" y="5911"/>
                  <a:pt x="6747" y="6003"/>
                </a:cubicBezTo>
                <a:cubicBezTo>
                  <a:pt x="6776" y="6137"/>
                  <a:pt x="6530" y="6143"/>
                  <a:pt x="6474" y="6127"/>
                </a:cubicBezTo>
              </a:path>
              <a:path w="2085" h="794">
                <a:moveTo>
                  <a:pt x="6474" y="6127"/>
                </a:moveTo>
                <a:lnTo>
                  <a:pt x="6474" y="612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36920" y="1901880"/>
            <a:ext cx="517320" cy="312840"/>
          </a:xfrm>
          <a:custGeom>
            <a:avLst/>
            <a:gdLst/>
            <a:ahLst/>
            <a:rect l="l" t="t" r="r" b="b"/>
            <a:pathLst>
              <a:path w="1439" h="870">
                <a:moveTo>
                  <a:pt x="7069" y="5804"/>
                </a:moveTo>
                <a:cubicBezTo>
                  <a:pt x="7053" y="5888"/>
                  <a:pt x="7020" y="5966"/>
                  <a:pt x="7069" y="6052"/>
                </a:cubicBezTo>
                <a:cubicBezTo>
                  <a:pt x="7160" y="6214"/>
                  <a:pt x="7251" y="5952"/>
                  <a:pt x="7268" y="5904"/>
                </a:cubicBezTo>
                <a:cubicBezTo>
                  <a:pt x="7260" y="5879"/>
                  <a:pt x="7251" y="5854"/>
                  <a:pt x="7243" y="5829"/>
                </a:cubicBezTo>
                <a:cubicBezTo>
                  <a:pt x="7247" y="5888"/>
                  <a:pt x="7228" y="6174"/>
                  <a:pt x="7367" y="6102"/>
                </a:cubicBezTo>
                <a:cubicBezTo>
                  <a:pt x="7392" y="6077"/>
                  <a:pt x="7416" y="6053"/>
                  <a:pt x="7441" y="6028"/>
                </a:cubicBezTo>
              </a:path>
              <a:path w="1439" h="870">
                <a:moveTo>
                  <a:pt x="7466" y="5904"/>
                </a:moveTo>
                <a:cubicBezTo>
                  <a:pt x="7491" y="6002"/>
                  <a:pt x="7499" y="6034"/>
                  <a:pt x="7491" y="6102"/>
                </a:cubicBezTo>
                <a:cubicBezTo>
                  <a:pt x="7509" y="5993"/>
                  <a:pt x="7519" y="5869"/>
                  <a:pt x="7590" y="5779"/>
                </a:cubicBezTo>
                <a:cubicBezTo>
                  <a:pt x="7618" y="5744"/>
                  <a:pt x="7683" y="5771"/>
                  <a:pt x="7714" y="5779"/>
                </a:cubicBezTo>
              </a:path>
              <a:path w="1439" h="870">
                <a:moveTo>
                  <a:pt x="7838" y="5879"/>
                </a:moveTo>
                <a:cubicBezTo>
                  <a:pt x="7909" y="5897"/>
                  <a:pt x="7964" y="5904"/>
                  <a:pt x="8037" y="5904"/>
                </a:cubicBezTo>
                <a:cubicBezTo>
                  <a:pt x="8026" y="5861"/>
                  <a:pt x="8013" y="5821"/>
                  <a:pt x="7987" y="5804"/>
                </a:cubicBezTo>
                <a:cubicBezTo>
                  <a:pt x="7904" y="5804"/>
                  <a:pt x="7897" y="5903"/>
                  <a:pt x="7888" y="5978"/>
                </a:cubicBezTo>
                <a:cubicBezTo>
                  <a:pt x="7888" y="6063"/>
                  <a:pt x="7882" y="6083"/>
                  <a:pt x="7913" y="6127"/>
                </a:cubicBezTo>
                <a:cubicBezTo>
                  <a:pt x="8015" y="6133"/>
                  <a:pt x="8092" y="6146"/>
                  <a:pt x="8186" y="6127"/>
                </a:cubicBezTo>
              </a:path>
              <a:path w="1439" h="870">
                <a:moveTo>
                  <a:pt x="8260" y="5283"/>
                </a:moveTo>
                <a:cubicBezTo>
                  <a:pt x="8402" y="5445"/>
                  <a:pt x="8480" y="5607"/>
                  <a:pt x="8483" y="5829"/>
                </a:cubicBezTo>
                <a:cubicBezTo>
                  <a:pt x="8485" y="5983"/>
                  <a:pt x="8404" y="6014"/>
                  <a:pt x="8359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65960" y="1928880"/>
            <a:ext cx="911160" cy="393480"/>
          </a:xfrm>
          <a:custGeom>
            <a:avLst/>
            <a:gdLst/>
            <a:ahLst/>
            <a:rect l="l" t="t" r="r" b="b"/>
            <a:pathLst>
              <a:path w="2531" h="1092">
                <a:moveTo>
                  <a:pt x="18355" y="5482"/>
                </a:moveTo>
                <a:cubicBezTo>
                  <a:pt x="18239" y="5465"/>
                  <a:pt x="18119" y="5442"/>
                  <a:pt x="18008" y="5507"/>
                </a:cubicBezTo>
                <a:cubicBezTo>
                  <a:pt x="18008" y="5515"/>
                  <a:pt x="18008" y="5523"/>
                  <a:pt x="18008" y="5531"/>
                </a:cubicBezTo>
                <a:cubicBezTo>
                  <a:pt x="18157" y="5598"/>
                  <a:pt x="18220" y="5583"/>
                  <a:pt x="18306" y="5730"/>
                </a:cubicBezTo>
                <a:cubicBezTo>
                  <a:pt x="18150" y="5796"/>
                  <a:pt x="18060" y="5808"/>
                  <a:pt x="17959" y="5680"/>
                </a:cubicBezTo>
              </a:path>
              <a:path w="2531" h="1092">
                <a:moveTo>
                  <a:pt x="18355" y="5358"/>
                </a:moveTo>
                <a:cubicBezTo>
                  <a:pt x="18381" y="5492"/>
                  <a:pt x="18405" y="5618"/>
                  <a:pt x="18405" y="5755"/>
                </a:cubicBezTo>
                <a:cubicBezTo>
                  <a:pt x="18397" y="5698"/>
                  <a:pt x="18341" y="5570"/>
                  <a:pt x="18430" y="5556"/>
                </a:cubicBezTo>
                <a:cubicBezTo>
                  <a:pt x="18610" y="5527"/>
                  <a:pt x="18622" y="5681"/>
                  <a:pt x="18604" y="5804"/>
                </a:cubicBezTo>
              </a:path>
              <a:path w="2531" h="1092">
                <a:moveTo>
                  <a:pt x="18777" y="5581"/>
                </a:moveTo>
                <a:cubicBezTo>
                  <a:pt x="18741" y="5614"/>
                  <a:pt x="18581" y="5797"/>
                  <a:pt x="18752" y="5804"/>
                </a:cubicBezTo>
                <a:cubicBezTo>
                  <a:pt x="18873" y="5809"/>
                  <a:pt x="18890" y="5630"/>
                  <a:pt x="18802" y="5606"/>
                </a:cubicBezTo>
                <a:cubicBezTo>
                  <a:pt x="18794" y="5606"/>
                  <a:pt x="18785" y="5606"/>
                  <a:pt x="18777" y="5606"/>
                </a:cubicBezTo>
              </a:path>
              <a:path w="2531" h="1092">
                <a:moveTo>
                  <a:pt x="18777" y="5606"/>
                </a:moveTo>
                <a:lnTo>
                  <a:pt x="18777" y="5606"/>
                </a:lnTo>
              </a:path>
              <a:path w="2531" h="1092">
                <a:moveTo>
                  <a:pt x="18976" y="5854"/>
                </a:moveTo>
                <a:cubicBezTo>
                  <a:pt x="18997" y="5986"/>
                  <a:pt x="19005" y="6018"/>
                  <a:pt x="19000" y="6102"/>
                </a:cubicBezTo>
                <a:cubicBezTo>
                  <a:pt x="18969" y="5976"/>
                  <a:pt x="18874" y="5812"/>
                  <a:pt x="18951" y="5680"/>
                </a:cubicBezTo>
                <a:cubicBezTo>
                  <a:pt x="19028" y="5629"/>
                  <a:pt x="19056" y="5613"/>
                  <a:pt x="19124" y="5631"/>
                </a:cubicBezTo>
                <a:cubicBezTo>
                  <a:pt x="19112" y="5783"/>
                  <a:pt x="19074" y="5870"/>
                  <a:pt x="18901" y="5829"/>
                </a:cubicBezTo>
                <a:cubicBezTo>
                  <a:pt x="18893" y="5821"/>
                  <a:pt x="18884" y="5812"/>
                  <a:pt x="18876" y="5804"/>
                </a:cubicBezTo>
              </a:path>
              <a:path w="2531" h="1092">
                <a:moveTo>
                  <a:pt x="19224" y="5655"/>
                </a:moveTo>
                <a:cubicBezTo>
                  <a:pt x="19246" y="5789"/>
                  <a:pt x="19265" y="5917"/>
                  <a:pt x="19273" y="6052"/>
                </a:cubicBezTo>
                <a:cubicBezTo>
                  <a:pt x="19258" y="5916"/>
                  <a:pt x="19199" y="5700"/>
                  <a:pt x="19348" y="5606"/>
                </a:cubicBezTo>
                <a:cubicBezTo>
                  <a:pt x="19381" y="5606"/>
                  <a:pt x="19414" y="5606"/>
                  <a:pt x="19447" y="5606"/>
                </a:cubicBezTo>
                <a:cubicBezTo>
                  <a:pt x="19482" y="5695"/>
                  <a:pt x="19441" y="5870"/>
                  <a:pt x="19273" y="5804"/>
                </a:cubicBezTo>
                <a:cubicBezTo>
                  <a:pt x="19251" y="5761"/>
                  <a:pt x="19238" y="5749"/>
                  <a:pt x="19273" y="5730"/>
                </a:cubicBezTo>
              </a:path>
              <a:path w="2531" h="1092">
                <a:moveTo>
                  <a:pt x="19571" y="5606"/>
                </a:moveTo>
                <a:cubicBezTo>
                  <a:pt x="19581" y="5662"/>
                  <a:pt x="19600" y="5864"/>
                  <a:pt x="19695" y="5829"/>
                </a:cubicBezTo>
                <a:cubicBezTo>
                  <a:pt x="19790" y="5765"/>
                  <a:pt x="19826" y="5725"/>
                  <a:pt x="19844" y="5631"/>
                </a:cubicBezTo>
                <a:cubicBezTo>
                  <a:pt x="19905" y="5590"/>
                  <a:pt x="19869" y="5722"/>
                  <a:pt x="19869" y="5779"/>
                </a:cubicBezTo>
                <a:cubicBezTo>
                  <a:pt x="19892" y="5684"/>
                  <a:pt x="19898" y="5655"/>
                  <a:pt x="19943" y="5606"/>
                </a:cubicBezTo>
                <a:cubicBezTo>
                  <a:pt x="20055" y="5622"/>
                  <a:pt x="20036" y="5793"/>
                  <a:pt x="20067" y="5804"/>
                </a:cubicBezTo>
                <a:cubicBezTo>
                  <a:pt x="20100" y="5796"/>
                  <a:pt x="20133" y="5787"/>
                  <a:pt x="20166" y="5779"/>
                </a:cubicBezTo>
              </a:path>
              <a:path w="2531" h="1092">
                <a:moveTo>
                  <a:pt x="20365" y="5581"/>
                </a:moveTo>
                <a:cubicBezTo>
                  <a:pt x="20247" y="5679"/>
                  <a:pt x="20182" y="5723"/>
                  <a:pt x="20241" y="5879"/>
                </a:cubicBezTo>
                <a:cubicBezTo>
                  <a:pt x="20327" y="5829"/>
                  <a:pt x="20360" y="5795"/>
                  <a:pt x="20414" y="5705"/>
                </a:cubicBezTo>
                <a:cubicBezTo>
                  <a:pt x="20442" y="5870"/>
                  <a:pt x="20539" y="6053"/>
                  <a:pt x="20489" y="6226"/>
                </a:cubicBezTo>
                <a:cubicBezTo>
                  <a:pt x="20410" y="6500"/>
                  <a:pt x="20213" y="6461"/>
                  <a:pt x="20067" y="6325"/>
                </a:cubicBezTo>
              </a:path>
              <a:path w="2531" h="1092">
                <a:moveTo>
                  <a:pt x="19695" y="5358"/>
                </a:moveTo>
                <a:lnTo>
                  <a:pt x="19695" y="535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7680" y="2428920"/>
            <a:ext cx="1872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1439" y="6747"/>
                </a:moveTo>
                <a:cubicBezTo>
                  <a:pt x="1467" y="6776"/>
                  <a:pt x="1479" y="6785"/>
                  <a:pt x="1488" y="68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9960" y="2340000"/>
            <a:ext cx="830160" cy="295200"/>
          </a:xfrm>
          <a:custGeom>
            <a:avLst/>
            <a:gdLst/>
            <a:ahLst/>
            <a:rect l="l" t="t" r="r" b="b"/>
            <a:pathLst>
              <a:path w="2308" h="819">
                <a:moveTo>
                  <a:pt x="1860" y="6499"/>
                </a:moveTo>
                <a:cubicBezTo>
                  <a:pt x="1869" y="6633"/>
                  <a:pt x="1898" y="6763"/>
                  <a:pt x="1910" y="6896"/>
                </a:cubicBezTo>
                <a:cubicBezTo>
                  <a:pt x="1910" y="6846"/>
                  <a:pt x="1932" y="6785"/>
                  <a:pt x="1935" y="6772"/>
                </a:cubicBezTo>
                <a:cubicBezTo>
                  <a:pt x="1950" y="6711"/>
                  <a:pt x="1917" y="6672"/>
                  <a:pt x="1960" y="6623"/>
                </a:cubicBezTo>
                <a:cubicBezTo>
                  <a:pt x="2010" y="6566"/>
                  <a:pt x="2138" y="6593"/>
                  <a:pt x="2183" y="6648"/>
                </a:cubicBezTo>
                <a:cubicBezTo>
                  <a:pt x="2258" y="6741"/>
                  <a:pt x="2245" y="6839"/>
                  <a:pt x="2133" y="6896"/>
                </a:cubicBezTo>
                <a:cubicBezTo>
                  <a:pt x="2065" y="6930"/>
                  <a:pt x="1932" y="6933"/>
                  <a:pt x="1910" y="6846"/>
                </a:cubicBezTo>
                <a:cubicBezTo>
                  <a:pt x="1910" y="6829"/>
                  <a:pt x="1910" y="6813"/>
                  <a:pt x="1910" y="6796"/>
                </a:cubicBezTo>
              </a:path>
              <a:path w="2308" h="819">
                <a:moveTo>
                  <a:pt x="2604" y="6821"/>
                </a:moveTo>
                <a:cubicBezTo>
                  <a:pt x="2604" y="6757"/>
                  <a:pt x="2571" y="6716"/>
                  <a:pt x="2505" y="6697"/>
                </a:cubicBezTo>
                <a:cubicBezTo>
                  <a:pt x="2421" y="6673"/>
                  <a:pt x="2332" y="6745"/>
                  <a:pt x="2307" y="6821"/>
                </a:cubicBezTo>
                <a:cubicBezTo>
                  <a:pt x="2264" y="6952"/>
                  <a:pt x="2437" y="7010"/>
                  <a:pt x="2530" y="6970"/>
                </a:cubicBezTo>
                <a:cubicBezTo>
                  <a:pt x="2605" y="6937"/>
                  <a:pt x="2604" y="6878"/>
                  <a:pt x="2604" y="6796"/>
                </a:cubicBezTo>
                <a:cubicBezTo>
                  <a:pt x="2634" y="6849"/>
                  <a:pt x="2642" y="6961"/>
                  <a:pt x="2704" y="6995"/>
                </a:cubicBezTo>
                <a:cubicBezTo>
                  <a:pt x="2712" y="6995"/>
                  <a:pt x="2721" y="6995"/>
                  <a:pt x="2729" y="6995"/>
                </a:cubicBezTo>
              </a:path>
              <a:path w="2308" h="819">
                <a:moveTo>
                  <a:pt x="2853" y="6548"/>
                </a:moveTo>
                <a:cubicBezTo>
                  <a:pt x="2853" y="6648"/>
                  <a:pt x="2880" y="6749"/>
                  <a:pt x="2902" y="6846"/>
                </a:cubicBezTo>
                <a:cubicBezTo>
                  <a:pt x="2913" y="6897"/>
                  <a:pt x="2927" y="7057"/>
                  <a:pt x="2927" y="6896"/>
                </a:cubicBezTo>
              </a:path>
              <a:path w="2308" h="819">
                <a:moveTo>
                  <a:pt x="3076" y="6623"/>
                </a:moveTo>
                <a:cubicBezTo>
                  <a:pt x="3038" y="6682"/>
                  <a:pt x="2976" y="6748"/>
                  <a:pt x="2952" y="6796"/>
                </a:cubicBezTo>
                <a:cubicBezTo>
                  <a:pt x="3023" y="6796"/>
                  <a:pt x="3099" y="6785"/>
                  <a:pt x="3150" y="6846"/>
                </a:cubicBezTo>
                <a:cubicBezTo>
                  <a:pt x="3196" y="6900"/>
                  <a:pt x="3199" y="6936"/>
                  <a:pt x="3225" y="6995"/>
                </a:cubicBezTo>
              </a:path>
              <a:path w="2308" h="819">
                <a:moveTo>
                  <a:pt x="3299" y="6697"/>
                </a:moveTo>
                <a:cubicBezTo>
                  <a:pt x="3319" y="6765"/>
                  <a:pt x="3329" y="6828"/>
                  <a:pt x="3349" y="6896"/>
                </a:cubicBezTo>
              </a:path>
              <a:path w="2308" h="819">
                <a:moveTo>
                  <a:pt x="3349" y="6896"/>
                </a:moveTo>
                <a:lnTo>
                  <a:pt x="3349" y="6896"/>
                </a:lnTo>
              </a:path>
              <a:path w="2308" h="819">
                <a:moveTo>
                  <a:pt x="3299" y="6598"/>
                </a:moveTo>
                <a:lnTo>
                  <a:pt x="3299" y="6598"/>
                </a:lnTo>
                <a:lnTo>
                  <a:pt x="3299" y="6598"/>
                </a:lnTo>
              </a:path>
              <a:path w="2308" h="819">
                <a:moveTo>
                  <a:pt x="3597" y="6871"/>
                </a:moveTo>
                <a:cubicBezTo>
                  <a:pt x="3618" y="6936"/>
                  <a:pt x="3626" y="6952"/>
                  <a:pt x="3621" y="6995"/>
                </a:cubicBezTo>
                <a:cubicBezTo>
                  <a:pt x="3621" y="6881"/>
                  <a:pt x="3622" y="6782"/>
                  <a:pt x="3646" y="6672"/>
                </a:cubicBezTo>
                <a:cubicBezTo>
                  <a:pt x="3767" y="6705"/>
                  <a:pt x="3804" y="6762"/>
                  <a:pt x="3820" y="6896"/>
                </a:cubicBezTo>
                <a:cubicBezTo>
                  <a:pt x="3826" y="6950"/>
                  <a:pt x="3791" y="6942"/>
                  <a:pt x="3820" y="6970"/>
                </a:cubicBezTo>
              </a:path>
              <a:path w="2308" h="819">
                <a:moveTo>
                  <a:pt x="4043" y="6672"/>
                </a:moveTo>
                <a:cubicBezTo>
                  <a:pt x="4024" y="6694"/>
                  <a:pt x="3825" y="6914"/>
                  <a:pt x="3944" y="6921"/>
                </a:cubicBezTo>
                <a:cubicBezTo>
                  <a:pt x="4038" y="6926"/>
                  <a:pt x="4044" y="6836"/>
                  <a:pt x="4068" y="6772"/>
                </a:cubicBezTo>
                <a:cubicBezTo>
                  <a:pt x="4149" y="6933"/>
                  <a:pt x="4202" y="7061"/>
                  <a:pt x="4093" y="7218"/>
                </a:cubicBezTo>
                <a:cubicBezTo>
                  <a:pt x="4015" y="7330"/>
                  <a:pt x="3982" y="7316"/>
                  <a:pt x="3894" y="72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25760" y="2276640"/>
            <a:ext cx="1419120" cy="349200"/>
          </a:xfrm>
          <a:custGeom>
            <a:avLst/>
            <a:gdLst/>
            <a:ahLst/>
            <a:rect l="l" t="t" r="r" b="b"/>
            <a:pathLst>
              <a:path w="3945" h="969">
                <a:moveTo>
                  <a:pt x="4589" y="6350"/>
                </a:moveTo>
                <a:cubicBezTo>
                  <a:pt x="4488" y="6500"/>
                  <a:pt x="4505" y="6678"/>
                  <a:pt x="4564" y="6846"/>
                </a:cubicBezTo>
                <a:cubicBezTo>
                  <a:pt x="4596" y="6936"/>
                  <a:pt x="4674" y="7022"/>
                  <a:pt x="4762" y="7045"/>
                </a:cubicBezTo>
              </a:path>
              <a:path w="3945" h="969">
                <a:moveTo>
                  <a:pt x="4936" y="6325"/>
                </a:moveTo>
                <a:cubicBezTo>
                  <a:pt x="4936" y="6391"/>
                  <a:pt x="4936" y="6458"/>
                  <a:pt x="4936" y="6524"/>
                </a:cubicBezTo>
              </a:path>
              <a:path w="3945" h="969">
                <a:moveTo>
                  <a:pt x="4713" y="6623"/>
                </a:moveTo>
                <a:cubicBezTo>
                  <a:pt x="4845" y="6623"/>
                  <a:pt x="4978" y="6623"/>
                  <a:pt x="5110" y="6623"/>
                </a:cubicBezTo>
              </a:path>
              <a:path w="3945" h="969">
                <a:moveTo>
                  <a:pt x="5110" y="6623"/>
                </a:moveTo>
                <a:lnTo>
                  <a:pt x="5110" y="6623"/>
                </a:lnTo>
              </a:path>
              <a:path w="3945" h="969">
                <a:moveTo>
                  <a:pt x="4911" y="6747"/>
                </a:moveTo>
                <a:cubicBezTo>
                  <a:pt x="4955" y="6714"/>
                  <a:pt x="4982" y="6711"/>
                  <a:pt x="5035" y="6747"/>
                </a:cubicBezTo>
                <a:cubicBezTo>
                  <a:pt x="5043" y="6755"/>
                  <a:pt x="5052" y="6764"/>
                  <a:pt x="5060" y="6772"/>
                </a:cubicBezTo>
                <a:cubicBezTo>
                  <a:pt x="5020" y="6893"/>
                  <a:pt x="4941" y="6897"/>
                  <a:pt x="4862" y="6970"/>
                </a:cubicBezTo>
                <a:cubicBezTo>
                  <a:pt x="4830" y="7000"/>
                  <a:pt x="4842" y="6995"/>
                  <a:pt x="4887" y="6995"/>
                </a:cubicBezTo>
              </a:path>
              <a:path w="3945" h="969">
                <a:moveTo>
                  <a:pt x="4762" y="6747"/>
                </a:moveTo>
                <a:cubicBezTo>
                  <a:pt x="4754" y="6791"/>
                  <a:pt x="4743" y="6825"/>
                  <a:pt x="4738" y="6871"/>
                </a:cubicBezTo>
                <a:cubicBezTo>
                  <a:pt x="4816" y="6858"/>
                  <a:pt x="4879" y="6846"/>
                  <a:pt x="4961" y="6846"/>
                </a:cubicBezTo>
              </a:path>
              <a:path w="3945" h="969">
                <a:moveTo>
                  <a:pt x="5011" y="6722"/>
                </a:moveTo>
                <a:cubicBezTo>
                  <a:pt x="5011" y="6806"/>
                  <a:pt x="5000" y="6914"/>
                  <a:pt x="4986" y="6995"/>
                </a:cubicBezTo>
                <a:cubicBezTo>
                  <a:pt x="4977" y="7045"/>
                  <a:pt x="4961" y="7145"/>
                  <a:pt x="4961" y="7094"/>
                </a:cubicBezTo>
              </a:path>
              <a:path w="3945" h="969">
                <a:moveTo>
                  <a:pt x="4961" y="7094"/>
                </a:moveTo>
                <a:lnTo>
                  <a:pt x="4961" y="7094"/>
                </a:lnTo>
              </a:path>
              <a:path w="3945" h="969">
                <a:moveTo>
                  <a:pt x="4787" y="6747"/>
                </a:moveTo>
                <a:cubicBezTo>
                  <a:pt x="4777" y="6787"/>
                  <a:pt x="4748" y="6805"/>
                  <a:pt x="4738" y="6846"/>
                </a:cubicBezTo>
                <a:cubicBezTo>
                  <a:pt x="4761" y="6843"/>
                  <a:pt x="4918" y="6839"/>
                  <a:pt x="4936" y="6821"/>
                </a:cubicBezTo>
                <a:cubicBezTo>
                  <a:pt x="4948" y="6809"/>
                  <a:pt x="4936" y="6714"/>
                  <a:pt x="4936" y="6697"/>
                </a:cubicBezTo>
                <a:cubicBezTo>
                  <a:pt x="4982" y="6759"/>
                  <a:pt x="4961" y="6843"/>
                  <a:pt x="4961" y="6921"/>
                </a:cubicBezTo>
                <a:cubicBezTo>
                  <a:pt x="4961" y="6979"/>
                  <a:pt x="4961" y="7036"/>
                  <a:pt x="4961" y="7094"/>
                </a:cubicBezTo>
              </a:path>
              <a:path w="3945" h="969">
                <a:moveTo>
                  <a:pt x="5581" y="6722"/>
                </a:moveTo>
                <a:cubicBezTo>
                  <a:pt x="5581" y="6759"/>
                  <a:pt x="5574" y="6664"/>
                  <a:pt x="5531" y="6623"/>
                </a:cubicBezTo>
                <a:cubicBezTo>
                  <a:pt x="5411" y="6510"/>
                  <a:pt x="5339" y="6725"/>
                  <a:pt x="5308" y="6796"/>
                </a:cubicBezTo>
                <a:cubicBezTo>
                  <a:pt x="5269" y="6896"/>
                  <a:pt x="5241" y="6914"/>
                  <a:pt x="5283" y="6970"/>
                </a:cubicBezTo>
                <a:cubicBezTo>
                  <a:pt x="5390" y="6986"/>
                  <a:pt x="5450" y="6963"/>
                  <a:pt x="5556" y="6945"/>
                </a:cubicBezTo>
              </a:path>
              <a:path w="3945" h="969">
                <a:moveTo>
                  <a:pt x="5779" y="6970"/>
                </a:moveTo>
                <a:cubicBezTo>
                  <a:pt x="5779" y="7111"/>
                  <a:pt x="5753" y="7111"/>
                  <a:pt x="5655" y="7193"/>
                </a:cubicBezTo>
              </a:path>
              <a:path w="3945" h="969">
                <a:moveTo>
                  <a:pt x="6102" y="6573"/>
                </a:moveTo>
                <a:cubicBezTo>
                  <a:pt x="6146" y="6603"/>
                  <a:pt x="6091" y="6729"/>
                  <a:pt x="6077" y="6796"/>
                </a:cubicBezTo>
                <a:cubicBezTo>
                  <a:pt x="6049" y="6933"/>
                  <a:pt x="6059" y="7020"/>
                  <a:pt x="6226" y="6970"/>
                </a:cubicBezTo>
                <a:cubicBezTo>
                  <a:pt x="6248" y="6948"/>
                  <a:pt x="6257" y="6943"/>
                  <a:pt x="6251" y="6921"/>
                </a:cubicBezTo>
              </a:path>
              <a:path w="3945" h="969">
                <a:moveTo>
                  <a:pt x="5904" y="6821"/>
                </a:moveTo>
                <a:cubicBezTo>
                  <a:pt x="5985" y="6766"/>
                  <a:pt x="6078" y="6767"/>
                  <a:pt x="6176" y="6747"/>
                </a:cubicBezTo>
              </a:path>
              <a:path w="3945" h="969">
                <a:moveTo>
                  <a:pt x="6176" y="6747"/>
                </a:moveTo>
                <a:lnTo>
                  <a:pt x="6176" y="6747"/>
                </a:lnTo>
              </a:path>
              <a:path w="3945" h="969">
                <a:moveTo>
                  <a:pt x="6499" y="6697"/>
                </a:moveTo>
                <a:cubicBezTo>
                  <a:pt x="6449" y="6714"/>
                  <a:pt x="6399" y="6744"/>
                  <a:pt x="6350" y="6772"/>
                </a:cubicBezTo>
                <a:cubicBezTo>
                  <a:pt x="6450" y="6777"/>
                  <a:pt x="6534" y="6782"/>
                  <a:pt x="6623" y="6821"/>
                </a:cubicBezTo>
                <a:cubicBezTo>
                  <a:pt x="6526" y="6918"/>
                  <a:pt x="6511" y="6930"/>
                  <a:pt x="6375" y="6921"/>
                </a:cubicBezTo>
              </a:path>
              <a:path w="3945" h="969">
                <a:moveTo>
                  <a:pt x="6821" y="6747"/>
                </a:moveTo>
                <a:cubicBezTo>
                  <a:pt x="6866" y="6880"/>
                  <a:pt x="6912" y="7004"/>
                  <a:pt x="6921" y="7144"/>
                </a:cubicBezTo>
                <a:cubicBezTo>
                  <a:pt x="6921" y="7152"/>
                  <a:pt x="6921" y="7161"/>
                  <a:pt x="6921" y="7169"/>
                </a:cubicBezTo>
              </a:path>
              <a:path w="3945" h="969">
                <a:moveTo>
                  <a:pt x="6747" y="6722"/>
                </a:moveTo>
                <a:cubicBezTo>
                  <a:pt x="6789" y="6714"/>
                  <a:pt x="7033" y="6689"/>
                  <a:pt x="7045" y="6772"/>
                </a:cubicBezTo>
                <a:cubicBezTo>
                  <a:pt x="7059" y="6871"/>
                  <a:pt x="6876" y="6900"/>
                  <a:pt x="6821" y="6921"/>
                </a:cubicBezTo>
                <a:cubicBezTo>
                  <a:pt x="6765" y="6893"/>
                  <a:pt x="6905" y="6864"/>
                  <a:pt x="6945" y="6846"/>
                </a:cubicBezTo>
              </a:path>
              <a:path w="3945" h="969">
                <a:moveTo>
                  <a:pt x="6945" y="6846"/>
                </a:moveTo>
                <a:lnTo>
                  <a:pt x="6945" y="6846"/>
                </a:lnTo>
              </a:path>
              <a:path w="3945" h="969">
                <a:moveTo>
                  <a:pt x="7243" y="7045"/>
                </a:moveTo>
                <a:cubicBezTo>
                  <a:pt x="7223" y="7146"/>
                  <a:pt x="7225" y="7166"/>
                  <a:pt x="7193" y="7218"/>
                </a:cubicBezTo>
              </a:path>
              <a:path w="3945" h="969">
                <a:moveTo>
                  <a:pt x="7565" y="6672"/>
                </a:moveTo>
                <a:cubicBezTo>
                  <a:pt x="7565" y="6771"/>
                  <a:pt x="7565" y="6871"/>
                  <a:pt x="7565" y="6970"/>
                </a:cubicBezTo>
              </a:path>
              <a:path w="3945" h="969">
                <a:moveTo>
                  <a:pt x="7491" y="6623"/>
                </a:moveTo>
                <a:cubicBezTo>
                  <a:pt x="7491" y="6615"/>
                  <a:pt x="7491" y="6606"/>
                  <a:pt x="7491" y="6598"/>
                </a:cubicBezTo>
              </a:path>
              <a:path w="3945" h="969">
                <a:moveTo>
                  <a:pt x="7764" y="6747"/>
                </a:moveTo>
                <a:cubicBezTo>
                  <a:pt x="7764" y="6685"/>
                  <a:pt x="7783" y="6879"/>
                  <a:pt x="7789" y="6921"/>
                </a:cubicBezTo>
                <a:cubicBezTo>
                  <a:pt x="7789" y="6937"/>
                  <a:pt x="7789" y="6954"/>
                  <a:pt x="7789" y="6970"/>
                </a:cubicBezTo>
                <a:cubicBezTo>
                  <a:pt x="7789" y="6896"/>
                  <a:pt x="7763" y="6863"/>
                  <a:pt x="7789" y="6796"/>
                </a:cubicBezTo>
                <a:cubicBezTo>
                  <a:pt x="7814" y="6732"/>
                  <a:pt x="7871" y="6707"/>
                  <a:pt x="7938" y="6722"/>
                </a:cubicBezTo>
                <a:cubicBezTo>
                  <a:pt x="8059" y="6750"/>
                  <a:pt x="8070" y="6849"/>
                  <a:pt x="8086" y="6945"/>
                </a:cubicBezTo>
                <a:cubicBezTo>
                  <a:pt x="8086" y="6995"/>
                  <a:pt x="8086" y="7012"/>
                  <a:pt x="8086" y="7045"/>
                </a:cubicBezTo>
              </a:path>
              <a:path w="3945" h="969">
                <a:moveTo>
                  <a:pt x="8434" y="6995"/>
                </a:moveTo>
                <a:cubicBezTo>
                  <a:pt x="8434" y="7083"/>
                  <a:pt x="8484" y="7156"/>
                  <a:pt x="8434" y="7243"/>
                </a:cubicBezTo>
                <a:cubicBezTo>
                  <a:pt x="8377" y="7271"/>
                  <a:pt x="8354" y="7282"/>
                  <a:pt x="8310" y="7293"/>
                </a:cubicBezTo>
              </a:path>
              <a:path w="3945" h="969">
                <a:moveTo>
                  <a:pt x="8310" y="6995"/>
                </a:moveTo>
                <a:lnTo>
                  <a:pt x="8310" y="6995"/>
                </a:lnTo>
                <a:lnTo>
                  <a:pt x="8310" y="699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87800" y="2320920"/>
            <a:ext cx="1519200" cy="358920"/>
          </a:xfrm>
          <a:custGeom>
            <a:avLst/>
            <a:gdLst/>
            <a:ahLst/>
            <a:rect l="l" t="t" r="r" b="b"/>
            <a:pathLst>
              <a:path w="4218" h="993">
                <a:moveTo>
                  <a:pt x="8930" y="6548"/>
                </a:moveTo>
                <a:cubicBezTo>
                  <a:pt x="8990" y="6590"/>
                  <a:pt x="8965" y="6741"/>
                  <a:pt x="8979" y="6821"/>
                </a:cubicBezTo>
                <a:cubicBezTo>
                  <a:pt x="8997" y="6924"/>
                  <a:pt x="9039" y="6965"/>
                  <a:pt x="9153" y="6945"/>
                </a:cubicBezTo>
                <a:cubicBezTo>
                  <a:pt x="9194" y="6926"/>
                  <a:pt x="9200" y="6918"/>
                  <a:pt x="9227" y="6921"/>
                </a:cubicBezTo>
              </a:path>
              <a:path w="4218" h="993">
                <a:moveTo>
                  <a:pt x="8855" y="6772"/>
                </a:moveTo>
                <a:cubicBezTo>
                  <a:pt x="8946" y="6742"/>
                  <a:pt x="9030" y="6747"/>
                  <a:pt x="9128" y="6747"/>
                </a:cubicBezTo>
              </a:path>
              <a:path w="4218" h="993">
                <a:moveTo>
                  <a:pt x="9128" y="6747"/>
                </a:moveTo>
                <a:lnTo>
                  <a:pt x="9128" y="6747"/>
                </a:lnTo>
              </a:path>
              <a:path w="4218" h="993">
                <a:moveTo>
                  <a:pt x="9203" y="6573"/>
                </a:moveTo>
                <a:cubicBezTo>
                  <a:pt x="9214" y="6703"/>
                  <a:pt x="9256" y="6801"/>
                  <a:pt x="9302" y="6921"/>
                </a:cubicBezTo>
                <a:cubicBezTo>
                  <a:pt x="9302" y="6829"/>
                  <a:pt x="9270" y="6681"/>
                  <a:pt x="9401" y="6672"/>
                </a:cubicBezTo>
                <a:cubicBezTo>
                  <a:pt x="9520" y="6664"/>
                  <a:pt x="9537" y="6739"/>
                  <a:pt x="9575" y="6821"/>
                </a:cubicBezTo>
                <a:cubicBezTo>
                  <a:pt x="9489" y="6917"/>
                  <a:pt x="9373" y="6978"/>
                  <a:pt x="9227" y="6945"/>
                </a:cubicBezTo>
                <a:cubicBezTo>
                  <a:pt x="9227" y="6937"/>
                  <a:pt x="9227" y="6929"/>
                  <a:pt x="9227" y="6921"/>
                </a:cubicBezTo>
              </a:path>
              <a:path w="4218" h="993">
                <a:moveTo>
                  <a:pt x="9823" y="6697"/>
                </a:moveTo>
                <a:cubicBezTo>
                  <a:pt x="9756" y="6704"/>
                  <a:pt x="9706" y="6714"/>
                  <a:pt x="9649" y="6747"/>
                </a:cubicBezTo>
                <a:cubicBezTo>
                  <a:pt x="9666" y="6799"/>
                  <a:pt x="9739" y="6791"/>
                  <a:pt x="9798" y="6796"/>
                </a:cubicBezTo>
                <a:cubicBezTo>
                  <a:pt x="9783" y="6919"/>
                  <a:pt x="9742" y="6912"/>
                  <a:pt x="9624" y="6945"/>
                </a:cubicBezTo>
              </a:path>
              <a:path w="4218" h="993">
                <a:moveTo>
                  <a:pt x="9971" y="6796"/>
                </a:moveTo>
                <a:cubicBezTo>
                  <a:pt x="9989" y="6937"/>
                  <a:pt x="10024" y="7077"/>
                  <a:pt x="10046" y="7218"/>
                </a:cubicBezTo>
                <a:cubicBezTo>
                  <a:pt x="10046" y="7226"/>
                  <a:pt x="10046" y="7235"/>
                  <a:pt x="10046" y="7243"/>
                </a:cubicBezTo>
              </a:path>
              <a:path w="4218" h="993">
                <a:moveTo>
                  <a:pt x="9847" y="6747"/>
                </a:moveTo>
                <a:cubicBezTo>
                  <a:pt x="9968" y="6686"/>
                  <a:pt x="10106" y="6619"/>
                  <a:pt x="10220" y="6747"/>
                </a:cubicBezTo>
                <a:cubicBezTo>
                  <a:pt x="10220" y="6763"/>
                  <a:pt x="10220" y="6780"/>
                  <a:pt x="10220" y="6796"/>
                </a:cubicBezTo>
                <a:cubicBezTo>
                  <a:pt x="10164" y="6875"/>
                  <a:pt x="10126" y="6881"/>
                  <a:pt x="10021" y="6896"/>
                </a:cubicBezTo>
              </a:path>
              <a:path w="4218" h="993">
                <a:moveTo>
                  <a:pt x="10567" y="6995"/>
                </a:moveTo>
                <a:cubicBezTo>
                  <a:pt x="10597" y="7132"/>
                  <a:pt x="10625" y="7109"/>
                  <a:pt x="10517" y="7169"/>
                </a:cubicBezTo>
              </a:path>
              <a:path w="4218" h="993">
                <a:moveTo>
                  <a:pt x="10740" y="6672"/>
                </a:moveTo>
                <a:cubicBezTo>
                  <a:pt x="10811" y="6719"/>
                  <a:pt x="10690" y="6808"/>
                  <a:pt x="10765" y="6896"/>
                </a:cubicBezTo>
                <a:cubicBezTo>
                  <a:pt x="10845" y="6990"/>
                  <a:pt x="11113" y="6928"/>
                  <a:pt x="11063" y="6772"/>
                </a:cubicBezTo>
                <a:cubicBezTo>
                  <a:pt x="11035" y="6683"/>
                  <a:pt x="10908" y="6683"/>
                  <a:pt x="10840" y="6672"/>
                </a:cubicBezTo>
              </a:path>
              <a:path w="4218" h="993">
                <a:moveTo>
                  <a:pt x="11162" y="6648"/>
                </a:moveTo>
                <a:cubicBezTo>
                  <a:pt x="11183" y="6708"/>
                  <a:pt x="11268" y="6634"/>
                  <a:pt x="11311" y="6697"/>
                </a:cubicBezTo>
                <a:cubicBezTo>
                  <a:pt x="11354" y="6760"/>
                  <a:pt x="11224" y="6859"/>
                  <a:pt x="11187" y="6896"/>
                </a:cubicBezTo>
                <a:cubicBezTo>
                  <a:pt x="11270" y="6896"/>
                  <a:pt x="11352" y="6896"/>
                  <a:pt x="11435" y="6896"/>
                </a:cubicBezTo>
              </a:path>
              <a:path w="4218" h="993">
                <a:moveTo>
                  <a:pt x="11683" y="7020"/>
                </a:moveTo>
                <a:cubicBezTo>
                  <a:pt x="11665" y="7163"/>
                  <a:pt x="11684" y="7172"/>
                  <a:pt x="11559" y="7218"/>
                </a:cubicBezTo>
              </a:path>
              <a:path w="4218" h="993">
                <a:moveTo>
                  <a:pt x="11782" y="6772"/>
                </a:moveTo>
                <a:cubicBezTo>
                  <a:pt x="11886" y="6954"/>
                  <a:pt x="11952" y="7062"/>
                  <a:pt x="11931" y="7268"/>
                </a:cubicBezTo>
                <a:cubicBezTo>
                  <a:pt x="11931" y="7276"/>
                  <a:pt x="11931" y="7285"/>
                  <a:pt x="11931" y="7293"/>
                </a:cubicBezTo>
                <a:cubicBezTo>
                  <a:pt x="11904" y="7159"/>
                  <a:pt x="11827" y="7039"/>
                  <a:pt x="11807" y="6896"/>
                </a:cubicBezTo>
                <a:cubicBezTo>
                  <a:pt x="11779" y="6690"/>
                  <a:pt x="11933" y="6588"/>
                  <a:pt x="12105" y="6722"/>
                </a:cubicBezTo>
                <a:cubicBezTo>
                  <a:pt x="12121" y="6747"/>
                  <a:pt x="12138" y="6771"/>
                  <a:pt x="12154" y="6796"/>
                </a:cubicBezTo>
                <a:cubicBezTo>
                  <a:pt x="12135" y="6815"/>
                  <a:pt x="11899" y="6999"/>
                  <a:pt x="11906" y="6871"/>
                </a:cubicBezTo>
                <a:cubicBezTo>
                  <a:pt x="11914" y="6846"/>
                  <a:pt x="11923" y="6821"/>
                  <a:pt x="11931" y="6796"/>
                </a:cubicBezTo>
              </a:path>
              <a:path w="4218" h="993">
                <a:moveTo>
                  <a:pt x="12353" y="6449"/>
                </a:moveTo>
                <a:cubicBezTo>
                  <a:pt x="12393" y="6570"/>
                  <a:pt x="12465" y="6695"/>
                  <a:pt x="12502" y="6821"/>
                </a:cubicBezTo>
                <a:cubicBezTo>
                  <a:pt x="12502" y="6829"/>
                  <a:pt x="12502" y="6838"/>
                  <a:pt x="12502" y="6846"/>
                </a:cubicBezTo>
              </a:path>
              <a:path w="4218" h="993">
                <a:moveTo>
                  <a:pt x="12278" y="6648"/>
                </a:moveTo>
                <a:cubicBezTo>
                  <a:pt x="12422" y="6597"/>
                  <a:pt x="12479" y="6581"/>
                  <a:pt x="12626" y="6598"/>
                </a:cubicBezTo>
              </a:path>
              <a:path w="4218" h="993">
                <a:moveTo>
                  <a:pt x="12626" y="6598"/>
                </a:moveTo>
                <a:lnTo>
                  <a:pt x="12626" y="6598"/>
                </a:lnTo>
              </a:path>
              <a:path w="4218" h="993">
                <a:moveTo>
                  <a:pt x="12700" y="6648"/>
                </a:moveTo>
                <a:cubicBezTo>
                  <a:pt x="12665" y="6648"/>
                  <a:pt x="12652" y="6657"/>
                  <a:pt x="12650" y="6697"/>
                </a:cubicBezTo>
                <a:cubicBezTo>
                  <a:pt x="12710" y="6697"/>
                  <a:pt x="12772" y="6740"/>
                  <a:pt x="12824" y="6772"/>
                </a:cubicBezTo>
                <a:cubicBezTo>
                  <a:pt x="12903" y="6821"/>
                  <a:pt x="12667" y="6842"/>
                  <a:pt x="12626" y="6846"/>
                </a:cubicBezTo>
              </a:path>
              <a:path w="4218" h="993">
                <a:moveTo>
                  <a:pt x="13047" y="7045"/>
                </a:moveTo>
                <a:cubicBezTo>
                  <a:pt x="13070" y="7135"/>
                  <a:pt x="13078" y="7159"/>
                  <a:pt x="13072" y="7218"/>
                </a:cubicBezTo>
              </a:path>
              <a:path w="4218" h="993">
                <a:moveTo>
                  <a:pt x="10864" y="7441"/>
                </a:moveTo>
                <a:cubicBezTo>
                  <a:pt x="10872" y="7433"/>
                  <a:pt x="10881" y="7425"/>
                  <a:pt x="10889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67200" y="2320920"/>
            <a:ext cx="561960" cy="304920"/>
          </a:xfrm>
          <a:custGeom>
            <a:avLst/>
            <a:gdLst/>
            <a:ahLst/>
            <a:rect l="l" t="t" r="r" b="b"/>
            <a:pathLst>
              <a:path w="1563" h="845">
                <a:moveTo>
                  <a:pt x="13866" y="6747"/>
                </a:moveTo>
                <a:cubicBezTo>
                  <a:pt x="13684" y="6669"/>
                  <a:pt x="13631" y="6688"/>
                  <a:pt x="13519" y="6846"/>
                </a:cubicBezTo>
                <a:cubicBezTo>
                  <a:pt x="13673" y="6954"/>
                  <a:pt x="13698" y="6925"/>
                  <a:pt x="13841" y="6796"/>
                </a:cubicBezTo>
                <a:cubicBezTo>
                  <a:pt x="13921" y="6977"/>
                  <a:pt x="14031" y="7163"/>
                  <a:pt x="13791" y="7268"/>
                </a:cubicBezTo>
                <a:cubicBezTo>
                  <a:pt x="13557" y="7370"/>
                  <a:pt x="13578" y="7230"/>
                  <a:pt x="13593" y="7094"/>
                </a:cubicBezTo>
              </a:path>
              <a:path w="1563" h="845">
                <a:moveTo>
                  <a:pt x="14263" y="6672"/>
                </a:moveTo>
                <a:cubicBezTo>
                  <a:pt x="14077" y="6701"/>
                  <a:pt x="14040" y="6743"/>
                  <a:pt x="14039" y="6921"/>
                </a:cubicBezTo>
                <a:cubicBezTo>
                  <a:pt x="14183" y="6907"/>
                  <a:pt x="14209" y="6891"/>
                  <a:pt x="14238" y="6747"/>
                </a:cubicBezTo>
                <a:cubicBezTo>
                  <a:pt x="14259" y="6830"/>
                  <a:pt x="14359" y="6923"/>
                  <a:pt x="14461" y="6871"/>
                </a:cubicBezTo>
                <a:cubicBezTo>
                  <a:pt x="14486" y="6838"/>
                  <a:pt x="14511" y="6805"/>
                  <a:pt x="14536" y="6772"/>
                </a:cubicBezTo>
              </a:path>
              <a:path w="1563" h="845">
                <a:moveTo>
                  <a:pt x="14461" y="6449"/>
                </a:moveTo>
                <a:cubicBezTo>
                  <a:pt x="14487" y="6590"/>
                  <a:pt x="14515" y="6710"/>
                  <a:pt x="14560" y="6846"/>
                </a:cubicBezTo>
              </a:path>
              <a:path w="1563" h="845">
                <a:moveTo>
                  <a:pt x="14560" y="6846"/>
                </a:moveTo>
                <a:lnTo>
                  <a:pt x="14560" y="6846"/>
                </a:lnTo>
              </a:path>
              <a:path w="1563" h="845">
                <a:moveTo>
                  <a:pt x="14784" y="6821"/>
                </a:moveTo>
                <a:cubicBezTo>
                  <a:pt x="14803" y="6879"/>
                  <a:pt x="14811" y="6886"/>
                  <a:pt x="14808" y="6921"/>
                </a:cubicBezTo>
              </a:path>
              <a:path w="1563" h="845">
                <a:moveTo>
                  <a:pt x="15081" y="6945"/>
                </a:moveTo>
                <a:cubicBezTo>
                  <a:pt x="15058" y="7057"/>
                  <a:pt x="15057" y="7088"/>
                  <a:pt x="15007" y="7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5080" y="2259000"/>
            <a:ext cx="509760" cy="357120"/>
          </a:xfrm>
          <a:custGeom>
            <a:avLst/>
            <a:gdLst/>
            <a:ahLst/>
            <a:rect l="l" t="t" r="r" b="b"/>
            <a:pathLst>
              <a:path w="1415" h="993">
                <a:moveTo>
                  <a:pt x="15627" y="6672"/>
                </a:moveTo>
                <a:cubicBezTo>
                  <a:pt x="15507" y="6649"/>
                  <a:pt x="15505" y="6662"/>
                  <a:pt x="15404" y="6747"/>
                </a:cubicBezTo>
                <a:cubicBezTo>
                  <a:pt x="15487" y="6843"/>
                  <a:pt x="15558" y="6852"/>
                  <a:pt x="15652" y="6747"/>
                </a:cubicBezTo>
                <a:cubicBezTo>
                  <a:pt x="15660" y="6730"/>
                  <a:pt x="15669" y="6714"/>
                  <a:pt x="15677" y="6697"/>
                </a:cubicBezTo>
                <a:cubicBezTo>
                  <a:pt x="15677" y="6887"/>
                  <a:pt x="15661" y="7039"/>
                  <a:pt x="15627" y="7218"/>
                </a:cubicBezTo>
                <a:cubicBezTo>
                  <a:pt x="15627" y="7260"/>
                  <a:pt x="15619" y="7276"/>
                  <a:pt x="15652" y="7268"/>
                </a:cubicBezTo>
                <a:cubicBezTo>
                  <a:pt x="15816" y="7058"/>
                  <a:pt x="15781" y="7031"/>
                  <a:pt x="15553" y="6921"/>
                </a:cubicBezTo>
                <a:cubicBezTo>
                  <a:pt x="15536" y="6913"/>
                  <a:pt x="15520" y="6904"/>
                  <a:pt x="15503" y="6896"/>
                </a:cubicBezTo>
              </a:path>
              <a:path w="1415" h="993">
                <a:moveTo>
                  <a:pt x="15875" y="6449"/>
                </a:moveTo>
                <a:lnTo>
                  <a:pt x="15875" y="6474"/>
                </a:lnTo>
                <a:lnTo>
                  <a:pt x="15900" y="6548"/>
                </a:lnTo>
                <a:lnTo>
                  <a:pt x="15949" y="6722"/>
                </a:lnTo>
                <a:lnTo>
                  <a:pt x="15999" y="6846"/>
                </a:lnTo>
                <a:lnTo>
                  <a:pt x="15999" y="6921"/>
                </a:lnTo>
                <a:lnTo>
                  <a:pt x="15999" y="6896"/>
                </a:lnTo>
              </a:path>
              <a:path w="1415" h="993">
                <a:moveTo>
                  <a:pt x="15677" y="6672"/>
                </a:moveTo>
                <a:cubicBezTo>
                  <a:pt x="15860" y="6665"/>
                  <a:pt x="16040" y="6638"/>
                  <a:pt x="16222" y="6623"/>
                </a:cubicBezTo>
                <a:cubicBezTo>
                  <a:pt x="16146" y="6653"/>
                  <a:pt x="16104" y="6671"/>
                  <a:pt x="16173" y="6697"/>
                </a:cubicBezTo>
                <a:cubicBezTo>
                  <a:pt x="16283" y="6738"/>
                  <a:pt x="16392" y="6760"/>
                  <a:pt x="16470" y="6821"/>
                </a:cubicBezTo>
                <a:cubicBezTo>
                  <a:pt x="16282" y="6910"/>
                  <a:pt x="16203" y="6938"/>
                  <a:pt x="16073" y="6796"/>
                </a:cubicBezTo>
              </a:path>
              <a:path w="1415" h="993">
                <a:moveTo>
                  <a:pt x="16545" y="6276"/>
                </a:moveTo>
                <a:cubicBezTo>
                  <a:pt x="16687" y="6503"/>
                  <a:pt x="16969" y="6804"/>
                  <a:pt x="16718" y="7069"/>
                </a:cubicBezTo>
                <a:cubicBezTo>
                  <a:pt x="16677" y="7094"/>
                  <a:pt x="16635" y="7119"/>
                  <a:pt x="16594" y="71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2680" y="2035080"/>
            <a:ext cx="117360" cy="644760"/>
          </a:xfrm>
          <a:custGeom>
            <a:avLst/>
            <a:gdLst/>
            <a:ahLst/>
            <a:rect l="l" t="t" r="r" b="b"/>
            <a:pathLst>
              <a:path w="323" h="1787">
                <a:moveTo>
                  <a:pt x="17314" y="5655"/>
                </a:moveTo>
                <a:cubicBezTo>
                  <a:pt x="17355" y="5655"/>
                  <a:pt x="17397" y="5655"/>
                  <a:pt x="17438" y="5655"/>
                </a:cubicBezTo>
              </a:path>
              <a:path w="323" h="1787">
                <a:moveTo>
                  <a:pt x="17363" y="6598"/>
                </a:moveTo>
                <a:cubicBezTo>
                  <a:pt x="17414" y="6579"/>
                  <a:pt x="17433" y="6573"/>
                  <a:pt x="17487" y="6573"/>
                </a:cubicBezTo>
              </a:path>
              <a:path w="323" h="1787">
                <a:moveTo>
                  <a:pt x="17512" y="7441"/>
                </a:moveTo>
                <a:cubicBezTo>
                  <a:pt x="17504" y="7441"/>
                  <a:pt x="17495" y="7441"/>
                  <a:pt x="17487" y="7441"/>
                </a:cubicBezTo>
                <a:cubicBezTo>
                  <a:pt x="17536" y="7441"/>
                  <a:pt x="17547" y="7430"/>
                  <a:pt x="17587" y="7417"/>
                </a:cubicBezTo>
                <a:cubicBezTo>
                  <a:pt x="17611" y="7417"/>
                  <a:pt x="17620" y="7417"/>
                  <a:pt x="17636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10240" y="2224080"/>
            <a:ext cx="1098720" cy="320760"/>
          </a:xfrm>
          <a:custGeom>
            <a:avLst/>
            <a:gdLst/>
            <a:ahLst/>
            <a:rect l="l" t="t" r="r" b="b"/>
            <a:pathLst>
              <a:path w="3052" h="894">
                <a:moveTo>
                  <a:pt x="18083" y="6449"/>
                </a:moveTo>
                <a:cubicBezTo>
                  <a:pt x="18110" y="6538"/>
                  <a:pt x="18127" y="6597"/>
                  <a:pt x="18182" y="6672"/>
                </a:cubicBezTo>
                <a:cubicBezTo>
                  <a:pt x="18169" y="6639"/>
                  <a:pt x="18030" y="6431"/>
                  <a:pt x="18083" y="6375"/>
                </a:cubicBezTo>
                <a:cubicBezTo>
                  <a:pt x="18172" y="6281"/>
                  <a:pt x="18316" y="6324"/>
                  <a:pt x="18405" y="6375"/>
                </a:cubicBezTo>
              </a:path>
              <a:path w="3052" h="894">
                <a:moveTo>
                  <a:pt x="18430" y="6449"/>
                </a:moveTo>
                <a:cubicBezTo>
                  <a:pt x="18532" y="6440"/>
                  <a:pt x="18579" y="6460"/>
                  <a:pt x="18579" y="6350"/>
                </a:cubicBezTo>
                <a:cubicBezTo>
                  <a:pt x="18494" y="6308"/>
                  <a:pt x="18381" y="6287"/>
                  <a:pt x="18405" y="6449"/>
                </a:cubicBezTo>
                <a:cubicBezTo>
                  <a:pt x="18427" y="6594"/>
                  <a:pt x="18522" y="6602"/>
                  <a:pt x="18628" y="6623"/>
                </a:cubicBezTo>
              </a:path>
              <a:path w="3052" h="894">
                <a:moveTo>
                  <a:pt x="18926" y="6300"/>
                </a:moveTo>
                <a:cubicBezTo>
                  <a:pt x="18824" y="6300"/>
                  <a:pt x="18773" y="6320"/>
                  <a:pt x="18777" y="6449"/>
                </a:cubicBezTo>
                <a:cubicBezTo>
                  <a:pt x="18782" y="6604"/>
                  <a:pt x="18870" y="6598"/>
                  <a:pt x="18976" y="6598"/>
                </a:cubicBezTo>
              </a:path>
              <a:path w="3052" h="894">
                <a:moveTo>
                  <a:pt x="19075" y="6350"/>
                </a:moveTo>
                <a:cubicBezTo>
                  <a:pt x="19081" y="6391"/>
                  <a:pt x="19090" y="6554"/>
                  <a:pt x="19149" y="6548"/>
                </a:cubicBezTo>
                <a:cubicBezTo>
                  <a:pt x="19264" y="6537"/>
                  <a:pt x="19241" y="6461"/>
                  <a:pt x="19248" y="6375"/>
                </a:cubicBezTo>
                <a:cubicBezTo>
                  <a:pt x="19268" y="6556"/>
                  <a:pt x="19360" y="6650"/>
                  <a:pt x="19323" y="6846"/>
                </a:cubicBezTo>
                <a:cubicBezTo>
                  <a:pt x="19286" y="7043"/>
                  <a:pt x="19127" y="7077"/>
                  <a:pt x="19075" y="6921"/>
                </a:cubicBezTo>
              </a:path>
              <a:path w="3052" h="894">
                <a:moveTo>
                  <a:pt x="19521" y="6400"/>
                </a:moveTo>
                <a:cubicBezTo>
                  <a:pt x="19521" y="6424"/>
                  <a:pt x="19521" y="6432"/>
                  <a:pt x="19546" y="6424"/>
                </a:cubicBezTo>
                <a:cubicBezTo>
                  <a:pt x="19524" y="6339"/>
                  <a:pt x="19436" y="6367"/>
                  <a:pt x="19397" y="6449"/>
                </a:cubicBezTo>
                <a:cubicBezTo>
                  <a:pt x="19311" y="6631"/>
                  <a:pt x="19444" y="6775"/>
                  <a:pt x="19621" y="6648"/>
                </a:cubicBezTo>
                <a:cubicBezTo>
                  <a:pt x="19670" y="6598"/>
                  <a:pt x="19720" y="6549"/>
                  <a:pt x="19769" y="6499"/>
                </a:cubicBezTo>
              </a:path>
              <a:path w="3052" h="894">
                <a:moveTo>
                  <a:pt x="19769" y="6176"/>
                </a:moveTo>
                <a:cubicBezTo>
                  <a:pt x="19793" y="6317"/>
                  <a:pt x="19865" y="6464"/>
                  <a:pt x="19918" y="6598"/>
                </a:cubicBezTo>
                <a:cubicBezTo>
                  <a:pt x="19938" y="6638"/>
                  <a:pt x="19947" y="6645"/>
                  <a:pt x="19943" y="6672"/>
                </a:cubicBezTo>
              </a:path>
              <a:path w="3052" h="894">
                <a:moveTo>
                  <a:pt x="19943" y="6672"/>
                </a:moveTo>
                <a:lnTo>
                  <a:pt x="19943" y="6672"/>
                </a:lnTo>
              </a:path>
              <a:path w="3052" h="894">
                <a:moveTo>
                  <a:pt x="20067" y="6400"/>
                </a:moveTo>
                <a:cubicBezTo>
                  <a:pt x="20074" y="6457"/>
                  <a:pt x="20103" y="6663"/>
                  <a:pt x="20141" y="6623"/>
                </a:cubicBezTo>
              </a:path>
              <a:path w="3052" h="894">
                <a:moveTo>
                  <a:pt x="20017" y="6201"/>
                </a:moveTo>
                <a:lnTo>
                  <a:pt x="20017" y="6201"/>
                </a:lnTo>
              </a:path>
              <a:path w="3052" h="894">
                <a:moveTo>
                  <a:pt x="20290" y="6623"/>
                </a:moveTo>
                <a:cubicBezTo>
                  <a:pt x="20290" y="6680"/>
                  <a:pt x="20279" y="6436"/>
                  <a:pt x="20290" y="6400"/>
                </a:cubicBezTo>
                <a:cubicBezTo>
                  <a:pt x="20323" y="6289"/>
                  <a:pt x="20455" y="6472"/>
                  <a:pt x="20513" y="6573"/>
                </a:cubicBezTo>
                <a:cubicBezTo>
                  <a:pt x="20556" y="6637"/>
                  <a:pt x="20559" y="6662"/>
                  <a:pt x="20613" y="6648"/>
                </a:cubicBezTo>
              </a:path>
              <a:path w="3052" h="894">
                <a:moveTo>
                  <a:pt x="20836" y="6350"/>
                </a:moveTo>
                <a:cubicBezTo>
                  <a:pt x="20796" y="6440"/>
                  <a:pt x="20792" y="6522"/>
                  <a:pt x="20786" y="6623"/>
                </a:cubicBezTo>
                <a:cubicBezTo>
                  <a:pt x="20913" y="6648"/>
                  <a:pt x="20852" y="6468"/>
                  <a:pt x="20935" y="6424"/>
                </a:cubicBezTo>
                <a:cubicBezTo>
                  <a:pt x="21038" y="6369"/>
                  <a:pt x="21133" y="6872"/>
                  <a:pt x="21109" y="6945"/>
                </a:cubicBezTo>
                <a:cubicBezTo>
                  <a:pt x="21051" y="7118"/>
                  <a:pt x="20891" y="7057"/>
                  <a:pt x="20762" y="70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4960" y="2589120"/>
            <a:ext cx="1073160" cy="162000"/>
          </a:xfrm>
          <a:custGeom>
            <a:avLst/>
            <a:gdLst/>
            <a:ahLst/>
            <a:rect l="l" t="t" r="r" b="b"/>
            <a:pathLst>
              <a:path w="2978" h="448">
                <a:moveTo>
                  <a:pt x="1488" y="7466"/>
                </a:moveTo>
                <a:cubicBezTo>
                  <a:pt x="1550" y="7466"/>
                  <a:pt x="1565" y="7475"/>
                  <a:pt x="1588" y="7441"/>
                </a:cubicBezTo>
              </a:path>
              <a:path w="2978" h="448">
                <a:moveTo>
                  <a:pt x="2009" y="7193"/>
                </a:moveTo>
                <a:cubicBezTo>
                  <a:pt x="1949" y="7213"/>
                  <a:pt x="1900" y="7232"/>
                  <a:pt x="1885" y="7293"/>
                </a:cubicBezTo>
                <a:cubicBezTo>
                  <a:pt x="2015" y="7293"/>
                  <a:pt x="2088" y="7300"/>
                  <a:pt x="2208" y="7342"/>
                </a:cubicBezTo>
                <a:cubicBezTo>
                  <a:pt x="2132" y="7472"/>
                  <a:pt x="2062" y="7546"/>
                  <a:pt x="1935" y="7466"/>
                </a:cubicBezTo>
              </a:path>
              <a:path w="2978" h="448">
                <a:moveTo>
                  <a:pt x="2381" y="7268"/>
                </a:moveTo>
                <a:cubicBezTo>
                  <a:pt x="2323" y="7210"/>
                  <a:pt x="2232" y="7231"/>
                  <a:pt x="2208" y="7342"/>
                </a:cubicBezTo>
                <a:cubicBezTo>
                  <a:pt x="2159" y="7570"/>
                  <a:pt x="2367" y="7621"/>
                  <a:pt x="2530" y="7516"/>
                </a:cubicBezTo>
                <a:cubicBezTo>
                  <a:pt x="2563" y="7483"/>
                  <a:pt x="2596" y="7450"/>
                  <a:pt x="2629" y="7417"/>
                </a:cubicBezTo>
              </a:path>
              <a:path w="2978" h="448">
                <a:moveTo>
                  <a:pt x="2679" y="7293"/>
                </a:moveTo>
                <a:cubicBezTo>
                  <a:pt x="2720" y="7381"/>
                  <a:pt x="2762" y="7443"/>
                  <a:pt x="2828" y="7516"/>
                </a:cubicBezTo>
              </a:path>
              <a:path w="2978" h="448">
                <a:moveTo>
                  <a:pt x="2828" y="7516"/>
                </a:moveTo>
                <a:lnTo>
                  <a:pt x="2828" y="7516"/>
                </a:lnTo>
              </a:path>
              <a:path w="2978" h="448">
                <a:moveTo>
                  <a:pt x="2604" y="7243"/>
                </a:moveTo>
                <a:lnTo>
                  <a:pt x="2604" y="7243"/>
                </a:lnTo>
              </a:path>
              <a:path w="2978" h="448">
                <a:moveTo>
                  <a:pt x="2877" y="7392"/>
                </a:moveTo>
                <a:cubicBezTo>
                  <a:pt x="2953" y="7392"/>
                  <a:pt x="3061" y="7391"/>
                  <a:pt x="3125" y="7342"/>
                </a:cubicBezTo>
                <a:cubicBezTo>
                  <a:pt x="3125" y="7317"/>
                  <a:pt x="3125" y="7309"/>
                  <a:pt x="3125" y="7293"/>
                </a:cubicBezTo>
                <a:cubicBezTo>
                  <a:pt x="3096" y="7286"/>
                  <a:pt x="3002" y="7234"/>
                  <a:pt x="2977" y="7268"/>
                </a:cubicBezTo>
                <a:cubicBezTo>
                  <a:pt x="2914" y="7354"/>
                  <a:pt x="2897" y="7480"/>
                  <a:pt x="3001" y="7541"/>
                </a:cubicBezTo>
                <a:cubicBezTo>
                  <a:pt x="3127" y="7614"/>
                  <a:pt x="3179" y="7519"/>
                  <a:pt x="3249" y="7441"/>
                </a:cubicBezTo>
              </a:path>
              <a:path w="2978" h="448">
                <a:moveTo>
                  <a:pt x="3225" y="7317"/>
                </a:moveTo>
                <a:cubicBezTo>
                  <a:pt x="3270" y="7374"/>
                  <a:pt x="3307" y="7432"/>
                  <a:pt x="3349" y="7491"/>
                </a:cubicBezTo>
                <a:cubicBezTo>
                  <a:pt x="3372" y="7479"/>
                  <a:pt x="3333" y="7381"/>
                  <a:pt x="3349" y="7317"/>
                </a:cubicBezTo>
                <a:cubicBezTo>
                  <a:pt x="3357" y="7309"/>
                  <a:pt x="3365" y="7301"/>
                  <a:pt x="3373" y="7293"/>
                </a:cubicBezTo>
                <a:cubicBezTo>
                  <a:pt x="3502" y="7323"/>
                  <a:pt x="3533" y="7368"/>
                  <a:pt x="3621" y="7466"/>
                </a:cubicBezTo>
                <a:cubicBezTo>
                  <a:pt x="3629" y="7474"/>
                  <a:pt x="3638" y="7483"/>
                  <a:pt x="3646" y="7491"/>
                </a:cubicBezTo>
              </a:path>
              <a:path w="2978" h="448">
                <a:moveTo>
                  <a:pt x="3894" y="7342"/>
                </a:moveTo>
                <a:cubicBezTo>
                  <a:pt x="3902" y="7342"/>
                  <a:pt x="3911" y="7342"/>
                  <a:pt x="3919" y="7342"/>
                </a:cubicBezTo>
                <a:cubicBezTo>
                  <a:pt x="3824" y="7274"/>
                  <a:pt x="3743" y="7348"/>
                  <a:pt x="3770" y="7491"/>
                </a:cubicBezTo>
                <a:cubicBezTo>
                  <a:pt x="3817" y="7739"/>
                  <a:pt x="4021" y="7586"/>
                  <a:pt x="4142" y="7516"/>
                </a:cubicBezTo>
              </a:path>
              <a:path w="2978" h="448">
                <a:moveTo>
                  <a:pt x="4217" y="7392"/>
                </a:moveTo>
                <a:cubicBezTo>
                  <a:pt x="4278" y="7358"/>
                  <a:pt x="4349" y="7336"/>
                  <a:pt x="4366" y="7268"/>
                </a:cubicBezTo>
                <a:cubicBezTo>
                  <a:pt x="4245" y="7280"/>
                  <a:pt x="4145" y="7309"/>
                  <a:pt x="4192" y="7466"/>
                </a:cubicBezTo>
                <a:cubicBezTo>
                  <a:pt x="4234" y="7605"/>
                  <a:pt x="4368" y="7533"/>
                  <a:pt x="4465" y="75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66960" y="2562120"/>
            <a:ext cx="1214280" cy="304920"/>
          </a:xfrm>
          <a:custGeom>
            <a:avLst/>
            <a:gdLst/>
            <a:ahLst/>
            <a:rect l="l" t="t" r="r" b="b"/>
            <a:pathLst>
              <a:path w="3375" h="844">
                <a:moveTo>
                  <a:pt x="5209" y="7119"/>
                </a:moveTo>
                <a:cubicBezTo>
                  <a:pt x="5170" y="7336"/>
                  <a:pt x="5198" y="7391"/>
                  <a:pt x="5358" y="7541"/>
                </a:cubicBezTo>
              </a:path>
              <a:path w="3375" h="844">
                <a:moveTo>
                  <a:pt x="5779" y="7342"/>
                </a:moveTo>
                <a:cubicBezTo>
                  <a:pt x="5677" y="7290"/>
                  <a:pt x="5614" y="7348"/>
                  <a:pt x="5581" y="7466"/>
                </a:cubicBezTo>
                <a:cubicBezTo>
                  <a:pt x="5581" y="7491"/>
                  <a:pt x="5581" y="7516"/>
                  <a:pt x="5581" y="7541"/>
                </a:cubicBezTo>
                <a:cubicBezTo>
                  <a:pt x="5668" y="7519"/>
                  <a:pt x="5699" y="7483"/>
                  <a:pt x="5730" y="7392"/>
                </a:cubicBezTo>
                <a:cubicBezTo>
                  <a:pt x="5819" y="7481"/>
                  <a:pt x="5931" y="7631"/>
                  <a:pt x="5928" y="7764"/>
                </a:cubicBezTo>
                <a:cubicBezTo>
                  <a:pt x="5922" y="8041"/>
                  <a:pt x="5584" y="7948"/>
                  <a:pt x="5457" y="7888"/>
                </a:cubicBezTo>
              </a:path>
              <a:path w="3375" h="844">
                <a:moveTo>
                  <a:pt x="5879" y="7417"/>
                </a:moveTo>
                <a:cubicBezTo>
                  <a:pt x="5903" y="7488"/>
                  <a:pt x="5910" y="7511"/>
                  <a:pt x="5953" y="7541"/>
                </a:cubicBezTo>
                <a:cubicBezTo>
                  <a:pt x="5932" y="7457"/>
                  <a:pt x="5902" y="7401"/>
                  <a:pt x="5978" y="7317"/>
                </a:cubicBezTo>
                <a:cubicBezTo>
                  <a:pt x="6035" y="7290"/>
                  <a:pt x="6058" y="7284"/>
                  <a:pt x="6102" y="7317"/>
                </a:cubicBezTo>
              </a:path>
              <a:path w="3375" h="844">
                <a:moveTo>
                  <a:pt x="6375" y="7317"/>
                </a:moveTo>
                <a:lnTo>
                  <a:pt x="6325" y="7317"/>
                </a:lnTo>
                <a:lnTo>
                  <a:pt x="6276" y="7367"/>
                </a:lnTo>
                <a:lnTo>
                  <a:pt x="6201" y="7441"/>
                </a:lnTo>
                <a:lnTo>
                  <a:pt x="6176" y="7516"/>
                </a:lnTo>
                <a:lnTo>
                  <a:pt x="6226" y="7541"/>
                </a:lnTo>
                <a:lnTo>
                  <a:pt x="6325" y="7491"/>
                </a:lnTo>
                <a:lnTo>
                  <a:pt x="6400" y="7417"/>
                </a:lnTo>
                <a:lnTo>
                  <a:pt x="6400" y="7342"/>
                </a:lnTo>
                <a:lnTo>
                  <a:pt x="6400" y="7342"/>
                </a:lnTo>
                <a:lnTo>
                  <a:pt x="6400" y="7367"/>
                </a:lnTo>
                <a:lnTo>
                  <a:pt x="6449" y="7417"/>
                </a:lnTo>
                <a:lnTo>
                  <a:pt x="6499" y="7516"/>
                </a:lnTo>
                <a:lnTo>
                  <a:pt x="6548" y="7565"/>
                </a:lnTo>
                <a:lnTo>
                  <a:pt x="6598" y="7565"/>
                </a:lnTo>
              </a:path>
              <a:path w="3375" h="844">
                <a:moveTo>
                  <a:pt x="6945" y="7367"/>
                </a:moveTo>
                <a:cubicBezTo>
                  <a:pt x="6849" y="7324"/>
                  <a:pt x="6754" y="7291"/>
                  <a:pt x="6672" y="7392"/>
                </a:cubicBezTo>
                <a:cubicBezTo>
                  <a:pt x="6629" y="7479"/>
                  <a:pt x="6603" y="7502"/>
                  <a:pt x="6672" y="7541"/>
                </a:cubicBezTo>
                <a:cubicBezTo>
                  <a:pt x="6880" y="7572"/>
                  <a:pt x="6881" y="7509"/>
                  <a:pt x="6871" y="7317"/>
                </a:cubicBezTo>
              </a:path>
              <a:path w="3375" h="844">
                <a:moveTo>
                  <a:pt x="6772" y="7218"/>
                </a:moveTo>
                <a:cubicBezTo>
                  <a:pt x="6816" y="7335"/>
                  <a:pt x="6898" y="7436"/>
                  <a:pt x="6970" y="7541"/>
                </a:cubicBezTo>
              </a:path>
              <a:path w="3375" h="844">
                <a:moveTo>
                  <a:pt x="6970" y="7541"/>
                </a:moveTo>
                <a:lnTo>
                  <a:pt x="6970" y="7541"/>
                </a:lnTo>
              </a:path>
              <a:path w="3375" h="844">
                <a:moveTo>
                  <a:pt x="7069" y="7516"/>
                </a:moveTo>
                <a:cubicBezTo>
                  <a:pt x="7077" y="7508"/>
                  <a:pt x="7086" y="7499"/>
                  <a:pt x="7094" y="7491"/>
                </a:cubicBezTo>
              </a:path>
              <a:path w="3375" h="844">
                <a:moveTo>
                  <a:pt x="7615" y="7268"/>
                </a:moveTo>
                <a:cubicBezTo>
                  <a:pt x="7545" y="7268"/>
                  <a:pt x="7474" y="7248"/>
                  <a:pt x="7441" y="7342"/>
                </a:cubicBezTo>
                <a:cubicBezTo>
                  <a:pt x="7356" y="7585"/>
                  <a:pt x="7660" y="7385"/>
                  <a:pt x="7714" y="7342"/>
                </a:cubicBezTo>
                <a:cubicBezTo>
                  <a:pt x="7722" y="7334"/>
                  <a:pt x="7731" y="7325"/>
                  <a:pt x="7739" y="7317"/>
                </a:cubicBezTo>
                <a:cubicBezTo>
                  <a:pt x="7751" y="7389"/>
                  <a:pt x="7789" y="7483"/>
                  <a:pt x="7888" y="7441"/>
                </a:cubicBezTo>
                <a:cubicBezTo>
                  <a:pt x="7932" y="7422"/>
                  <a:pt x="7907" y="7257"/>
                  <a:pt x="7987" y="7441"/>
                </a:cubicBezTo>
                <a:cubicBezTo>
                  <a:pt x="8063" y="7615"/>
                  <a:pt x="8081" y="7807"/>
                  <a:pt x="7838" y="7813"/>
                </a:cubicBezTo>
                <a:cubicBezTo>
                  <a:pt x="7797" y="7805"/>
                  <a:pt x="7755" y="7797"/>
                  <a:pt x="7714" y="7789"/>
                </a:cubicBezTo>
              </a:path>
              <a:path w="3375" h="844">
                <a:moveTo>
                  <a:pt x="7962" y="7218"/>
                </a:moveTo>
                <a:cubicBezTo>
                  <a:pt x="7982" y="7326"/>
                  <a:pt x="8047" y="7414"/>
                  <a:pt x="8062" y="7516"/>
                </a:cubicBezTo>
                <a:cubicBezTo>
                  <a:pt x="8062" y="7524"/>
                  <a:pt x="8062" y="7533"/>
                  <a:pt x="8062" y="7541"/>
                </a:cubicBezTo>
              </a:path>
              <a:path w="3375" h="844">
                <a:moveTo>
                  <a:pt x="8235" y="7466"/>
                </a:moveTo>
                <a:lnTo>
                  <a:pt x="8235" y="7466"/>
                </a:lnTo>
              </a:path>
              <a:path w="3375" h="844">
                <a:moveTo>
                  <a:pt x="8161" y="7169"/>
                </a:moveTo>
                <a:cubicBezTo>
                  <a:pt x="8313" y="7219"/>
                  <a:pt x="8624" y="7313"/>
                  <a:pt x="8558" y="7541"/>
                </a:cubicBezTo>
                <a:cubicBezTo>
                  <a:pt x="8533" y="7566"/>
                  <a:pt x="8508" y="7590"/>
                  <a:pt x="8483" y="76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95800" y="2562120"/>
            <a:ext cx="2089080" cy="243000"/>
          </a:xfrm>
          <a:custGeom>
            <a:avLst/>
            <a:gdLst/>
            <a:ahLst/>
            <a:rect l="l" t="t" r="r" b="b"/>
            <a:pathLst>
              <a:path w="5805" h="671">
                <a:moveTo>
                  <a:pt x="9475" y="7367"/>
                </a:moveTo>
                <a:cubicBezTo>
                  <a:pt x="9456" y="7287"/>
                  <a:pt x="9353" y="7282"/>
                  <a:pt x="9277" y="7293"/>
                </a:cubicBezTo>
                <a:cubicBezTo>
                  <a:pt x="9199" y="7318"/>
                  <a:pt x="9172" y="7330"/>
                  <a:pt x="9153" y="7392"/>
                </a:cubicBezTo>
                <a:cubicBezTo>
                  <a:pt x="9209" y="7489"/>
                  <a:pt x="9300" y="7479"/>
                  <a:pt x="9376" y="7367"/>
                </a:cubicBezTo>
                <a:cubicBezTo>
                  <a:pt x="9376" y="7359"/>
                  <a:pt x="9376" y="7350"/>
                  <a:pt x="9376" y="7342"/>
                </a:cubicBezTo>
                <a:cubicBezTo>
                  <a:pt x="9446" y="7439"/>
                  <a:pt x="9537" y="7565"/>
                  <a:pt x="9475" y="7689"/>
                </a:cubicBezTo>
                <a:cubicBezTo>
                  <a:pt x="9410" y="7820"/>
                  <a:pt x="9313" y="7778"/>
                  <a:pt x="9227" y="7739"/>
                </a:cubicBezTo>
              </a:path>
              <a:path w="5805" h="671">
                <a:moveTo>
                  <a:pt x="9550" y="7367"/>
                </a:moveTo>
                <a:cubicBezTo>
                  <a:pt x="9550" y="7402"/>
                  <a:pt x="9555" y="7419"/>
                  <a:pt x="9575" y="7441"/>
                </a:cubicBezTo>
                <a:cubicBezTo>
                  <a:pt x="9601" y="7415"/>
                  <a:pt x="9547" y="7354"/>
                  <a:pt x="9599" y="7317"/>
                </a:cubicBezTo>
                <a:cubicBezTo>
                  <a:pt x="9705" y="7241"/>
                  <a:pt x="9827" y="7260"/>
                  <a:pt x="9847" y="7392"/>
                </a:cubicBezTo>
                <a:cubicBezTo>
                  <a:pt x="9847" y="7400"/>
                  <a:pt x="9847" y="7409"/>
                  <a:pt x="9847" y="7417"/>
                </a:cubicBezTo>
                <a:cubicBezTo>
                  <a:pt x="9775" y="7392"/>
                  <a:pt x="9862" y="7336"/>
                  <a:pt x="9922" y="7342"/>
                </a:cubicBezTo>
                <a:cubicBezTo>
                  <a:pt x="10028" y="7353"/>
                  <a:pt x="10028" y="7367"/>
                  <a:pt x="10071" y="7441"/>
                </a:cubicBezTo>
              </a:path>
              <a:path w="5805" h="671">
                <a:moveTo>
                  <a:pt x="10294" y="7119"/>
                </a:moveTo>
                <a:cubicBezTo>
                  <a:pt x="10327" y="7268"/>
                  <a:pt x="10294" y="7482"/>
                  <a:pt x="10344" y="7615"/>
                </a:cubicBezTo>
                <a:cubicBezTo>
                  <a:pt x="10352" y="7607"/>
                  <a:pt x="10360" y="7598"/>
                  <a:pt x="10368" y="7590"/>
                </a:cubicBezTo>
              </a:path>
              <a:path w="5805" h="671">
                <a:moveTo>
                  <a:pt x="10517" y="7342"/>
                </a:moveTo>
                <a:cubicBezTo>
                  <a:pt x="10554" y="7397"/>
                  <a:pt x="10570" y="7451"/>
                  <a:pt x="10592" y="7516"/>
                </a:cubicBezTo>
                <a:cubicBezTo>
                  <a:pt x="10592" y="7411"/>
                  <a:pt x="10571" y="7361"/>
                  <a:pt x="10691" y="7342"/>
                </a:cubicBezTo>
                <a:cubicBezTo>
                  <a:pt x="10766" y="7330"/>
                  <a:pt x="10776" y="7337"/>
                  <a:pt x="10790" y="7392"/>
                </a:cubicBezTo>
                <a:cubicBezTo>
                  <a:pt x="10857" y="7258"/>
                  <a:pt x="10925" y="7279"/>
                  <a:pt x="10988" y="7417"/>
                </a:cubicBezTo>
                <a:cubicBezTo>
                  <a:pt x="11024" y="7495"/>
                  <a:pt x="10976" y="7528"/>
                  <a:pt x="11013" y="7491"/>
                </a:cubicBezTo>
              </a:path>
              <a:path w="5805" h="671">
                <a:moveTo>
                  <a:pt x="11112" y="7169"/>
                </a:moveTo>
                <a:cubicBezTo>
                  <a:pt x="11178" y="7190"/>
                  <a:pt x="11172" y="7299"/>
                  <a:pt x="11187" y="7367"/>
                </a:cubicBezTo>
                <a:cubicBezTo>
                  <a:pt x="11216" y="7501"/>
                  <a:pt x="11272" y="7509"/>
                  <a:pt x="11385" y="7466"/>
                </a:cubicBezTo>
              </a:path>
              <a:path w="5805" h="671">
                <a:moveTo>
                  <a:pt x="11633" y="7565"/>
                </a:moveTo>
                <a:cubicBezTo>
                  <a:pt x="11607" y="7556"/>
                  <a:pt x="11597" y="7500"/>
                  <a:pt x="11609" y="7541"/>
                </a:cubicBezTo>
                <a:cubicBezTo>
                  <a:pt x="11641" y="7653"/>
                  <a:pt x="11602" y="7679"/>
                  <a:pt x="11534" y="7764"/>
                </a:cubicBezTo>
              </a:path>
              <a:path w="5805" h="671">
                <a:moveTo>
                  <a:pt x="12154" y="7317"/>
                </a:moveTo>
                <a:cubicBezTo>
                  <a:pt x="12220" y="7317"/>
                  <a:pt x="12110" y="7291"/>
                  <a:pt x="12105" y="7293"/>
                </a:cubicBezTo>
                <a:cubicBezTo>
                  <a:pt x="11987" y="7348"/>
                  <a:pt x="11892" y="7675"/>
                  <a:pt x="12105" y="7640"/>
                </a:cubicBezTo>
                <a:cubicBezTo>
                  <a:pt x="12246" y="7569"/>
                  <a:pt x="12289" y="7550"/>
                  <a:pt x="12353" y="7466"/>
                </a:cubicBezTo>
              </a:path>
              <a:path w="5805" h="671">
                <a:moveTo>
                  <a:pt x="12303" y="7193"/>
                </a:moveTo>
                <a:cubicBezTo>
                  <a:pt x="12362" y="7323"/>
                  <a:pt x="12407" y="7455"/>
                  <a:pt x="12452" y="7590"/>
                </a:cubicBezTo>
                <a:cubicBezTo>
                  <a:pt x="12452" y="7507"/>
                  <a:pt x="12452" y="7425"/>
                  <a:pt x="12452" y="7342"/>
                </a:cubicBezTo>
                <a:cubicBezTo>
                  <a:pt x="12610" y="7310"/>
                  <a:pt x="12663" y="7382"/>
                  <a:pt x="12700" y="7541"/>
                </a:cubicBezTo>
                <a:cubicBezTo>
                  <a:pt x="12700" y="7557"/>
                  <a:pt x="12700" y="7574"/>
                  <a:pt x="12700" y="7590"/>
                </a:cubicBezTo>
              </a:path>
              <a:path w="5805" h="671">
                <a:moveTo>
                  <a:pt x="12725" y="7491"/>
                </a:moveTo>
                <a:cubicBezTo>
                  <a:pt x="12742" y="7468"/>
                  <a:pt x="12830" y="7447"/>
                  <a:pt x="12799" y="7392"/>
                </a:cubicBezTo>
                <a:cubicBezTo>
                  <a:pt x="12791" y="7384"/>
                  <a:pt x="12782" y="7375"/>
                  <a:pt x="12774" y="7367"/>
                </a:cubicBezTo>
                <a:cubicBezTo>
                  <a:pt x="12661" y="7367"/>
                  <a:pt x="12632" y="7425"/>
                  <a:pt x="12675" y="7541"/>
                </a:cubicBezTo>
                <a:cubicBezTo>
                  <a:pt x="12732" y="7694"/>
                  <a:pt x="12898" y="7595"/>
                  <a:pt x="12948" y="7491"/>
                </a:cubicBezTo>
                <a:cubicBezTo>
                  <a:pt x="12992" y="7399"/>
                  <a:pt x="12970" y="7520"/>
                  <a:pt x="12998" y="7590"/>
                </a:cubicBezTo>
                <a:cubicBezTo>
                  <a:pt x="12980" y="7519"/>
                  <a:pt x="12943" y="7482"/>
                  <a:pt x="13022" y="7417"/>
                </a:cubicBezTo>
                <a:cubicBezTo>
                  <a:pt x="13106" y="7349"/>
                  <a:pt x="13154" y="7524"/>
                  <a:pt x="13171" y="7565"/>
                </a:cubicBezTo>
                <a:cubicBezTo>
                  <a:pt x="13171" y="7557"/>
                  <a:pt x="13171" y="7549"/>
                  <a:pt x="13171" y="7541"/>
                </a:cubicBezTo>
                <a:cubicBezTo>
                  <a:pt x="13168" y="7523"/>
                  <a:pt x="13158" y="7304"/>
                  <a:pt x="13271" y="7417"/>
                </a:cubicBezTo>
                <a:cubicBezTo>
                  <a:pt x="13333" y="7479"/>
                  <a:pt x="13257" y="7665"/>
                  <a:pt x="13345" y="7665"/>
                </a:cubicBezTo>
                <a:cubicBezTo>
                  <a:pt x="13353" y="7657"/>
                  <a:pt x="13362" y="7648"/>
                  <a:pt x="13370" y="7640"/>
                </a:cubicBezTo>
              </a:path>
              <a:path w="5805" h="671">
                <a:moveTo>
                  <a:pt x="13593" y="7516"/>
                </a:moveTo>
                <a:cubicBezTo>
                  <a:pt x="13599" y="7538"/>
                  <a:pt x="13643" y="7782"/>
                  <a:pt x="13643" y="7714"/>
                </a:cubicBezTo>
              </a:path>
              <a:path w="5805" h="671">
                <a:moveTo>
                  <a:pt x="13643" y="7714"/>
                </a:moveTo>
                <a:lnTo>
                  <a:pt x="13643" y="7714"/>
                </a:lnTo>
              </a:path>
              <a:path w="5805" h="671">
                <a:moveTo>
                  <a:pt x="13568" y="7417"/>
                </a:moveTo>
                <a:lnTo>
                  <a:pt x="13568" y="7417"/>
                </a:lnTo>
              </a:path>
              <a:path w="5805" h="671">
                <a:moveTo>
                  <a:pt x="13915" y="7491"/>
                </a:moveTo>
                <a:cubicBezTo>
                  <a:pt x="13821" y="7491"/>
                  <a:pt x="13710" y="7532"/>
                  <a:pt x="13767" y="7665"/>
                </a:cubicBezTo>
                <a:cubicBezTo>
                  <a:pt x="13843" y="7842"/>
                  <a:pt x="14002" y="7687"/>
                  <a:pt x="14089" y="7640"/>
                </a:cubicBezTo>
              </a:path>
              <a:path w="5805" h="671">
                <a:moveTo>
                  <a:pt x="14387" y="7466"/>
                </a:moveTo>
                <a:cubicBezTo>
                  <a:pt x="14240" y="7454"/>
                  <a:pt x="14221" y="7501"/>
                  <a:pt x="14163" y="7640"/>
                </a:cubicBezTo>
                <a:cubicBezTo>
                  <a:pt x="14273" y="7651"/>
                  <a:pt x="14333" y="7630"/>
                  <a:pt x="14362" y="7516"/>
                </a:cubicBezTo>
                <a:cubicBezTo>
                  <a:pt x="14442" y="7636"/>
                  <a:pt x="14510" y="7640"/>
                  <a:pt x="14610" y="7565"/>
                </a:cubicBezTo>
              </a:path>
              <a:path w="5805" h="671">
                <a:moveTo>
                  <a:pt x="14511" y="7243"/>
                </a:moveTo>
                <a:cubicBezTo>
                  <a:pt x="14540" y="7319"/>
                  <a:pt x="14589" y="7605"/>
                  <a:pt x="14660" y="7640"/>
                </a:cubicBezTo>
                <a:cubicBezTo>
                  <a:pt x="14660" y="7632"/>
                  <a:pt x="14660" y="7623"/>
                  <a:pt x="14660" y="7615"/>
                </a:cubicBezTo>
              </a:path>
              <a:path w="5805" h="671">
                <a:moveTo>
                  <a:pt x="14660" y="7615"/>
                </a:moveTo>
                <a:lnTo>
                  <a:pt x="14660" y="7615"/>
                </a:lnTo>
              </a:path>
              <a:path w="5805" h="671">
                <a:moveTo>
                  <a:pt x="14833" y="7367"/>
                </a:moveTo>
                <a:cubicBezTo>
                  <a:pt x="14782" y="7367"/>
                  <a:pt x="14763" y="7368"/>
                  <a:pt x="14734" y="7392"/>
                </a:cubicBezTo>
                <a:cubicBezTo>
                  <a:pt x="14734" y="7500"/>
                  <a:pt x="14881" y="7483"/>
                  <a:pt x="14957" y="7541"/>
                </a:cubicBezTo>
                <a:cubicBezTo>
                  <a:pt x="15051" y="7613"/>
                  <a:pt x="14738" y="7640"/>
                  <a:pt x="14734" y="7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00880" y="2473200"/>
            <a:ext cx="1428840" cy="366840"/>
          </a:xfrm>
          <a:custGeom>
            <a:avLst/>
            <a:gdLst/>
            <a:ahLst/>
            <a:rect l="l" t="t" r="r" b="b"/>
            <a:pathLst>
              <a:path w="3970" h="1018">
                <a:moveTo>
                  <a:pt x="18058" y="7218"/>
                </a:moveTo>
                <a:cubicBezTo>
                  <a:pt x="18077" y="7161"/>
                  <a:pt x="18068" y="7205"/>
                  <a:pt x="18058" y="7169"/>
                </a:cubicBezTo>
                <a:cubicBezTo>
                  <a:pt x="18056" y="7163"/>
                  <a:pt x="18058" y="7011"/>
                  <a:pt x="18058" y="7144"/>
                </a:cubicBezTo>
                <a:cubicBezTo>
                  <a:pt x="18083" y="7278"/>
                  <a:pt x="18115" y="7408"/>
                  <a:pt x="18132" y="7541"/>
                </a:cubicBezTo>
                <a:cubicBezTo>
                  <a:pt x="18111" y="7370"/>
                  <a:pt x="18109" y="7355"/>
                  <a:pt x="18231" y="7243"/>
                </a:cubicBezTo>
                <a:cubicBezTo>
                  <a:pt x="18363" y="7353"/>
                  <a:pt x="18380" y="7395"/>
                  <a:pt x="18380" y="7565"/>
                </a:cubicBezTo>
              </a:path>
              <a:path w="3970" h="1018">
                <a:moveTo>
                  <a:pt x="18628" y="7367"/>
                </a:moveTo>
                <a:cubicBezTo>
                  <a:pt x="18515" y="7234"/>
                  <a:pt x="18414" y="7316"/>
                  <a:pt x="18405" y="7491"/>
                </a:cubicBezTo>
                <a:cubicBezTo>
                  <a:pt x="18392" y="7764"/>
                  <a:pt x="18631" y="7571"/>
                  <a:pt x="18678" y="7441"/>
                </a:cubicBezTo>
                <a:cubicBezTo>
                  <a:pt x="18699" y="7382"/>
                  <a:pt x="18666" y="7378"/>
                  <a:pt x="18653" y="7417"/>
                </a:cubicBezTo>
                <a:cubicBezTo>
                  <a:pt x="18675" y="7454"/>
                  <a:pt x="18754" y="7583"/>
                  <a:pt x="18827" y="7541"/>
                </a:cubicBezTo>
                <a:cubicBezTo>
                  <a:pt x="18845" y="7531"/>
                  <a:pt x="18847" y="7428"/>
                  <a:pt x="18852" y="7392"/>
                </a:cubicBezTo>
                <a:cubicBezTo>
                  <a:pt x="18860" y="7455"/>
                  <a:pt x="18882" y="7588"/>
                  <a:pt x="18951" y="7615"/>
                </a:cubicBezTo>
                <a:cubicBezTo>
                  <a:pt x="18951" y="7607"/>
                  <a:pt x="18951" y="7598"/>
                  <a:pt x="18951" y="7590"/>
                </a:cubicBezTo>
              </a:path>
              <a:path w="3970" h="1018">
                <a:moveTo>
                  <a:pt x="18752" y="7243"/>
                </a:moveTo>
                <a:cubicBezTo>
                  <a:pt x="18752" y="7235"/>
                  <a:pt x="18752" y="7226"/>
                  <a:pt x="18752" y="7218"/>
                </a:cubicBezTo>
              </a:path>
              <a:path w="3970" h="1018">
                <a:moveTo>
                  <a:pt x="19050" y="7541"/>
                </a:moveTo>
                <a:cubicBezTo>
                  <a:pt x="19050" y="7602"/>
                  <a:pt x="19071" y="7351"/>
                  <a:pt x="19075" y="7342"/>
                </a:cubicBezTo>
                <a:cubicBezTo>
                  <a:pt x="19126" y="7265"/>
                  <a:pt x="19146" y="7240"/>
                  <a:pt x="19224" y="7268"/>
                </a:cubicBezTo>
              </a:path>
              <a:path w="3970" h="1018">
                <a:moveTo>
                  <a:pt x="19720" y="7144"/>
                </a:moveTo>
                <a:cubicBezTo>
                  <a:pt x="19655" y="7187"/>
                  <a:pt x="19640" y="7198"/>
                  <a:pt x="19596" y="7218"/>
                </a:cubicBezTo>
                <a:cubicBezTo>
                  <a:pt x="19685" y="7282"/>
                  <a:pt x="19853" y="7305"/>
                  <a:pt x="19918" y="7392"/>
                </a:cubicBezTo>
                <a:cubicBezTo>
                  <a:pt x="19732" y="7528"/>
                  <a:pt x="19606" y="7590"/>
                  <a:pt x="19621" y="7342"/>
                </a:cubicBezTo>
              </a:path>
              <a:path w="3970" h="1018">
                <a:moveTo>
                  <a:pt x="20141" y="7094"/>
                </a:moveTo>
                <a:cubicBezTo>
                  <a:pt x="20236" y="7251"/>
                  <a:pt x="20286" y="7343"/>
                  <a:pt x="20340" y="7516"/>
                </a:cubicBezTo>
              </a:path>
              <a:path w="3970" h="1018">
                <a:moveTo>
                  <a:pt x="20017" y="7342"/>
                </a:moveTo>
                <a:cubicBezTo>
                  <a:pt x="20116" y="7342"/>
                  <a:pt x="20325" y="7284"/>
                  <a:pt x="20414" y="7317"/>
                </a:cubicBezTo>
                <a:cubicBezTo>
                  <a:pt x="20423" y="7320"/>
                  <a:pt x="20477" y="7441"/>
                  <a:pt x="20538" y="7466"/>
                </a:cubicBezTo>
                <a:cubicBezTo>
                  <a:pt x="20538" y="7396"/>
                  <a:pt x="20547" y="7361"/>
                  <a:pt x="20588" y="7317"/>
                </a:cubicBezTo>
                <a:cubicBezTo>
                  <a:pt x="20693" y="7388"/>
                  <a:pt x="20849" y="7586"/>
                  <a:pt x="20811" y="7739"/>
                </a:cubicBezTo>
                <a:cubicBezTo>
                  <a:pt x="20753" y="7971"/>
                  <a:pt x="20506" y="7863"/>
                  <a:pt x="20365" y="7838"/>
                </a:cubicBezTo>
              </a:path>
              <a:path w="3970" h="1018">
                <a:moveTo>
                  <a:pt x="20836" y="7094"/>
                </a:moveTo>
                <a:cubicBezTo>
                  <a:pt x="20875" y="7231"/>
                  <a:pt x="20890" y="7598"/>
                  <a:pt x="20985" y="7491"/>
                </a:cubicBezTo>
                <a:cubicBezTo>
                  <a:pt x="20993" y="7466"/>
                  <a:pt x="21002" y="7442"/>
                  <a:pt x="21010" y="7417"/>
                </a:cubicBezTo>
              </a:path>
              <a:path w="3970" h="1018">
                <a:moveTo>
                  <a:pt x="21134" y="7293"/>
                </a:moveTo>
                <a:cubicBezTo>
                  <a:pt x="21171" y="7349"/>
                  <a:pt x="21188" y="7353"/>
                  <a:pt x="21183" y="7392"/>
                </a:cubicBezTo>
              </a:path>
              <a:path w="3970" h="1018">
                <a:moveTo>
                  <a:pt x="21183" y="7392"/>
                </a:moveTo>
                <a:lnTo>
                  <a:pt x="21183" y="7392"/>
                </a:lnTo>
              </a:path>
              <a:path w="3970" h="1018">
                <a:moveTo>
                  <a:pt x="20985" y="7094"/>
                </a:moveTo>
                <a:cubicBezTo>
                  <a:pt x="21001" y="7094"/>
                  <a:pt x="21018" y="7094"/>
                  <a:pt x="21034" y="7094"/>
                </a:cubicBezTo>
              </a:path>
              <a:path w="3970" h="1018">
                <a:moveTo>
                  <a:pt x="21357" y="7119"/>
                </a:moveTo>
                <a:cubicBezTo>
                  <a:pt x="21284" y="7173"/>
                  <a:pt x="21251" y="7165"/>
                  <a:pt x="21258" y="7218"/>
                </a:cubicBezTo>
                <a:cubicBezTo>
                  <a:pt x="21417" y="7225"/>
                  <a:pt x="21481" y="7219"/>
                  <a:pt x="21580" y="7317"/>
                </a:cubicBezTo>
                <a:cubicBezTo>
                  <a:pt x="21424" y="7454"/>
                  <a:pt x="21412" y="7454"/>
                  <a:pt x="21208" y="7417"/>
                </a:cubicBezTo>
              </a:path>
              <a:path w="3970" h="1018">
                <a:moveTo>
                  <a:pt x="21729" y="6871"/>
                </a:moveTo>
                <a:cubicBezTo>
                  <a:pt x="21782" y="7009"/>
                  <a:pt x="21953" y="7254"/>
                  <a:pt x="21952" y="7392"/>
                </a:cubicBezTo>
                <a:cubicBezTo>
                  <a:pt x="21944" y="7384"/>
                  <a:pt x="21935" y="7375"/>
                  <a:pt x="21927" y="7367"/>
                </a:cubicBezTo>
              </a:path>
              <a:path w="3970" h="1018">
                <a:moveTo>
                  <a:pt x="21754" y="7169"/>
                </a:moveTo>
                <a:cubicBezTo>
                  <a:pt x="21903" y="7147"/>
                  <a:pt x="21938" y="7145"/>
                  <a:pt x="22027" y="7119"/>
                </a:cubicBezTo>
              </a:path>
              <a:path w="3970" h="1018">
                <a:moveTo>
                  <a:pt x="22027" y="7119"/>
                </a:moveTo>
                <a:lnTo>
                  <a:pt x="22027" y="711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9760" y="2894040"/>
            <a:ext cx="1027080" cy="123840"/>
          </a:xfrm>
          <a:custGeom>
            <a:avLst/>
            <a:gdLst/>
            <a:ahLst/>
            <a:rect l="l" t="t" r="r" b="b"/>
            <a:pathLst>
              <a:path w="2853" h="348">
                <a:moveTo>
                  <a:pt x="1538" y="8186"/>
                </a:moveTo>
                <a:cubicBezTo>
                  <a:pt x="1563" y="8186"/>
                  <a:pt x="1571" y="8186"/>
                  <a:pt x="1563" y="8210"/>
                </a:cubicBezTo>
              </a:path>
              <a:path w="2853" h="348">
                <a:moveTo>
                  <a:pt x="1860" y="8161"/>
                </a:moveTo>
                <a:cubicBezTo>
                  <a:pt x="1876" y="8223"/>
                  <a:pt x="1940" y="8313"/>
                  <a:pt x="1935" y="8384"/>
                </a:cubicBezTo>
                <a:cubicBezTo>
                  <a:pt x="1910" y="8384"/>
                  <a:pt x="1902" y="8384"/>
                  <a:pt x="1910" y="8359"/>
                </a:cubicBezTo>
                <a:cubicBezTo>
                  <a:pt x="1896" y="8305"/>
                  <a:pt x="1840" y="8136"/>
                  <a:pt x="1960" y="8136"/>
                </a:cubicBezTo>
                <a:cubicBezTo>
                  <a:pt x="2088" y="8136"/>
                  <a:pt x="2112" y="8218"/>
                  <a:pt x="2158" y="8310"/>
                </a:cubicBezTo>
                <a:cubicBezTo>
                  <a:pt x="2158" y="8374"/>
                  <a:pt x="2127" y="8157"/>
                  <a:pt x="2133" y="8136"/>
                </a:cubicBezTo>
                <a:cubicBezTo>
                  <a:pt x="2180" y="7980"/>
                  <a:pt x="2337" y="8042"/>
                  <a:pt x="2406" y="8136"/>
                </a:cubicBezTo>
                <a:cubicBezTo>
                  <a:pt x="2443" y="8186"/>
                  <a:pt x="2441" y="8297"/>
                  <a:pt x="2480" y="8310"/>
                </a:cubicBezTo>
              </a:path>
              <a:path w="2853" h="348">
                <a:moveTo>
                  <a:pt x="2580" y="8111"/>
                </a:moveTo>
                <a:cubicBezTo>
                  <a:pt x="2511" y="8134"/>
                  <a:pt x="2596" y="8290"/>
                  <a:pt x="2629" y="8334"/>
                </a:cubicBezTo>
                <a:cubicBezTo>
                  <a:pt x="2725" y="8463"/>
                  <a:pt x="2851" y="8216"/>
                  <a:pt x="2853" y="8161"/>
                </a:cubicBezTo>
                <a:cubicBezTo>
                  <a:pt x="2834" y="8103"/>
                  <a:pt x="2843" y="8078"/>
                  <a:pt x="2803" y="8086"/>
                </a:cubicBezTo>
                <a:cubicBezTo>
                  <a:pt x="2822" y="8163"/>
                  <a:pt x="2859" y="8259"/>
                  <a:pt x="2902" y="8334"/>
                </a:cubicBezTo>
                <a:cubicBezTo>
                  <a:pt x="2930" y="8384"/>
                  <a:pt x="2964" y="8350"/>
                  <a:pt x="3001" y="8334"/>
                </a:cubicBezTo>
              </a:path>
              <a:path w="2853" h="348">
                <a:moveTo>
                  <a:pt x="3249" y="8037"/>
                </a:moveTo>
                <a:cubicBezTo>
                  <a:pt x="3207" y="8074"/>
                  <a:pt x="3168" y="8102"/>
                  <a:pt x="3125" y="8136"/>
                </a:cubicBezTo>
                <a:cubicBezTo>
                  <a:pt x="3188" y="8136"/>
                  <a:pt x="3328" y="8146"/>
                  <a:pt x="3373" y="8186"/>
                </a:cubicBezTo>
                <a:cubicBezTo>
                  <a:pt x="3475" y="8278"/>
                  <a:pt x="3281" y="8370"/>
                  <a:pt x="3225" y="8384"/>
                </a:cubicBezTo>
                <a:cubicBezTo>
                  <a:pt x="3172" y="8397"/>
                  <a:pt x="3206" y="8343"/>
                  <a:pt x="3249" y="8310"/>
                </a:cubicBezTo>
              </a:path>
              <a:path w="2853" h="348">
                <a:moveTo>
                  <a:pt x="3671" y="8136"/>
                </a:moveTo>
                <a:cubicBezTo>
                  <a:pt x="3721" y="8214"/>
                  <a:pt x="3746" y="8244"/>
                  <a:pt x="3746" y="8334"/>
                </a:cubicBezTo>
              </a:path>
              <a:path w="2853" h="348">
                <a:moveTo>
                  <a:pt x="3597" y="8037"/>
                </a:moveTo>
                <a:cubicBezTo>
                  <a:pt x="3589" y="8037"/>
                  <a:pt x="3580" y="8037"/>
                  <a:pt x="3572" y="8037"/>
                </a:cubicBezTo>
              </a:path>
              <a:path w="2853" h="348">
                <a:moveTo>
                  <a:pt x="4118" y="8136"/>
                </a:moveTo>
                <a:cubicBezTo>
                  <a:pt x="4118" y="8172"/>
                  <a:pt x="4049" y="8092"/>
                  <a:pt x="3994" y="8062"/>
                </a:cubicBezTo>
                <a:cubicBezTo>
                  <a:pt x="3941" y="8140"/>
                  <a:pt x="3898" y="8282"/>
                  <a:pt x="3994" y="8359"/>
                </a:cubicBezTo>
                <a:cubicBezTo>
                  <a:pt x="4037" y="8394"/>
                  <a:pt x="4227" y="8408"/>
                  <a:pt x="4266" y="8359"/>
                </a:cubicBezTo>
                <a:cubicBezTo>
                  <a:pt x="4266" y="8334"/>
                  <a:pt x="4266" y="8326"/>
                  <a:pt x="4266" y="8359"/>
                </a:cubicBezTo>
              </a:path>
              <a:path w="2853" h="348">
                <a:moveTo>
                  <a:pt x="1414" y="8210"/>
                </a:moveTo>
                <a:cubicBezTo>
                  <a:pt x="1480" y="8210"/>
                  <a:pt x="1546" y="8210"/>
                  <a:pt x="1612" y="8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97040" y="2795760"/>
            <a:ext cx="3125880" cy="293400"/>
          </a:xfrm>
          <a:custGeom>
            <a:avLst/>
            <a:gdLst/>
            <a:ahLst/>
            <a:rect l="l" t="t" r="r" b="b"/>
            <a:pathLst>
              <a:path w="8683" h="819">
                <a:moveTo>
                  <a:pt x="4787" y="7764"/>
                </a:moveTo>
                <a:cubicBezTo>
                  <a:pt x="4738" y="7961"/>
                  <a:pt x="4670" y="8208"/>
                  <a:pt x="4738" y="8409"/>
                </a:cubicBezTo>
                <a:cubicBezTo>
                  <a:pt x="4776" y="8521"/>
                  <a:pt x="4863" y="8533"/>
                  <a:pt x="4961" y="8533"/>
                </a:cubicBezTo>
              </a:path>
              <a:path w="8683" h="819">
                <a:moveTo>
                  <a:pt x="5035" y="8260"/>
                </a:moveTo>
                <a:cubicBezTo>
                  <a:pt x="5074" y="8307"/>
                  <a:pt x="5121" y="8354"/>
                  <a:pt x="5135" y="8409"/>
                </a:cubicBezTo>
                <a:cubicBezTo>
                  <a:pt x="5132" y="8392"/>
                  <a:pt x="5084" y="8248"/>
                  <a:pt x="5110" y="8235"/>
                </a:cubicBezTo>
                <a:cubicBezTo>
                  <a:pt x="5285" y="8147"/>
                  <a:pt x="5345" y="8303"/>
                  <a:pt x="5358" y="8434"/>
                </a:cubicBezTo>
                <a:cubicBezTo>
                  <a:pt x="5358" y="8442"/>
                  <a:pt x="5358" y="8450"/>
                  <a:pt x="5358" y="8458"/>
                </a:cubicBezTo>
              </a:path>
              <a:path w="8683" h="819">
                <a:moveTo>
                  <a:pt x="5531" y="8210"/>
                </a:moveTo>
                <a:cubicBezTo>
                  <a:pt x="5516" y="8276"/>
                  <a:pt x="5489" y="8533"/>
                  <a:pt x="5655" y="8434"/>
                </a:cubicBezTo>
                <a:cubicBezTo>
                  <a:pt x="5774" y="8363"/>
                  <a:pt x="5659" y="8240"/>
                  <a:pt x="5581" y="8210"/>
                </a:cubicBezTo>
                <a:cubicBezTo>
                  <a:pt x="5573" y="8210"/>
                  <a:pt x="5564" y="8210"/>
                  <a:pt x="5556" y="8210"/>
                </a:cubicBezTo>
              </a:path>
              <a:path w="8683" h="819">
                <a:moveTo>
                  <a:pt x="5556" y="8210"/>
                </a:moveTo>
                <a:lnTo>
                  <a:pt x="5556" y="8210"/>
                </a:lnTo>
              </a:path>
              <a:path w="8683" h="819">
                <a:moveTo>
                  <a:pt x="5755" y="8012"/>
                </a:moveTo>
                <a:cubicBezTo>
                  <a:pt x="5808" y="8173"/>
                  <a:pt x="5881" y="8315"/>
                  <a:pt x="5904" y="8483"/>
                </a:cubicBezTo>
              </a:path>
              <a:path w="8683" h="819">
                <a:moveTo>
                  <a:pt x="5680" y="8285"/>
                </a:moveTo>
                <a:cubicBezTo>
                  <a:pt x="5790" y="8263"/>
                  <a:pt x="5937" y="8231"/>
                  <a:pt x="6052" y="8260"/>
                </a:cubicBezTo>
                <a:cubicBezTo>
                  <a:pt x="6097" y="8271"/>
                  <a:pt x="6112" y="8300"/>
                  <a:pt x="6152" y="8310"/>
                </a:cubicBezTo>
                <a:cubicBezTo>
                  <a:pt x="6173" y="8202"/>
                  <a:pt x="6164" y="8199"/>
                  <a:pt x="6052" y="8186"/>
                </a:cubicBezTo>
                <a:cubicBezTo>
                  <a:pt x="6011" y="8255"/>
                  <a:pt x="5959" y="8483"/>
                  <a:pt x="6127" y="8483"/>
                </a:cubicBezTo>
                <a:cubicBezTo>
                  <a:pt x="6243" y="8426"/>
                  <a:pt x="6293" y="8401"/>
                  <a:pt x="6375" y="8359"/>
                </a:cubicBezTo>
              </a:path>
              <a:path w="8683" h="819">
                <a:moveTo>
                  <a:pt x="6424" y="8210"/>
                </a:moveTo>
                <a:cubicBezTo>
                  <a:pt x="6363" y="8219"/>
                  <a:pt x="6368" y="8217"/>
                  <a:pt x="6325" y="8260"/>
                </a:cubicBezTo>
                <a:cubicBezTo>
                  <a:pt x="6405" y="8292"/>
                  <a:pt x="6587" y="8329"/>
                  <a:pt x="6449" y="8434"/>
                </a:cubicBezTo>
                <a:cubicBezTo>
                  <a:pt x="6360" y="8478"/>
                  <a:pt x="6337" y="8498"/>
                  <a:pt x="6276" y="8458"/>
                </a:cubicBezTo>
              </a:path>
              <a:path w="8683" h="819">
                <a:moveTo>
                  <a:pt x="6276" y="8458"/>
                </a:moveTo>
                <a:lnTo>
                  <a:pt x="6276" y="8458"/>
                </a:lnTo>
              </a:path>
              <a:path w="8683" h="819">
                <a:moveTo>
                  <a:pt x="6772" y="8359"/>
                </a:moveTo>
                <a:cubicBezTo>
                  <a:pt x="6830" y="8359"/>
                  <a:pt x="6887" y="8359"/>
                  <a:pt x="6945" y="8359"/>
                </a:cubicBezTo>
              </a:path>
              <a:path w="8683" h="819">
                <a:moveTo>
                  <a:pt x="7094" y="8062"/>
                </a:moveTo>
                <a:cubicBezTo>
                  <a:pt x="7162" y="8184"/>
                  <a:pt x="7255" y="8301"/>
                  <a:pt x="7293" y="8434"/>
                </a:cubicBezTo>
                <a:cubicBezTo>
                  <a:pt x="7293" y="8342"/>
                  <a:pt x="7274" y="8217"/>
                  <a:pt x="7417" y="8235"/>
                </a:cubicBezTo>
                <a:cubicBezTo>
                  <a:pt x="7635" y="8262"/>
                  <a:pt x="7509" y="8442"/>
                  <a:pt x="7367" y="8458"/>
                </a:cubicBezTo>
                <a:cubicBezTo>
                  <a:pt x="7350" y="8450"/>
                  <a:pt x="7334" y="8442"/>
                  <a:pt x="7317" y="8434"/>
                </a:cubicBezTo>
              </a:path>
              <a:path w="8683" h="819">
                <a:moveTo>
                  <a:pt x="7689" y="8310"/>
                </a:moveTo>
                <a:cubicBezTo>
                  <a:pt x="7730" y="8310"/>
                  <a:pt x="7772" y="8310"/>
                  <a:pt x="7813" y="8310"/>
                </a:cubicBezTo>
                <a:cubicBezTo>
                  <a:pt x="7806" y="8279"/>
                  <a:pt x="7732" y="8188"/>
                  <a:pt x="7689" y="8235"/>
                </a:cubicBezTo>
                <a:cubicBezTo>
                  <a:pt x="7621" y="8309"/>
                  <a:pt x="7654" y="8506"/>
                  <a:pt x="7789" y="8458"/>
                </a:cubicBezTo>
                <a:cubicBezTo>
                  <a:pt x="7830" y="8433"/>
                  <a:pt x="7872" y="8409"/>
                  <a:pt x="7913" y="8384"/>
                </a:cubicBezTo>
              </a:path>
              <a:path w="8683" h="819">
                <a:moveTo>
                  <a:pt x="8161" y="8334"/>
                </a:moveTo>
                <a:cubicBezTo>
                  <a:pt x="8140" y="8282"/>
                  <a:pt x="8074" y="8195"/>
                  <a:pt x="8012" y="8260"/>
                </a:cubicBezTo>
                <a:cubicBezTo>
                  <a:pt x="7964" y="8331"/>
                  <a:pt x="7946" y="8353"/>
                  <a:pt x="7987" y="8409"/>
                </a:cubicBezTo>
                <a:cubicBezTo>
                  <a:pt x="8093" y="8439"/>
                  <a:pt x="8086" y="8409"/>
                  <a:pt x="8161" y="8334"/>
                </a:cubicBezTo>
                <a:cubicBezTo>
                  <a:pt x="8161" y="8220"/>
                  <a:pt x="8149" y="8408"/>
                  <a:pt x="8210" y="8434"/>
                </a:cubicBezTo>
                <a:cubicBezTo>
                  <a:pt x="8307" y="8434"/>
                  <a:pt x="8338" y="8437"/>
                  <a:pt x="8359" y="8359"/>
                </a:cubicBezTo>
              </a:path>
              <a:path w="8683" h="819">
                <a:moveTo>
                  <a:pt x="8334" y="8037"/>
                </a:moveTo>
                <a:cubicBezTo>
                  <a:pt x="8392" y="8162"/>
                  <a:pt x="8440" y="8278"/>
                  <a:pt x="8483" y="8409"/>
                </a:cubicBezTo>
              </a:path>
              <a:path w="8683" h="819">
                <a:moveTo>
                  <a:pt x="8483" y="8409"/>
                </a:moveTo>
                <a:lnTo>
                  <a:pt x="8483" y="8409"/>
                </a:lnTo>
              </a:path>
              <a:path w="8683" h="819">
                <a:moveTo>
                  <a:pt x="8136" y="8235"/>
                </a:moveTo>
                <a:cubicBezTo>
                  <a:pt x="8293" y="8210"/>
                  <a:pt x="8432" y="8184"/>
                  <a:pt x="8582" y="8136"/>
                </a:cubicBezTo>
                <a:cubicBezTo>
                  <a:pt x="8582" y="8241"/>
                  <a:pt x="8495" y="8194"/>
                  <a:pt x="8682" y="8260"/>
                </a:cubicBezTo>
                <a:cubicBezTo>
                  <a:pt x="8715" y="8268"/>
                  <a:pt x="8748" y="8277"/>
                  <a:pt x="8781" y="8285"/>
                </a:cubicBezTo>
                <a:cubicBezTo>
                  <a:pt x="8723" y="8414"/>
                  <a:pt x="8648" y="8435"/>
                  <a:pt x="8508" y="8409"/>
                </a:cubicBezTo>
              </a:path>
              <a:path w="8683" h="819">
                <a:moveTo>
                  <a:pt x="8657" y="7838"/>
                </a:moveTo>
                <a:cubicBezTo>
                  <a:pt x="8821" y="8019"/>
                  <a:pt x="9027" y="8194"/>
                  <a:pt x="8880" y="8458"/>
                </a:cubicBezTo>
                <a:cubicBezTo>
                  <a:pt x="8790" y="8549"/>
                  <a:pt x="8770" y="8579"/>
                  <a:pt x="8682" y="8582"/>
                </a:cubicBezTo>
              </a:path>
              <a:path w="8683" h="819">
                <a:moveTo>
                  <a:pt x="8682" y="8582"/>
                </a:moveTo>
                <a:lnTo>
                  <a:pt x="8682" y="8582"/>
                </a:lnTo>
              </a:path>
              <a:path w="8683" h="819">
                <a:moveTo>
                  <a:pt x="9252" y="8235"/>
                </a:moveTo>
                <a:cubicBezTo>
                  <a:pt x="9252" y="8169"/>
                  <a:pt x="9237" y="8319"/>
                  <a:pt x="9252" y="8384"/>
                </a:cubicBezTo>
                <a:cubicBezTo>
                  <a:pt x="9275" y="8407"/>
                  <a:pt x="9283" y="8411"/>
                  <a:pt x="9277" y="8434"/>
                </a:cubicBezTo>
              </a:path>
              <a:path w="8683" h="819">
                <a:moveTo>
                  <a:pt x="9128" y="8062"/>
                </a:moveTo>
                <a:lnTo>
                  <a:pt x="9128" y="8062"/>
                </a:lnTo>
                <a:lnTo>
                  <a:pt x="9128" y="8062"/>
                </a:lnTo>
              </a:path>
              <a:path w="8683" h="819">
                <a:moveTo>
                  <a:pt x="9327" y="8310"/>
                </a:moveTo>
                <a:cubicBezTo>
                  <a:pt x="9351" y="8359"/>
                  <a:pt x="9359" y="8376"/>
                  <a:pt x="9376" y="8409"/>
                </a:cubicBezTo>
                <a:cubicBezTo>
                  <a:pt x="9358" y="8301"/>
                  <a:pt x="9324" y="8283"/>
                  <a:pt x="9401" y="8235"/>
                </a:cubicBezTo>
                <a:cubicBezTo>
                  <a:pt x="9525" y="8159"/>
                  <a:pt x="9594" y="8252"/>
                  <a:pt x="9624" y="8384"/>
                </a:cubicBezTo>
                <a:cubicBezTo>
                  <a:pt x="9624" y="8401"/>
                  <a:pt x="9624" y="8417"/>
                  <a:pt x="9624" y="8434"/>
                </a:cubicBezTo>
              </a:path>
              <a:path w="8683" h="819">
                <a:moveTo>
                  <a:pt x="9773" y="8210"/>
                </a:moveTo>
                <a:cubicBezTo>
                  <a:pt x="9740" y="8218"/>
                  <a:pt x="9707" y="8227"/>
                  <a:pt x="9674" y="8235"/>
                </a:cubicBezTo>
                <a:cubicBezTo>
                  <a:pt x="9772" y="8298"/>
                  <a:pt x="9792" y="8308"/>
                  <a:pt x="9847" y="8409"/>
                </a:cubicBezTo>
                <a:cubicBezTo>
                  <a:pt x="9742" y="8490"/>
                  <a:pt x="9673" y="8527"/>
                  <a:pt x="9674" y="8384"/>
                </a:cubicBezTo>
              </a:path>
              <a:path w="8683" h="819">
                <a:moveTo>
                  <a:pt x="9674" y="8384"/>
                </a:moveTo>
                <a:lnTo>
                  <a:pt x="9674" y="8384"/>
                </a:lnTo>
              </a:path>
              <a:path w="8683" h="819">
                <a:moveTo>
                  <a:pt x="9897" y="8012"/>
                </a:moveTo>
                <a:cubicBezTo>
                  <a:pt x="9921" y="8157"/>
                  <a:pt x="9988" y="8289"/>
                  <a:pt x="10021" y="8434"/>
                </a:cubicBezTo>
                <a:cubicBezTo>
                  <a:pt x="10021" y="8442"/>
                  <a:pt x="10021" y="8450"/>
                  <a:pt x="10021" y="8458"/>
                </a:cubicBezTo>
              </a:path>
              <a:path w="8683" h="819">
                <a:moveTo>
                  <a:pt x="9798" y="8285"/>
                </a:moveTo>
                <a:cubicBezTo>
                  <a:pt x="9905" y="8285"/>
                  <a:pt x="10072" y="8253"/>
                  <a:pt x="10170" y="8310"/>
                </a:cubicBezTo>
                <a:cubicBezTo>
                  <a:pt x="10195" y="8359"/>
                  <a:pt x="10204" y="8376"/>
                  <a:pt x="10220" y="8409"/>
                </a:cubicBezTo>
                <a:cubicBezTo>
                  <a:pt x="10232" y="8305"/>
                  <a:pt x="10239" y="8292"/>
                  <a:pt x="10344" y="8285"/>
                </a:cubicBezTo>
                <a:cubicBezTo>
                  <a:pt x="10420" y="8280"/>
                  <a:pt x="10434" y="8336"/>
                  <a:pt x="10443" y="8409"/>
                </a:cubicBezTo>
                <a:cubicBezTo>
                  <a:pt x="10443" y="8425"/>
                  <a:pt x="10443" y="8442"/>
                  <a:pt x="10443" y="8458"/>
                </a:cubicBezTo>
              </a:path>
              <a:path w="8683" h="819">
                <a:moveTo>
                  <a:pt x="10616" y="8285"/>
                </a:moveTo>
                <a:cubicBezTo>
                  <a:pt x="10636" y="8338"/>
                  <a:pt x="10646" y="8380"/>
                  <a:pt x="10666" y="8434"/>
                </a:cubicBezTo>
                <a:cubicBezTo>
                  <a:pt x="10666" y="8399"/>
                  <a:pt x="10664" y="8263"/>
                  <a:pt x="10740" y="8285"/>
                </a:cubicBezTo>
                <a:cubicBezTo>
                  <a:pt x="10806" y="8304"/>
                  <a:pt x="10809" y="8385"/>
                  <a:pt x="10815" y="8434"/>
                </a:cubicBezTo>
                <a:cubicBezTo>
                  <a:pt x="10815" y="8349"/>
                  <a:pt x="10824" y="8293"/>
                  <a:pt x="10840" y="8210"/>
                </a:cubicBezTo>
                <a:cubicBezTo>
                  <a:pt x="10893" y="8237"/>
                  <a:pt x="10932" y="8357"/>
                  <a:pt x="10988" y="8384"/>
                </a:cubicBezTo>
                <a:cubicBezTo>
                  <a:pt x="11106" y="8440"/>
                  <a:pt x="11229" y="8293"/>
                  <a:pt x="11212" y="8186"/>
                </a:cubicBezTo>
                <a:cubicBezTo>
                  <a:pt x="11204" y="8186"/>
                  <a:pt x="11195" y="8186"/>
                  <a:pt x="11187" y="8186"/>
                </a:cubicBezTo>
                <a:cubicBezTo>
                  <a:pt x="11142" y="8282"/>
                  <a:pt x="11088" y="8477"/>
                  <a:pt x="11286" y="8384"/>
                </a:cubicBezTo>
                <a:cubicBezTo>
                  <a:pt x="11319" y="8359"/>
                  <a:pt x="11352" y="8335"/>
                  <a:pt x="11385" y="8310"/>
                </a:cubicBezTo>
                <a:cubicBezTo>
                  <a:pt x="11385" y="8488"/>
                  <a:pt x="11378" y="8329"/>
                  <a:pt x="11410" y="8334"/>
                </a:cubicBezTo>
                <a:cubicBezTo>
                  <a:pt x="11559" y="8359"/>
                  <a:pt x="11633" y="8546"/>
                  <a:pt x="11708" y="8310"/>
                </a:cubicBezTo>
                <a:cubicBezTo>
                  <a:pt x="11730" y="8203"/>
                  <a:pt x="11738" y="8179"/>
                  <a:pt x="11733" y="8111"/>
                </a:cubicBezTo>
                <a:cubicBezTo>
                  <a:pt x="11738" y="8144"/>
                  <a:pt x="11815" y="8375"/>
                  <a:pt x="11757" y="8359"/>
                </a:cubicBezTo>
                <a:cubicBezTo>
                  <a:pt x="11749" y="8343"/>
                  <a:pt x="11741" y="8326"/>
                  <a:pt x="11733" y="8310"/>
                </a:cubicBezTo>
              </a:path>
              <a:path w="8683" h="819">
                <a:moveTo>
                  <a:pt x="11757" y="8210"/>
                </a:moveTo>
                <a:cubicBezTo>
                  <a:pt x="11832" y="8192"/>
                  <a:pt x="11865" y="8210"/>
                  <a:pt x="11857" y="8161"/>
                </a:cubicBezTo>
              </a:path>
              <a:path w="8683" h="819">
                <a:moveTo>
                  <a:pt x="11857" y="8161"/>
                </a:moveTo>
                <a:lnTo>
                  <a:pt x="11857" y="8161"/>
                </a:lnTo>
              </a:path>
              <a:path w="8683" h="819">
                <a:moveTo>
                  <a:pt x="10344" y="8334"/>
                </a:moveTo>
                <a:cubicBezTo>
                  <a:pt x="10378" y="8377"/>
                  <a:pt x="10344" y="8459"/>
                  <a:pt x="10393" y="8483"/>
                </a:cubicBezTo>
                <a:cubicBezTo>
                  <a:pt x="10475" y="8524"/>
                  <a:pt x="10521" y="8370"/>
                  <a:pt x="10542" y="8334"/>
                </a:cubicBezTo>
                <a:cubicBezTo>
                  <a:pt x="10542" y="8326"/>
                  <a:pt x="10542" y="8318"/>
                  <a:pt x="10542" y="8310"/>
                </a:cubicBezTo>
                <a:cubicBezTo>
                  <a:pt x="10542" y="8471"/>
                  <a:pt x="10544" y="8462"/>
                  <a:pt x="10691" y="8483"/>
                </a:cubicBezTo>
              </a:path>
              <a:path w="8683" h="819">
                <a:moveTo>
                  <a:pt x="12353" y="8186"/>
                </a:moveTo>
                <a:cubicBezTo>
                  <a:pt x="12291" y="8191"/>
                  <a:pt x="12240" y="8200"/>
                  <a:pt x="12179" y="8210"/>
                </a:cubicBezTo>
                <a:cubicBezTo>
                  <a:pt x="12244" y="8275"/>
                  <a:pt x="12321" y="8315"/>
                  <a:pt x="12402" y="8359"/>
                </a:cubicBezTo>
                <a:cubicBezTo>
                  <a:pt x="12298" y="8494"/>
                  <a:pt x="12249" y="8518"/>
                  <a:pt x="12154" y="8384"/>
                </a:cubicBezTo>
              </a:path>
              <a:path w="8683" h="819">
                <a:moveTo>
                  <a:pt x="12551" y="8359"/>
                </a:moveTo>
                <a:cubicBezTo>
                  <a:pt x="12571" y="8420"/>
                  <a:pt x="12569" y="8435"/>
                  <a:pt x="12601" y="8458"/>
                </a:cubicBezTo>
              </a:path>
              <a:path w="8683" h="819">
                <a:moveTo>
                  <a:pt x="12551" y="8161"/>
                </a:moveTo>
                <a:cubicBezTo>
                  <a:pt x="12559" y="8161"/>
                  <a:pt x="12568" y="8161"/>
                  <a:pt x="12576" y="8161"/>
                </a:cubicBezTo>
              </a:path>
              <a:path w="8683" h="819">
                <a:moveTo>
                  <a:pt x="12576" y="8161"/>
                </a:moveTo>
                <a:lnTo>
                  <a:pt x="12576" y="8161"/>
                </a:lnTo>
              </a:path>
              <a:path w="8683" h="819">
                <a:moveTo>
                  <a:pt x="12750" y="8235"/>
                </a:moveTo>
                <a:cubicBezTo>
                  <a:pt x="12850" y="8244"/>
                  <a:pt x="12925" y="8262"/>
                  <a:pt x="12849" y="8384"/>
                </a:cubicBezTo>
                <a:cubicBezTo>
                  <a:pt x="12832" y="8401"/>
                  <a:pt x="12816" y="8417"/>
                  <a:pt x="12799" y="8434"/>
                </a:cubicBezTo>
                <a:cubicBezTo>
                  <a:pt x="12862" y="8469"/>
                  <a:pt x="12969" y="8515"/>
                  <a:pt x="13047" y="8483"/>
                </a:cubicBezTo>
                <a:cubicBezTo>
                  <a:pt x="13055" y="8475"/>
                  <a:pt x="13064" y="8466"/>
                  <a:pt x="13072" y="8458"/>
                </a:cubicBezTo>
              </a:path>
              <a:path w="8683" h="819">
                <a:moveTo>
                  <a:pt x="13097" y="8359"/>
                </a:moveTo>
                <a:cubicBezTo>
                  <a:pt x="13149" y="8340"/>
                  <a:pt x="13244" y="8320"/>
                  <a:pt x="13271" y="8260"/>
                </a:cubicBezTo>
                <a:cubicBezTo>
                  <a:pt x="13271" y="8232"/>
                  <a:pt x="13269" y="8221"/>
                  <a:pt x="13246" y="8210"/>
                </a:cubicBezTo>
                <a:cubicBezTo>
                  <a:pt x="13166" y="8211"/>
                  <a:pt x="13059" y="8355"/>
                  <a:pt x="13196" y="8434"/>
                </a:cubicBezTo>
                <a:cubicBezTo>
                  <a:pt x="13295" y="8434"/>
                  <a:pt x="13329" y="8434"/>
                  <a:pt x="13395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59680" y="2714760"/>
            <a:ext cx="2143080" cy="366480"/>
          </a:xfrm>
          <a:custGeom>
            <a:avLst/>
            <a:gdLst/>
            <a:ahLst/>
            <a:rect l="l" t="t" r="r" b="b"/>
            <a:pathLst>
              <a:path w="5954" h="1018">
                <a:moveTo>
                  <a:pt x="17388" y="8334"/>
                </a:moveTo>
                <a:cubicBezTo>
                  <a:pt x="17458" y="8320"/>
                  <a:pt x="17488" y="8328"/>
                  <a:pt x="17562" y="8334"/>
                </a:cubicBezTo>
                <a:cubicBezTo>
                  <a:pt x="17570" y="8334"/>
                  <a:pt x="17579" y="8334"/>
                  <a:pt x="17587" y="8334"/>
                </a:cubicBezTo>
              </a:path>
              <a:path w="5954" h="1018">
                <a:moveTo>
                  <a:pt x="17959" y="8235"/>
                </a:moveTo>
                <a:cubicBezTo>
                  <a:pt x="17927" y="8224"/>
                  <a:pt x="17922" y="8201"/>
                  <a:pt x="17934" y="8260"/>
                </a:cubicBezTo>
                <a:cubicBezTo>
                  <a:pt x="17957" y="8350"/>
                  <a:pt x="17965" y="8374"/>
                  <a:pt x="17959" y="8434"/>
                </a:cubicBezTo>
                <a:cubicBezTo>
                  <a:pt x="17959" y="8554"/>
                  <a:pt x="17911" y="8348"/>
                  <a:pt x="17909" y="8334"/>
                </a:cubicBezTo>
                <a:cubicBezTo>
                  <a:pt x="17895" y="8256"/>
                  <a:pt x="17958" y="8072"/>
                  <a:pt x="18083" y="8161"/>
                </a:cubicBezTo>
                <a:cubicBezTo>
                  <a:pt x="18156" y="8213"/>
                  <a:pt x="18193" y="8331"/>
                  <a:pt x="18231" y="8409"/>
                </a:cubicBezTo>
                <a:cubicBezTo>
                  <a:pt x="18213" y="8315"/>
                  <a:pt x="18190" y="8234"/>
                  <a:pt x="18231" y="8136"/>
                </a:cubicBezTo>
                <a:cubicBezTo>
                  <a:pt x="18239" y="8128"/>
                  <a:pt x="18248" y="8119"/>
                  <a:pt x="18256" y="8111"/>
                </a:cubicBezTo>
                <a:cubicBezTo>
                  <a:pt x="18380" y="8161"/>
                  <a:pt x="18447" y="8195"/>
                  <a:pt x="18479" y="8334"/>
                </a:cubicBezTo>
                <a:cubicBezTo>
                  <a:pt x="18492" y="8391"/>
                  <a:pt x="18480" y="8425"/>
                  <a:pt x="18529" y="8434"/>
                </a:cubicBezTo>
                <a:cubicBezTo>
                  <a:pt x="18641" y="8454"/>
                  <a:pt x="18649" y="8377"/>
                  <a:pt x="18653" y="8285"/>
                </a:cubicBezTo>
                <a:cubicBezTo>
                  <a:pt x="18655" y="8227"/>
                  <a:pt x="18653" y="8169"/>
                  <a:pt x="18653" y="8111"/>
                </a:cubicBezTo>
                <a:cubicBezTo>
                  <a:pt x="18547" y="8058"/>
                  <a:pt x="18600" y="8312"/>
                  <a:pt x="18628" y="8359"/>
                </a:cubicBezTo>
                <a:cubicBezTo>
                  <a:pt x="18700" y="8407"/>
                  <a:pt x="18721" y="8425"/>
                  <a:pt x="18777" y="8384"/>
                </a:cubicBezTo>
              </a:path>
              <a:path w="5954" h="1018">
                <a:moveTo>
                  <a:pt x="18976" y="8186"/>
                </a:moveTo>
                <a:cubicBezTo>
                  <a:pt x="19005" y="8156"/>
                  <a:pt x="19010" y="8141"/>
                  <a:pt x="18976" y="8111"/>
                </a:cubicBezTo>
                <a:cubicBezTo>
                  <a:pt x="18868" y="8147"/>
                  <a:pt x="18753" y="8268"/>
                  <a:pt x="18876" y="8384"/>
                </a:cubicBezTo>
                <a:cubicBezTo>
                  <a:pt x="18996" y="8497"/>
                  <a:pt x="19012" y="8256"/>
                  <a:pt x="19025" y="8210"/>
                </a:cubicBezTo>
                <a:cubicBezTo>
                  <a:pt x="19017" y="8194"/>
                  <a:pt x="19008" y="8177"/>
                  <a:pt x="19000" y="8161"/>
                </a:cubicBezTo>
                <a:cubicBezTo>
                  <a:pt x="19000" y="8239"/>
                  <a:pt x="19024" y="8272"/>
                  <a:pt x="19100" y="8285"/>
                </a:cubicBezTo>
                <a:cubicBezTo>
                  <a:pt x="19168" y="8285"/>
                  <a:pt x="19198" y="8272"/>
                  <a:pt x="19224" y="8210"/>
                </a:cubicBezTo>
              </a:path>
              <a:path w="5954" h="1018">
                <a:moveTo>
                  <a:pt x="19298" y="8062"/>
                </a:moveTo>
                <a:cubicBezTo>
                  <a:pt x="19290" y="8062"/>
                  <a:pt x="19281" y="8062"/>
                  <a:pt x="19273" y="8062"/>
                </a:cubicBezTo>
                <a:cubicBezTo>
                  <a:pt x="19202" y="8153"/>
                  <a:pt x="19346" y="8149"/>
                  <a:pt x="19372" y="8210"/>
                </a:cubicBezTo>
                <a:cubicBezTo>
                  <a:pt x="19442" y="8375"/>
                  <a:pt x="19122" y="8357"/>
                  <a:pt x="19124" y="8334"/>
                </a:cubicBezTo>
                <a:cubicBezTo>
                  <a:pt x="19149" y="8301"/>
                  <a:pt x="19174" y="8268"/>
                  <a:pt x="19199" y="8235"/>
                </a:cubicBezTo>
              </a:path>
              <a:path w="5954" h="1018">
                <a:moveTo>
                  <a:pt x="19199" y="8235"/>
                </a:moveTo>
                <a:lnTo>
                  <a:pt x="19199" y="8235"/>
                </a:lnTo>
              </a:path>
              <a:path w="5954" h="1018">
                <a:moveTo>
                  <a:pt x="19472" y="8012"/>
                </a:moveTo>
                <a:lnTo>
                  <a:pt x="19472" y="8037"/>
                </a:lnTo>
                <a:lnTo>
                  <a:pt x="19496" y="8111"/>
                </a:lnTo>
                <a:lnTo>
                  <a:pt x="19546" y="8235"/>
                </a:lnTo>
                <a:lnTo>
                  <a:pt x="19621" y="8285"/>
                </a:lnTo>
                <a:lnTo>
                  <a:pt x="19695" y="8310"/>
                </a:lnTo>
                <a:lnTo>
                  <a:pt x="19745" y="8260"/>
                </a:lnTo>
                <a:lnTo>
                  <a:pt x="19769" y="8161"/>
                </a:lnTo>
                <a:lnTo>
                  <a:pt x="19769" y="8086"/>
                </a:lnTo>
                <a:lnTo>
                  <a:pt x="19769" y="8111"/>
                </a:lnTo>
                <a:lnTo>
                  <a:pt x="19769" y="8136"/>
                </a:lnTo>
                <a:lnTo>
                  <a:pt x="19819" y="8235"/>
                </a:lnTo>
                <a:lnTo>
                  <a:pt x="19893" y="8310"/>
                </a:lnTo>
                <a:lnTo>
                  <a:pt x="19943" y="8310"/>
                </a:lnTo>
                <a:lnTo>
                  <a:pt x="19968" y="8260"/>
                </a:lnTo>
                <a:lnTo>
                  <a:pt x="19993" y="8136"/>
                </a:lnTo>
                <a:lnTo>
                  <a:pt x="19993" y="8136"/>
                </a:lnTo>
                <a:lnTo>
                  <a:pt x="19993" y="8161"/>
                </a:lnTo>
                <a:lnTo>
                  <a:pt x="20017" y="8210"/>
                </a:lnTo>
                <a:lnTo>
                  <a:pt x="20017" y="8210"/>
                </a:lnTo>
                <a:lnTo>
                  <a:pt x="20017" y="8186"/>
                </a:lnTo>
                <a:lnTo>
                  <a:pt x="20042" y="8111"/>
                </a:lnTo>
                <a:lnTo>
                  <a:pt x="20067" y="8012"/>
                </a:lnTo>
                <a:lnTo>
                  <a:pt x="20092" y="8012"/>
                </a:lnTo>
                <a:lnTo>
                  <a:pt x="20117" y="8012"/>
                </a:lnTo>
                <a:lnTo>
                  <a:pt x="20141" y="8037"/>
                </a:lnTo>
                <a:lnTo>
                  <a:pt x="20216" y="8037"/>
                </a:lnTo>
                <a:lnTo>
                  <a:pt x="20241" y="8037"/>
                </a:lnTo>
                <a:lnTo>
                  <a:pt x="20241" y="8062"/>
                </a:lnTo>
                <a:lnTo>
                  <a:pt x="20290" y="8186"/>
                </a:lnTo>
                <a:lnTo>
                  <a:pt x="20290" y="8285"/>
                </a:lnTo>
                <a:lnTo>
                  <a:pt x="20290" y="8310"/>
                </a:lnTo>
                <a:lnTo>
                  <a:pt x="20290" y="8260"/>
                </a:lnTo>
              </a:path>
              <a:path w="5954" h="1018">
                <a:moveTo>
                  <a:pt x="20216" y="7813"/>
                </a:moveTo>
                <a:cubicBezTo>
                  <a:pt x="20224" y="7813"/>
                  <a:pt x="20233" y="7813"/>
                  <a:pt x="20241" y="7813"/>
                </a:cubicBezTo>
              </a:path>
              <a:path w="5954" h="1018">
                <a:moveTo>
                  <a:pt x="20489" y="8161"/>
                </a:moveTo>
                <a:cubicBezTo>
                  <a:pt x="20511" y="8183"/>
                  <a:pt x="20519" y="8188"/>
                  <a:pt x="20513" y="8210"/>
                </a:cubicBezTo>
                <a:cubicBezTo>
                  <a:pt x="20513" y="8142"/>
                  <a:pt x="20544" y="8097"/>
                  <a:pt x="20588" y="8062"/>
                </a:cubicBezTo>
                <a:cubicBezTo>
                  <a:pt x="20689" y="8174"/>
                  <a:pt x="20675" y="8235"/>
                  <a:pt x="20811" y="8186"/>
                </a:cubicBezTo>
              </a:path>
              <a:path w="5954" h="1018">
                <a:moveTo>
                  <a:pt x="20910" y="7913"/>
                </a:moveTo>
                <a:cubicBezTo>
                  <a:pt x="20825" y="7977"/>
                  <a:pt x="20825" y="8039"/>
                  <a:pt x="20811" y="8161"/>
                </a:cubicBezTo>
                <a:cubicBezTo>
                  <a:pt x="20921" y="8161"/>
                  <a:pt x="20899" y="8041"/>
                  <a:pt x="20935" y="7962"/>
                </a:cubicBezTo>
                <a:cubicBezTo>
                  <a:pt x="21002" y="7813"/>
                  <a:pt x="21093" y="8282"/>
                  <a:pt x="21034" y="8434"/>
                </a:cubicBezTo>
                <a:cubicBezTo>
                  <a:pt x="20961" y="8621"/>
                  <a:pt x="20839" y="8534"/>
                  <a:pt x="20737" y="8483"/>
                </a:cubicBezTo>
              </a:path>
              <a:path w="5954" h="1018">
                <a:moveTo>
                  <a:pt x="20737" y="8483"/>
                </a:moveTo>
                <a:lnTo>
                  <a:pt x="20737" y="8483"/>
                </a:lnTo>
              </a:path>
              <a:path w="5954" h="1018">
                <a:moveTo>
                  <a:pt x="21307" y="7565"/>
                </a:moveTo>
                <a:cubicBezTo>
                  <a:pt x="21307" y="7557"/>
                  <a:pt x="21307" y="7549"/>
                  <a:pt x="21307" y="7541"/>
                </a:cubicBezTo>
                <a:cubicBezTo>
                  <a:pt x="21370" y="7561"/>
                  <a:pt x="21258" y="7670"/>
                  <a:pt x="21258" y="7739"/>
                </a:cubicBezTo>
                <a:cubicBezTo>
                  <a:pt x="21258" y="7908"/>
                  <a:pt x="21520" y="8050"/>
                  <a:pt x="21506" y="8161"/>
                </a:cubicBezTo>
                <a:cubicBezTo>
                  <a:pt x="21489" y="8169"/>
                  <a:pt x="21473" y="8178"/>
                  <a:pt x="21456" y="8186"/>
                </a:cubicBezTo>
              </a:path>
              <a:path w="5954" h="1018">
                <a:moveTo>
                  <a:pt x="21208" y="7962"/>
                </a:moveTo>
                <a:cubicBezTo>
                  <a:pt x="21350" y="7932"/>
                  <a:pt x="21515" y="7950"/>
                  <a:pt x="21654" y="7913"/>
                </a:cubicBezTo>
                <a:cubicBezTo>
                  <a:pt x="21662" y="7905"/>
                  <a:pt x="21671" y="7896"/>
                  <a:pt x="21679" y="7888"/>
                </a:cubicBezTo>
                <a:cubicBezTo>
                  <a:pt x="21665" y="7943"/>
                  <a:pt x="21581" y="8055"/>
                  <a:pt x="21654" y="8111"/>
                </a:cubicBezTo>
                <a:cubicBezTo>
                  <a:pt x="21722" y="8163"/>
                  <a:pt x="21897" y="8017"/>
                  <a:pt x="21803" y="7962"/>
                </a:cubicBezTo>
                <a:cubicBezTo>
                  <a:pt x="21729" y="7944"/>
                  <a:pt x="21696" y="7962"/>
                  <a:pt x="21704" y="7913"/>
                </a:cubicBezTo>
              </a:path>
              <a:path w="5954" h="1018">
                <a:moveTo>
                  <a:pt x="22027" y="7813"/>
                </a:moveTo>
                <a:cubicBezTo>
                  <a:pt x="21944" y="7923"/>
                  <a:pt x="21995" y="7957"/>
                  <a:pt x="22126" y="8012"/>
                </a:cubicBezTo>
                <a:cubicBezTo>
                  <a:pt x="22214" y="8049"/>
                  <a:pt x="21941" y="8088"/>
                  <a:pt x="21903" y="8086"/>
                </a:cubicBezTo>
              </a:path>
              <a:path w="5954" h="1018">
                <a:moveTo>
                  <a:pt x="21903" y="8086"/>
                </a:moveTo>
                <a:lnTo>
                  <a:pt x="21903" y="8086"/>
                </a:lnTo>
              </a:path>
              <a:path w="5954" h="1018">
                <a:moveTo>
                  <a:pt x="22275" y="7789"/>
                </a:moveTo>
                <a:cubicBezTo>
                  <a:pt x="22252" y="7904"/>
                  <a:pt x="22243" y="7936"/>
                  <a:pt x="22250" y="8012"/>
                </a:cubicBezTo>
              </a:path>
              <a:path w="5954" h="1018">
                <a:moveTo>
                  <a:pt x="22374" y="7764"/>
                </a:moveTo>
                <a:cubicBezTo>
                  <a:pt x="22326" y="7764"/>
                  <a:pt x="22324" y="7767"/>
                  <a:pt x="22275" y="7789"/>
                </a:cubicBezTo>
                <a:cubicBezTo>
                  <a:pt x="22303" y="7914"/>
                  <a:pt x="22359" y="7930"/>
                  <a:pt x="22473" y="7987"/>
                </a:cubicBezTo>
                <a:cubicBezTo>
                  <a:pt x="22419" y="8151"/>
                  <a:pt x="22341" y="8121"/>
                  <a:pt x="22200" y="8062"/>
                </a:cubicBezTo>
              </a:path>
              <a:path w="5954" h="1018">
                <a:moveTo>
                  <a:pt x="22572" y="7888"/>
                </a:moveTo>
                <a:cubicBezTo>
                  <a:pt x="22594" y="7953"/>
                  <a:pt x="22602" y="7968"/>
                  <a:pt x="22597" y="8012"/>
                </a:cubicBezTo>
              </a:path>
              <a:path w="5954" h="1018">
                <a:moveTo>
                  <a:pt x="22547" y="7665"/>
                </a:moveTo>
                <a:lnTo>
                  <a:pt x="22547" y="7665"/>
                </a:lnTo>
              </a:path>
              <a:path w="5954" h="1018">
                <a:moveTo>
                  <a:pt x="22746" y="7590"/>
                </a:moveTo>
                <a:cubicBezTo>
                  <a:pt x="22830" y="7715"/>
                  <a:pt x="22868" y="7877"/>
                  <a:pt x="22944" y="8012"/>
                </a:cubicBezTo>
                <a:cubicBezTo>
                  <a:pt x="22952" y="8020"/>
                  <a:pt x="22961" y="8029"/>
                  <a:pt x="22969" y="8037"/>
                </a:cubicBezTo>
              </a:path>
              <a:path w="5954" h="1018">
                <a:moveTo>
                  <a:pt x="23267" y="7714"/>
                </a:moveTo>
                <a:cubicBezTo>
                  <a:pt x="23226" y="7755"/>
                  <a:pt x="23184" y="7797"/>
                  <a:pt x="23143" y="7838"/>
                </a:cubicBezTo>
                <a:cubicBezTo>
                  <a:pt x="23209" y="7879"/>
                  <a:pt x="23278" y="7918"/>
                  <a:pt x="23341" y="7962"/>
                </a:cubicBezTo>
                <a:cubicBezTo>
                  <a:pt x="23290" y="8077"/>
                  <a:pt x="23265" y="8063"/>
                  <a:pt x="23143" y="8086"/>
                </a:cubicBezTo>
              </a:path>
              <a:path w="5954" h="1018">
                <a:moveTo>
                  <a:pt x="23143" y="8086"/>
                </a:moveTo>
                <a:lnTo>
                  <a:pt x="23143" y="808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13240" y="3429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759" y="9525"/>
                </a:moveTo>
                <a:lnTo>
                  <a:pt x="14759" y="952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32680" y="2990880"/>
            <a:ext cx="2214360" cy="384120"/>
          </a:xfrm>
          <a:custGeom>
            <a:avLst/>
            <a:gdLst/>
            <a:ahLst/>
            <a:rect l="l" t="t" r="r" b="b"/>
            <a:pathLst>
              <a:path w="6152" h="1067">
                <a:moveTo>
                  <a:pt x="17314" y="9103"/>
                </a:moveTo>
                <a:cubicBezTo>
                  <a:pt x="17391" y="9095"/>
                  <a:pt x="17458" y="9079"/>
                  <a:pt x="17537" y="9079"/>
                </a:cubicBezTo>
              </a:path>
              <a:path w="6152" h="1067">
                <a:moveTo>
                  <a:pt x="17983" y="8954"/>
                </a:moveTo>
                <a:cubicBezTo>
                  <a:pt x="17983" y="8892"/>
                  <a:pt x="18005" y="9023"/>
                  <a:pt x="18033" y="9079"/>
                </a:cubicBezTo>
                <a:cubicBezTo>
                  <a:pt x="18033" y="9054"/>
                  <a:pt x="18033" y="9046"/>
                  <a:pt x="18033" y="9029"/>
                </a:cubicBezTo>
                <a:cubicBezTo>
                  <a:pt x="17952" y="8913"/>
                  <a:pt x="17885" y="8909"/>
                  <a:pt x="17859" y="9079"/>
                </a:cubicBezTo>
                <a:cubicBezTo>
                  <a:pt x="17830" y="9263"/>
                  <a:pt x="17982" y="9311"/>
                  <a:pt x="18132" y="9227"/>
                </a:cubicBezTo>
                <a:cubicBezTo>
                  <a:pt x="18157" y="9202"/>
                  <a:pt x="18182" y="9178"/>
                  <a:pt x="18207" y="9153"/>
                </a:cubicBezTo>
              </a:path>
              <a:path w="6152" h="1067">
                <a:moveTo>
                  <a:pt x="18405" y="8905"/>
                </a:moveTo>
                <a:cubicBezTo>
                  <a:pt x="18293" y="8905"/>
                  <a:pt x="18257" y="8958"/>
                  <a:pt x="18231" y="9079"/>
                </a:cubicBezTo>
                <a:cubicBezTo>
                  <a:pt x="18231" y="9112"/>
                  <a:pt x="18231" y="9145"/>
                  <a:pt x="18231" y="9178"/>
                </a:cubicBezTo>
                <a:cubicBezTo>
                  <a:pt x="18405" y="9207"/>
                  <a:pt x="18423" y="9164"/>
                  <a:pt x="18479" y="9004"/>
                </a:cubicBezTo>
                <a:cubicBezTo>
                  <a:pt x="18491" y="9034"/>
                  <a:pt x="18601" y="9207"/>
                  <a:pt x="18604" y="9203"/>
                </a:cubicBezTo>
                <a:cubicBezTo>
                  <a:pt x="18612" y="9178"/>
                  <a:pt x="18620" y="9153"/>
                  <a:pt x="18628" y="9128"/>
                </a:cubicBezTo>
              </a:path>
              <a:path w="6152" h="1067">
                <a:moveTo>
                  <a:pt x="18678" y="9029"/>
                </a:moveTo>
                <a:cubicBezTo>
                  <a:pt x="18692" y="9064"/>
                  <a:pt x="18714" y="9093"/>
                  <a:pt x="18728" y="9128"/>
                </a:cubicBezTo>
                <a:cubicBezTo>
                  <a:pt x="18740" y="9015"/>
                  <a:pt x="18748" y="8918"/>
                  <a:pt x="18852" y="8855"/>
                </a:cubicBezTo>
                <a:cubicBezTo>
                  <a:pt x="18926" y="8830"/>
                  <a:pt x="18951" y="8822"/>
                  <a:pt x="19000" y="8855"/>
                </a:cubicBezTo>
              </a:path>
              <a:path w="6152" h="1067">
                <a:moveTo>
                  <a:pt x="19124" y="8830"/>
                </a:moveTo>
                <a:cubicBezTo>
                  <a:pt x="19074" y="8850"/>
                  <a:pt x="19042" y="8888"/>
                  <a:pt x="19000" y="8930"/>
                </a:cubicBezTo>
                <a:cubicBezTo>
                  <a:pt x="19115" y="8937"/>
                  <a:pt x="19148" y="8928"/>
                  <a:pt x="19224" y="9004"/>
                </a:cubicBezTo>
                <a:cubicBezTo>
                  <a:pt x="19132" y="9115"/>
                  <a:pt x="19096" y="9153"/>
                  <a:pt x="18951" y="9153"/>
                </a:cubicBezTo>
              </a:path>
              <a:path w="6152" h="1067">
                <a:moveTo>
                  <a:pt x="18951" y="9153"/>
                </a:moveTo>
                <a:lnTo>
                  <a:pt x="18951" y="9153"/>
                </a:lnTo>
              </a:path>
              <a:path w="6152" h="1067">
                <a:moveTo>
                  <a:pt x="19521" y="8607"/>
                </a:moveTo>
                <a:cubicBezTo>
                  <a:pt x="19554" y="8591"/>
                  <a:pt x="19437" y="8856"/>
                  <a:pt x="19422" y="8930"/>
                </a:cubicBezTo>
                <a:cubicBezTo>
                  <a:pt x="19378" y="9140"/>
                  <a:pt x="19414" y="9229"/>
                  <a:pt x="19571" y="9351"/>
                </a:cubicBezTo>
                <a:cubicBezTo>
                  <a:pt x="19579" y="9359"/>
                  <a:pt x="19588" y="9368"/>
                  <a:pt x="19596" y="9376"/>
                </a:cubicBezTo>
              </a:path>
              <a:path w="6152" h="1067">
                <a:moveTo>
                  <a:pt x="19844" y="8855"/>
                </a:moveTo>
                <a:cubicBezTo>
                  <a:pt x="19738" y="8863"/>
                  <a:pt x="19689" y="8879"/>
                  <a:pt x="19596" y="8930"/>
                </a:cubicBezTo>
                <a:cubicBezTo>
                  <a:pt x="19720" y="8953"/>
                  <a:pt x="19815" y="8968"/>
                  <a:pt x="19918" y="9029"/>
                </a:cubicBezTo>
                <a:cubicBezTo>
                  <a:pt x="19814" y="9175"/>
                  <a:pt x="19759" y="9229"/>
                  <a:pt x="19621" y="9103"/>
                </a:cubicBezTo>
              </a:path>
              <a:path w="6152" h="1067">
                <a:moveTo>
                  <a:pt x="20166" y="8806"/>
                </a:moveTo>
                <a:cubicBezTo>
                  <a:pt x="20105" y="8894"/>
                  <a:pt x="20035" y="9101"/>
                  <a:pt x="20241" y="9079"/>
                </a:cubicBezTo>
                <a:cubicBezTo>
                  <a:pt x="20464" y="9056"/>
                  <a:pt x="20214" y="8876"/>
                  <a:pt x="20166" y="8855"/>
                </a:cubicBezTo>
              </a:path>
              <a:path w="6152" h="1067">
                <a:moveTo>
                  <a:pt x="20513" y="8806"/>
                </a:moveTo>
                <a:cubicBezTo>
                  <a:pt x="20419" y="8787"/>
                  <a:pt x="20365" y="8795"/>
                  <a:pt x="20365" y="8930"/>
                </a:cubicBezTo>
                <a:cubicBezTo>
                  <a:pt x="20365" y="9140"/>
                  <a:pt x="20505" y="9114"/>
                  <a:pt x="20638" y="9054"/>
                </a:cubicBezTo>
              </a:path>
              <a:path w="6152" h="1067">
                <a:moveTo>
                  <a:pt x="20613" y="8657"/>
                </a:moveTo>
                <a:cubicBezTo>
                  <a:pt x="20641" y="8768"/>
                  <a:pt x="20673" y="8904"/>
                  <a:pt x="20687" y="9029"/>
                </a:cubicBezTo>
                <a:cubicBezTo>
                  <a:pt x="20691" y="9061"/>
                  <a:pt x="20687" y="9229"/>
                  <a:pt x="20687" y="9004"/>
                </a:cubicBezTo>
              </a:path>
              <a:path w="6152" h="1067">
                <a:moveTo>
                  <a:pt x="20762" y="8706"/>
                </a:moveTo>
                <a:cubicBezTo>
                  <a:pt x="20732" y="8811"/>
                  <a:pt x="20730" y="8827"/>
                  <a:pt x="20662" y="8905"/>
                </a:cubicBezTo>
                <a:cubicBezTo>
                  <a:pt x="20779" y="8938"/>
                  <a:pt x="20792" y="8972"/>
                  <a:pt x="20886" y="9054"/>
                </a:cubicBezTo>
              </a:path>
              <a:path w="6152" h="1067">
                <a:moveTo>
                  <a:pt x="20886" y="9054"/>
                </a:moveTo>
                <a:lnTo>
                  <a:pt x="20886" y="9054"/>
                </a:lnTo>
              </a:path>
              <a:path w="6152" h="1067">
                <a:moveTo>
                  <a:pt x="20935" y="8905"/>
                </a:moveTo>
                <a:cubicBezTo>
                  <a:pt x="20972" y="8858"/>
                  <a:pt x="20978" y="8840"/>
                  <a:pt x="20985" y="8781"/>
                </a:cubicBezTo>
                <a:cubicBezTo>
                  <a:pt x="20897" y="8799"/>
                  <a:pt x="20852" y="8883"/>
                  <a:pt x="20886" y="8979"/>
                </a:cubicBezTo>
                <a:cubicBezTo>
                  <a:pt x="20937" y="9122"/>
                  <a:pt x="21050" y="9015"/>
                  <a:pt x="21109" y="8979"/>
                </a:cubicBezTo>
              </a:path>
              <a:path w="6152" h="1067">
                <a:moveTo>
                  <a:pt x="21134" y="8582"/>
                </a:moveTo>
                <a:cubicBezTo>
                  <a:pt x="21170" y="8745"/>
                  <a:pt x="21251" y="8889"/>
                  <a:pt x="21282" y="9054"/>
                </a:cubicBezTo>
                <a:cubicBezTo>
                  <a:pt x="21282" y="9070"/>
                  <a:pt x="21282" y="9087"/>
                  <a:pt x="21282" y="9103"/>
                </a:cubicBezTo>
              </a:path>
              <a:path w="6152" h="1067">
                <a:moveTo>
                  <a:pt x="21282" y="9103"/>
                </a:moveTo>
                <a:lnTo>
                  <a:pt x="21282" y="9103"/>
                </a:lnTo>
              </a:path>
              <a:path w="6152" h="1067">
                <a:moveTo>
                  <a:pt x="21084" y="8855"/>
                </a:moveTo>
                <a:cubicBezTo>
                  <a:pt x="21167" y="8843"/>
                  <a:pt x="21416" y="8830"/>
                  <a:pt x="21332" y="8830"/>
                </a:cubicBezTo>
                <a:cubicBezTo>
                  <a:pt x="21307" y="8830"/>
                  <a:pt x="21283" y="8830"/>
                  <a:pt x="21258" y="8830"/>
                </a:cubicBezTo>
              </a:path>
              <a:path w="6152" h="1067">
                <a:moveTo>
                  <a:pt x="21605" y="8756"/>
                </a:moveTo>
                <a:cubicBezTo>
                  <a:pt x="21550" y="8767"/>
                  <a:pt x="21519" y="8776"/>
                  <a:pt x="21506" y="8830"/>
                </a:cubicBezTo>
                <a:cubicBezTo>
                  <a:pt x="21590" y="8860"/>
                  <a:pt x="21672" y="8893"/>
                  <a:pt x="21754" y="8930"/>
                </a:cubicBezTo>
                <a:cubicBezTo>
                  <a:pt x="21727" y="8990"/>
                  <a:pt x="21587" y="9153"/>
                  <a:pt x="21481" y="9079"/>
                </a:cubicBezTo>
                <a:cubicBezTo>
                  <a:pt x="21481" y="9062"/>
                  <a:pt x="21481" y="9046"/>
                  <a:pt x="21481" y="9029"/>
                </a:cubicBezTo>
              </a:path>
              <a:path w="6152" h="1067">
                <a:moveTo>
                  <a:pt x="22076" y="9029"/>
                </a:moveTo>
                <a:cubicBezTo>
                  <a:pt x="22064" y="9150"/>
                  <a:pt x="22068" y="9196"/>
                  <a:pt x="22002" y="9302"/>
                </a:cubicBezTo>
              </a:path>
              <a:path w="6152" h="1067">
                <a:moveTo>
                  <a:pt x="22374" y="8558"/>
                </a:moveTo>
                <a:cubicBezTo>
                  <a:pt x="22374" y="8547"/>
                  <a:pt x="22374" y="8441"/>
                  <a:pt x="22374" y="8508"/>
                </a:cubicBezTo>
                <a:cubicBezTo>
                  <a:pt x="22374" y="8569"/>
                  <a:pt x="22307" y="8808"/>
                  <a:pt x="22374" y="8632"/>
                </a:cubicBezTo>
              </a:path>
              <a:path w="6152" h="1067">
                <a:moveTo>
                  <a:pt x="22547" y="8310"/>
                </a:moveTo>
                <a:cubicBezTo>
                  <a:pt x="22547" y="8438"/>
                  <a:pt x="22541" y="8554"/>
                  <a:pt x="22523" y="8682"/>
                </a:cubicBezTo>
                <a:cubicBezTo>
                  <a:pt x="22519" y="8711"/>
                  <a:pt x="22431" y="9008"/>
                  <a:pt x="22448" y="9029"/>
                </a:cubicBezTo>
                <a:cubicBezTo>
                  <a:pt x="22456" y="9029"/>
                  <a:pt x="22465" y="9029"/>
                  <a:pt x="22473" y="9029"/>
                </a:cubicBezTo>
              </a:path>
              <a:path w="6152" h="1067">
                <a:moveTo>
                  <a:pt x="22746" y="8582"/>
                </a:moveTo>
                <a:cubicBezTo>
                  <a:pt x="22746" y="8693"/>
                  <a:pt x="22729" y="8795"/>
                  <a:pt x="22721" y="8905"/>
                </a:cubicBezTo>
                <a:cubicBezTo>
                  <a:pt x="22713" y="9018"/>
                  <a:pt x="22697" y="9004"/>
                  <a:pt x="22721" y="9004"/>
                </a:cubicBezTo>
              </a:path>
              <a:path w="6152" h="1067">
                <a:moveTo>
                  <a:pt x="22721" y="9004"/>
                </a:moveTo>
                <a:lnTo>
                  <a:pt x="22721" y="9004"/>
                </a:lnTo>
              </a:path>
              <a:path w="6152" h="1067">
                <a:moveTo>
                  <a:pt x="22920" y="8682"/>
                </a:moveTo>
                <a:cubicBezTo>
                  <a:pt x="22912" y="8740"/>
                  <a:pt x="22863" y="8869"/>
                  <a:pt x="22895" y="8930"/>
                </a:cubicBezTo>
                <a:cubicBezTo>
                  <a:pt x="22947" y="9030"/>
                  <a:pt x="23073" y="9021"/>
                  <a:pt x="23118" y="8930"/>
                </a:cubicBezTo>
                <a:cubicBezTo>
                  <a:pt x="23137" y="8891"/>
                  <a:pt x="23110" y="8858"/>
                  <a:pt x="23093" y="8830"/>
                </a:cubicBezTo>
                <a:cubicBezTo>
                  <a:pt x="23052" y="8840"/>
                  <a:pt x="22991" y="8903"/>
                  <a:pt x="22994" y="8954"/>
                </a:cubicBezTo>
                <a:cubicBezTo>
                  <a:pt x="23014" y="8995"/>
                  <a:pt x="23012" y="9011"/>
                  <a:pt x="23044" y="9004"/>
                </a:cubicBezTo>
              </a:path>
              <a:path w="6152" h="1067">
                <a:moveTo>
                  <a:pt x="23168" y="8409"/>
                </a:moveTo>
                <a:cubicBezTo>
                  <a:pt x="23304" y="8437"/>
                  <a:pt x="23399" y="8579"/>
                  <a:pt x="23440" y="8706"/>
                </a:cubicBezTo>
                <a:cubicBezTo>
                  <a:pt x="23499" y="8885"/>
                  <a:pt x="23425" y="9015"/>
                  <a:pt x="23366" y="9178"/>
                </a:cubicBezTo>
              </a:path>
              <a:path w="6152" h="1067">
                <a:moveTo>
                  <a:pt x="22399" y="9252"/>
                </a:moveTo>
                <a:cubicBezTo>
                  <a:pt x="22507" y="9252"/>
                  <a:pt x="22611" y="9229"/>
                  <a:pt x="22721" y="9227"/>
                </a:cubicBezTo>
                <a:cubicBezTo>
                  <a:pt x="22886" y="9224"/>
                  <a:pt x="23052" y="9227"/>
                  <a:pt x="23217" y="9227"/>
                </a:cubicBezTo>
              </a:path>
              <a:path w="6152" h="1067">
                <a:moveTo>
                  <a:pt x="22423" y="9327"/>
                </a:moveTo>
                <a:cubicBezTo>
                  <a:pt x="22574" y="9327"/>
                  <a:pt x="22719" y="9305"/>
                  <a:pt x="22870" y="9302"/>
                </a:cubicBezTo>
                <a:cubicBezTo>
                  <a:pt x="22969" y="9300"/>
                  <a:pt x="23069" y="9302"/>
                  <a:pt x="23168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4680" y="3170160"/>
            <a:ext cx="44280" cy="196920"/>
          </a:xfrm>
          <a:custGeom>
            <a:avLst/>
            <a:gdLst/>
            <a:ahLst/>
            <a:rect l="l" t="t" r="r" b="b"/>
            <a:pathLst>
              <a:path w="125" h="546">
                <a:moveTo>
                  <a:pt x="1612" y="9351"/>
                </a:moveTo>
                <a:cubicBezTo>
                  <a:pt x="1612" y="9343"/>
                  <a:pt x="1612" y="9335"/>
                  <a:pt x="1612" y="9327"/>
                </a:cubicBezTo>
              </a:path>
              <a:path w="125" h="546">
                <a:moveTo>
                  <a:pt x="1513" y="8830"/>
                </a:moveTo>
                <a:cubicBezTo>
                  <a:pt x="1567" y="8830"/>
                  <a:pt x="1585" y="8828"/>
                  <a:pt x="1637" y="88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6960" y="3116160"/>
            <a:ext cx="1535040" cy="401760"/>
          </a:xfrm>
          <a:custGeom>
            <a:avLst/>
            <a:gdLst/>
            <a:ahLst/>
            <a:rect l="l" t="t" r="r" b="b"/>
            <a:pathLst>
              <a:path w="4267" h="1117">
                <a:moveTo>
                  <a:pt x="2158" y="8756"/>
                </a:moveTo>
                <a:cubicBezTo>
                  <a:pt x="2130" y="8728"/>
                  <a:pt x="2057" y="8644"/>
                  <a:pt x="2009" y="8682"/>
                </a:cubicBezTo>
                <a:cubicBezTo>
                  <a:pt x="1958" y="8722"/>
                  <a:pt x="1945" y="8797"/>
                  <a:pt x="1935" y="8855"/>
                </a:cubicBezTo>
                <a:cubicBezTo>
                  <a:pt x="2050" y="8876"/>
                  <a:pt x="2039" y="8869"/>
                  <a:pt x="2108" y="8781"/>
                </a:cubicBezTo>
                <a:cubicBezTo>
                  <a:pt x="2173" y="8803"/>
                  <a:pt x="2225" y="8917"/>
                  <a:pt x="2208" y="9004"/>
                </a:cubicBezTo>
                <a:cubicBezTo>
                  <a:pt x="2189" y="9103"/>
                  <a:pt x="1967" y="9209"/>
                  <a:pt x="2009" y="9128"/>
                </a:cubicBezTo>
                <a:cubicBezTo>
                  <a:pt x="2034" y="9095"/>
                  <a:pt x="2059" y="9062"/>
                  <a:pt x="2084" y="9029"/>
                </a:cubicBezTo>
              </a:path>
              <a:path w="4267" h="1117">
                <a:moveTo>
                  <a:pt x="2356" y="8781"/>
                </a:moveTo>
                <a:cubicBezTo>
                  <a:pt x="2289" y="8758"/>
                  <a:pt x="2241" y="8766"/>
                  <a:pt x="2232" y="8855"/>
                </a:cubicBezTo>
                <a:cubicBezTo>
                  <a:pt x="2232" y="8863"/>
                  <a:pt x="2232" y="8872"/>
                  <a:pt x="2232" y="8880"/>
                </a:cubicBezTo>
                <a:cubicBezTo>
                  <a:pt x="2368" y="8859"/>
                  <a:pt x="2329" y="8876"/>
                  <a:pt x="2406" y="8756"/>
                </a:cubicBezTo>
                <a:cubicBezTo>
                  <a:pt x="2413" y="8783"/>
                  <a:pt x="2446" y="8845"/>
                  <a:pt x="2480" y="8855"/>
                </a:cubicBezTo>
                <a:cubicBezTo>
                  <a:pt x="2497" y="8855"/>
                  <a:pt x="2513" y="8855"/>
                  <a:pt x="2530" y="8855"/>
                </a:cubicBezTo>
              </a:path>
              <a:path w="4267" h="1117">
                <a:moveTo>
                  <a:pt x="2729" y="8657"/>
                </a:moveTo>
                <a:cubicBezTo>
                  <a:pt x="2688" y="8677"/>
                  <a:pt x="2682" y="8686"/>
                  <a:pt x="2654" y="8682"/>
                </a:cubicBezTo>
                <a:cubicBezTo>
                  <a:pt x="2726" y="8722"/>
                  <a:pt x="2851" y="8710"/>
                  <a:pt x="2803" y="8806"/>
                </a:cubicBezTo>
                <a:cubicBezTo>
                  <a:pt x="2760" y="8892"/>
                  <a:pt x="2707" y="8907"/>
                  <a:pt x="2654" y="8880"/>
                </a:cubicBezTo>
              </a:path>
              <a:path w="4267" h="1117">
                <a:moveTo>
                  <a:pt x="2654" y="8880"/>
                </a:moveTo>
                <a:lnTo>
                  <a:pt x="2654" y="8880"/>
                </a:lnTo>
              </a:path>
              <a:path w="4267" h="1117">
                <a:moveTo>
                  <a:pt x="2183" y="9153"/>
                </a:moveTo>
                <a:cubicBezTo>
                  <a:pt x="2195" y="9117"/>
                  <a:pt x="2222" y="9095"/>
                  <a:pt x="2208" y="9029"/>
                </a:cubicBezTo>
                <a:cubicBezTo>
                  <a:pt x="2181" y="8905"/>
                  <a:pt x="2179" y="8991"/>
                  <a:pt x="2158" y="8930"/>
                </a:cubicBezTo>
                <a:cubicBezTo>
                  <a:pt x="2158" y="9045"/>
                  <a:pt x="2189" y="9141"/>
                  <a:pt x="2208" y="9252"/>
                </a:cubicBezTo>
                <a:cubicBezTo>
                  <a:pt x="2217" y="9305"/>
                  <a:pt x="2211" y="9315"/>
                  <a:pt x="2183" y="9351"/>
                </a:cubicBezTo>
              </a:path>
              <a:path w="4267" h="1117">
                <a:moveTo>
                  <a:pt x="1984" y="9178"/>
                </a:moveTo>
                <a:cubicBezTo>
                  <a:pt x="2091" y="9178"/>
                  <a:pt x="2180" y="9186"/>
                  <a:pt x="2282" y="9203"/>
                </a:cubicBezTo>
                <a:cubicBezTo>
                  <a:pt x="2290" y="9203"/>
                  <a:pt x="2299" y="9203"/>
                  <a:pt x="2307" y="9203"/>
                </a:cubicBezTo>
              </a:path>
              <a:path w="4267" h="1117">
                <a:moveTo>
                  <a:pt x="2307" y="9203"/>
                </a:moveTo>
                <a:lnTo>
                  <a:pt x="2307" y="9203"/>
                </a:lnTo>
              </a:path>
              <a:path w="4267" h="1117">
                <a:moveTo>
                  <a:pt x="2456" y="9203"/>
                </a:moveTo>
                <a:cubicBezTo>
                  <a:pt x="2436" y="9200"/>
                  <a:pt x="2255" y="9257"/>
                  <a:pt x="2332" y="9327"/>
                </a:cubicBezTo>
                <a:cubicBezTo>
                  <a:pt x="2384" y="9374"/>
                  <a:pt x="2439" y="9275"/>
                  <a:pt x="2456" y="9252"/>
                </a:cubicBezTo>
                <a:cubicBezTo>
                  <a:pt x="2510" y="9271"/>
                  <a:pt x="2531" y="9366"/>
                  <a:pt x="2629" y="9376"/>
                </a:cubicBezTo>
                <a:cubicBezTo>
                  <a:pt x="2654" y="9368"/>
                  <a:pt x="2679" y="9359"/>
                  <a:pt x="2704" y="9351"/>
                </a:cubicBezTo>
              </a:path>
              <a:path w="4267" h="1117">
                <a:moveTo>
                  <a:pt x="2679" y="9054"/>
                </a:moveTo>
                <a:cubicBezTo>
                  <a:pt x="2696" y="9137"/>
                  <a:pt x="2727" y="9217"/>
                  <a:pt x="2753" y="9302"/>
                </a:cubicBezTo>
                <a:cubicBezTo>
                  <a:pt x="2818" y="9221"/>
                  <a:pt x="2871" y="9175"/>
                  <a:pt x="2952" y="9302"/>
                </a:cubicBezTo>
                <a:cubicBezTo>
                  <a:pt x="3025" y="9417"/>
                  <a:pt x="2734" y="9481"/>
                  <a:pt x="2679" y="9401"/>
                </a:cubicBezTo>
                <a:cubicBezTo>
                  <a:pt x="2687" y="9384"/>
                  <a:pt x="2696" y="9368"/>
                  <a:pt x="2704" y="9351"/>
                </a:cubicBezTo>
              </a:path>
              <a:path w="4267" h="1117">
                <a:moveTo>
                  <a:pt x="2704" y="9351"/>
                </a:moveTo>
                <a:lnTo>
                  <a:pt x="2704" y="9351"/>
                </a:lnTo>
              </a:path>
              <a:path w="4267" h="1117">
                <a:moveTo>
                  <a:pt x="3001" y="9277"/>
                </a:moveTo>
                <a:cubicBezTo>
                  <a:pt x="3024" y="9344"/>
                  <a:pt x="3025" y="9365"/>
                  <a:pt x="3076" y="9376"/>
                </a:cubicBezTo>
                <a:cubicBezTo>
                  <a:pt x="3088" y="9232"/>
                  <a:pt x="3100" y="9210"/>
                  <a:pt x="3249" y="9203"/>
                </a:cubicBezTo>
                <a:cubicBezTo>
                  <a:pt x="3266" y="9203"/>
                  <a:pt x="3282" y="9203"/>
                  <a:pt x="3299" y="9203"/>
                </a:cubicBezTo>
              </a:path>
              <a:path w="4267" h="1117">
                <a:moveTo>
                  <a:pt x="3349" y="9327"/>
                </a:moveTo>
                <a:cubicBezTo>
                  <a:pt x="3351" y="9338"/>
                  <a:pt x="3373" y="9533"/>
                  <a:pt x="3373" y="9401"/>
                </a:cubicBezTo>
              </a:path>
              <a:path w="4267" h="1117">
                <a:moveTo>
                  <a:pt x="3373" y="9401"/>
                </a:moveTo>
                <a:lnTo>
                  <a:pt x="3373" y="9401"/>
                </a:lnTo>
              </a:path>
              <a:path w="4267" h="1117">
                <a:moveTo>
                  <a:pt x="3324" y="9128"/>
                </a:moveTo>
                <a:lnTo>
                  <a:pt x="3324" y="9128"/>
                </a:lnTo>
              </a:path>
              <a:path w="4267" h="1117">
                <a:moveTo>
                  <a:pt x="3646" y="9203"/>
                </a:moveTo>
                <a:cubicBezTo>
                  <a:pt x="3562" y="9185"/>
                  <a:pt x="3557" y="9263"/>
                  <a:pt x="3547" y="9351"/>
                </a:cubicBezTo>
                <a:cubicBezTo>
                  <a:pt x="3720" y="9391"/>
                  <a:pt x="3774" y="9353"/>
                  <a:pt x="3919" y="9252"/>
                </a:cubicBezTo>
              </a:path>
              <a:path w="4267" h="1117">
                <a:moveTo>
                  <a:pt x="4142" y="8880"/>
                </a:moveTo>
                <a:cubicBezTo>
                  <a:pt x="4142" y="9058"/>
                  <a:pt x="4077" y="9307"/>
                  <a:pt x="4118" y="9475"/>
                </a:cubicBezTo>
                <a:cubicBezTo>
                  <a:pt x="4182" y="9475"/>
                  <a:pt x="4211" y="9441"/>
                  <a:pt x="4217" y="9351"/>
                </a:cubicBezTo>
              </a:path>
              <a:path w="4267" h="1117">
                <a:moveTo>
                  <a:pt x="4539" y="9079"/>
                </a:moveTo>
                <a:cubicBezTo>
                  <a:pt x="4448" y="9068"/>
                  <a:pt x="4441" y="9085"/>
                  <a:pt x="4366" y="9153"/>
                </a:cubicBezTo>
                <a:cubicBezTo>
                  <a:pt x="4404" y="9168"/>
                  <a:pt x="4618" y="9214"/>
                  <a:pt x="4589" y="9277"/>
                </a:cubicBezTo>
                <a:cubicBezTo>
                  <a:pt x="4540" y="9382"/>
                  <a:pt x="4422" y="9338"/>
                  <a:pt x="4341" y="9327"/>
                </a:cubicBezTo>
                <a:cubicBezTo>
                  <a:pt x="4402" y="9327"/>
                  <a:pt x="4444" y="9313"/>
                  <a:pt x="4490" y="9277"/>
                </a:cubicBezTo>
              </a:path>
              <a:path w="4267" h="1117">
                <a:moveTo>
                  <a:pt x="4713" y="9203"/>
                </a:moveTo>
                <a:cubicBezTo>
                  <a:pt x="4793" y="9188"/>
                  <a:pt x="4837" y="9197"/>
                  <a:pt x="4837" y="9103"/>
                </a:cubicBezTo>
                <a:cubicBezTo>
                  <a:pt x="4765" y="9119"/>
                  <a:pt x="4623" y="9176"/>
                  <a:pt x="4713" y="9277"/>
                </a:cubicBezTo>
                <a:cubicBezTo>
                  <a:pt x="4797" y="9334"/>
                  <a:pt x="4834" y="9348"/>
                  <a:pt x="4911" y="9302"/>
                </a:cubicBezTo>
              </a:path>
              <a:path w="4267" h="1117">
                <a:moveTo>
                  <a:pt x="5085" y="9128"/>
                </a:moveTo>
                <a:cubicBezTo>
                  <a:pt x="5076" y="9173"/>
                  <a:pt x="5018" y="9271"/>
                  <a:pt x="5085" y="9302"/>
                </a:cubicBezTo>
                <a:cubicBezTo>
                  <a:pt x="5145" y="9302"/>
                  <a:pt x="5164" y="9293"/>
                  <a:pt x="5159" y="9227"/>
                </a:cubicBezTo>
                <a:cubicBezTo>
                  <a:pt x="5159" y="9294"/>
                  <a:pt x="5170" y="9351"/>
                  <a:pt x="5259" y="9351"/>
                </a:cubicBezTo>
                <a:cubicBezTo>
                  <a:pt x="5284" y="9343"/>
                  <a:pt x="5308" y="9335"/>
                  <a:pt x="5333" y="9327"/>
                </a:cubicBezTo>
                <a:cubicBezTo>
                  <a:pt x="5319" y="9206"/>
                  <a:pt x="5305" y="9192"/>
                  <a:pt x="5184" y="9178"/>
                </a:cubicBezTo>
              </a:path>
              <a:path w="4267" h="1117">
                <a:moveTo>
                  <a:pt x="5407" y="9227"/>
                </a:moveTo>
                <a:cubicBezTo>
                  <a:pt x="5375" y="9283"/>
                  <a:pt x="5370" y="9356"/>
                  <a:pt x="5457" y="9376"/>
                </a:cubicBezTo>
                <a:cubicBezTo>
                  <a:pt x="5597" y="9408"/>
                  <a:pt x="5613" y="9293"/>
                  <a:pt x="5655" y="9203"/>
                </a:cubicBezTo>
              </a:path>
              <a:path w="4267" h="1117">
                <a:moveTo>
                  <a:pt x="5655" y="9203"/>
                </a:moveTo>
                <a:cubicBezTo>
                  <a:pt x="5655" y="9253"/>
                  <a:pt x="5655" y="9352"/>
                  <a:pt x="5655" y="9302"/>
                </a:cubicBezTo>
                <a:cubicBezTo>
                  <a:pt x="5674" y="9214"/>
                  <a:pt x="5760" y="9178"/>
                  <a:pt x="5804" y="9302"/>
                </a:cubicBezTo>
                <a:cubicBezTo>
                  <a:pt x="5804" y="9318"/>
                  <a:pt x="5804" y="9335"/>
                  <a:pt x="5804" y="9351"/>
                </a:cubicBezTo>
              </a:path>
              <a:path w="4267" h="1117">
                <a:moveTo>
                  <a:pt x="5804" y="9351"/>
                </a:moveTo>
                <a:lnTo>
                  <a:pt x="5804" y="9351"/>
                </a:lnTo>
              </a:path>
              <a:path w="4267" h="1117">
                <a:moveTo>
                  <a:pt x="6052" y="9178"/>
                </a:moveTo>
                <a:cubicBezTo>
                  <a:pt x="5978" y="9245"/>
                  <a:pt x="5869" y="9304"/>
                  <a:pt x="5978" y="9376"/>
                </a:cubicBezTo>
                <a:cubicBezTo>
                  <a:pt x="6086" y="9279"/>
                  <a:pt x="6097" y="9147"/>
                  <a:pt x="6176" y="9401"/>
                </a:cubicBezTo>
                <a:cubicBezTo>
                  <a:pt x="6224" y="9554"/>
                  <a:pt x="6207" y="9766"/>
                  <a:pt x="6003" y="9773"/>
                </a:cubicBezTo>
                <a:cubicBezTo>
                  <a:pt x="5880" y="9777"/>
                  <a:pt x="5909" y="9651"/>
                  <a:pt x="5904" y="9575"/>
                </a:cubicBezTo>
              </a:path>
              <a:path w="4267" h="1117">
                <a:moveTo>
                  <a:pt x="5432" y="9054"/>
                </a:moveTo>
                <a:lnTo>
                  <a:pt x="5432" y="9054"/>
                </a:lnTo>
                <a:lnTo>
                  <a:pt x="5432" y="905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1040" y="3500280"/>
            <a:ext cx="768240" cy="241560"/>
          </a:xfrm>
          <a:custGeom>
            <a:avLst/>
            <a:gdLst/>
            <a:ahLst/>
            <a:rect l="l" t="t" r="r" b="b"/>
            <a:pathLst>
              <a:path w="2135" h="671">
                <a:moveTo>
                  <a:pt x="1612" y="9847"/>
                </a:moveTo>
                <a:cubicBezTo>
                  <a:pt x="1678" y="9847"/>
                  <a:pt x="1745" y="9847"/>
                  <a:pt x="1811" y="9847"/>
                </a:cubicBezTo>
              </a:path>
              <a:path w="2135" h="671">
                <a:moveTo>
                  <a:pt x="2034" y="9847"/>
                </a:moveTo>
                <a:cubicBezTo>
                  <a:pt x="2034" y="9906"/>
                  <a:pt x="2016" y="9930"/>
                  <a:pt x="2059" y="9971"/>
                </a:cubicBezTo>
                <a:cubicBezTo>
                  <a:pt x="2037" y="9923"/>
                  <a:pt x="1959" y="9763"/>
                  <a:pt x="2108" y="9798"/>
                </a:cubicBezTo>
                <a:cubicBezTo>
                  <a:pt x="2188" y="9817"/>
                  <a:pt x="2216" y="9865"/>
                  <a:pt x="2232" y="9922"/>
                </a:cubicBezTo>
                <a:cubicBezTo>
                  <a:pt x="2175" y="9902"/>
                  <a:pt x="2215" y="9825"/>
                  <a:pt x="2232" y="9773"/>
                </a:cubicBezTo>
                <a:cubicBezTo>
                  <a:pt x="2362" y="9790"/>
                  <a:pt x="2431" y="9808"/>
                  <a:pt x="2480" y="9947"/>
                </a:cubicBezTo>
                <a:cubicBezTo>
                  <a:pt x="2480" y="9955"/>
                  <a:pt x="2480" y="9963"/>
                  <a:pt x="2480" y="9971"/>
                </a:cubicBezTo>
              </a:path>
              <a:path w="2135" h="671">
                <a:moveTo>
                  <a:pt x="2654" y="9748"/>
                </a:moveTo>
                <a:cubicBezTo>
                  <a:pt x="2582" y="9777"/>
                  <a:pt x="2504" y="9890"/>
                  <a:pt x="2580" y="9971"/>
                </a:cubicBezTo>
                <a:cubicBezTo>
                  <a:pt x="2673" y="10069"/>
                  <a:pt x="2763" y="9909"/>
                  <a:pt x="2778" y="9847"/>
                </a:cubicBezTo>
                <a:cubicBezTo>
                  <a:pt x="2722" y="9833"/>
                  <a:pt x="2652" y="9821"/>
                  <a:pt x="2629" y="9798"/>
                </a:cubicBezTo>
              </a:path>
              <a:path w="2135" h="671">
                <a:moveTo>
                  <a:pt x="2629" y="9798"/>
                </a:moveTo>
                <a:lnTo>
                  <a:pt x="2629" y="9798"/>
                </a:lnTo>
              </a:path>
              <a:path w="2135" h="671">
                <a:moveTo>
                  <a:pt x="2902" y="9897"/>
                </a:moveTo>
                <a:cubicBezTo>
                  <a:pt x="2925" y="9920"/>
                  <a:pt x="2933" y="9924"/>
                  <a:pt x="2927" y="9947"/>
                </a:cubicBezTo>
                <a:cubicBezTo>
                  <a:pt x="2914" y="9867"/>
                  <a:pt x="2882" y="9853"/>
                  <a:pt x="2952" y="9823"/>
                </a:cubicBezTo>
                <a:cubicBezTo>
                  <a:pt x="3056" y="9778"/>
                  <a:pt x="3085" y="9853"/>
                  <a:pt x="3101" y="9947"/>
                </a:cubicBezTo>
              </a:path>
              <a:path w="2135" h="671">
                <a:moveTo>
                  <a:pt x="3200" y="9847"/>
                </a:moveTo>
                <a:cubicBezTo>
                  <a:pt x="3266" y="9831"/>
                  <a:pt x="3282" y="9809"/>
                  <a:pt x="3299" y="9748"/>
                </a:cubicBezTo>
                <a:cubicBezTo>
                  <a:pt x="3197" y="9727"/>
                  <a:pt x="3124" y="9793"/>
                  <a:pt x="3175" y="9922"/>
                </a:cubicBezTo>
                <a:cubicBezTo>
                  <a:pt x="3231" y="10064"/>
                  <a:pt x="3397" y="9966"/>
                  <a:pt x="3473" y="9922"/>
                </a:cubicBezTo>
              </a:path>
              <a:path w="2135" h="671">
                <a:moveTo>
                  <a:pt x="3497" y="9773"/>
                </a:moveTo>
                <a:cubicBezTo>
                  <a:pt x="3500" y="9790"/>
                  <a:pt x="3565" y="9928"/>
                  <a:pt x="3597" y="9872"/>
                </a:cubicBezTo>
                <a:cubicBezTo>
                  <a:pt x="3597" y="9823"/>
                  <a:pt x="3597" y="9806"/>
                  <a:pt x="3597" y="9773"/>
                </a:cubicBezTo>
                <a:cubicBezTo>
                  <a:pt x="3684" y="9879"/>
                  <a:pt x="3746" y="10003"/>
                  <a:pt x="3746" y="10145"/>
                </a:cubicBezTo>
                <a:cubicBezTo>
                  <a:pt x="3746" y="10332"/>
                  <a:pt x="3626" y="10381"/>
                  <a:pt x="3473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1960" y="3732120"/>
            <a:ext cx="696960" cy="142920"/>
          </a:xfrm>
          <a:custGeom>
            <a:avLst/>
            <a:gdLst/>
            <a:ahLst/>
            <a:rect l="l" t="t" r="r" b="b"/>
            <a:pathLst>
              <a:path w="1935" h="398">
                <a:moveTo>
                  <a:pt x="1563" y="10567"/>
                </a:moveTo>
                <a:cubicBezTo>
                  <a:pt x="1637" y="10567"/>
                  <a:pt x="1712" y="10567"/>
                  <a:pt x="1786" y="10567"/>
                </a:cubicBezTo>
              </a:path>
              <a:path w="1935" h="398">
                <a:moveTo>
                  <a:pt x="2108" y="10368"/>
                </a:moveTo>
                <a:cubicBezTo>
                  <a:pt x="2123" y="10460"/>
                  <a:pt x="2162" y="10549"/>
                  <a:pt x="2183" y="10641"/>
                </a:cubicBezTo>
                <a:cubicBezTo>
                  <a:pt x="2191" y="10676"/>
                  <a:pt x="2222" y="10666"/>
                  <a:pt x="2183" y="10666"/>
                </a:cubicBezTo>
              </a:path>
              <a:path w="1935" h="398">
                <a:moveTo>
                  <a:pt x="1984" y="10492"/>
                </a:moveTo>
                <a:cubicBezTo>
                  <a:pt x="2066" y="10486"/>
                  <a:pt x="2205" y="10434"/>
                  <a:pt x="2282" y="10468"/>
                </a:cubicBezTo>
                <a:cubicBezTo>
                  <a:pt x="2333" y="10490"/>
                  <a:pt x="2313" y="10492"/>
                  <a:pt x="2381" y="10492"/>
                </a:cubicBezTo>
              </a:path>
              <a:path w="1935" h="398">
                <a:moveTo>
                  <a:pt x="2381" y="10492"/>
                </a:moveTo>
                <a:lnTo>
                  <a:pt x="2381" y="10492"/>
                </a:lnTo>
              </a:path>
              <a:path w="1935" h="398">
                <a:moveTo>
                  <a:pt x="2381" y="10517"/>
                </a:moveTo>
                <a:cubicBezTo>
                  <a:pt x="2403" y="10587"/>
                  <a:pt x="2421" y="10655"/>
                  <a:pt x="2456" y="10716"/>
                </a:cubicBezTo>
              </a:path>
              <a:path w="1935" h="398">
                <a:moveTo>
                  <a:pt x="2381" y="10393"/>
                </a:moveTo>
                <a:lnTo>
                  <a:pt x="2381" y="10393"/>
                </a:lnTo>
              </a:path>
              <a:path w="1935" h="398">
                <a:moveTo>
                  <a:pt x="2580" y="10567"/>
                </a:moveTo>
                <a:cubicBezTo>
                  <a:pt x="2609" y="10626"/>
                  <a:pt x="2641" y="10678"/>
                  <a:pt x="2654" y="10740"/>
                </a:cubicBezTo>
                <a:cubicBezTo>
                  <a:pt x="2638" y="10633"/>
                  <a:pt x="2623" y="10571"/>
                  <a:pt x="2654" y="10468"/>
                </a:cubicBezTo>
                <a:cubicBezTo>
                  <a:pt x="2791" y="10479"/>
                  <a:pt x="2833" y="10492"/>
                  <a:pt x="2853" y="10641"/>
                </a:cubicBezTo>
                <a:cubicBezTo>
                  <a:pt x="2853" y="10666"/>
                  <a:pt x="2853" y="10674"/>
                  <a:pt x="2853" y="10641"/>
                </a:cubicBezTo>
                <a:cubicBezTo>
                  <a:pt x="2853" y="10609"/>
                  <a:pt x="2842" y="10469"/>
                  <a:pt x="2927" y="10492"/>
                </a:cubicBezTo>
                <a:cubicBezTo>
                  <a:pt x="3038" y="10523"/>
                  <a:pt x="3051" y="10623"/>
                  <a:pt x="3051" y="10716"/>
                </a:cubicBezTo>
                <a:cubicBezTo>
                  <a:pt x="3051" y="10724"/>
                  <a:pt x="3051" y="10732"/>
                  <a:pt x="3051" y="10740"/>
                </a:cubicBezTo>
              </a:path>
              <a:path w="1935" h="398">
                <a:moveTo>
                  <a:pt x="3274" y="10542"/>
                </a:moveTo>
                <a:cubicBezTo>
                  <a:pt x="3299" y="10542"/>
                  <a:pt x="3324" y="10542"/>
                  <a:pt x="3349" y="10542"/>
                </a:cubicBezTo>
                <a:cubicBezTo>
                  <a:pt x="3339" y="10512"/>
                  <a:pt x="3299" y="10480"/>
                  <a:pt x="3249" y="10492"/>
                </a:cubicBezTo>
                <a:cubicBezTo>
                  <a:pt x="3160" y="10513"/>
                  <a:pt x="3119" y="10685"/>
                  <a:pt x="3200" y="10740"/>
                </a:cubicBezTo>
                <a:cubicBezTo>
                  <a:pt x="3288" y="10799"/>
                  <a:pt x="3401" y="10740"/>
                  <a:pt x="3497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08080" y="4491000"/>
            <a:ext cx="1392120" cy="384120"/>
          </a:xfrm>
          <a:custGeom>
            <a:avLst/>
            <a:gdLst/>
            <a:ahLst/>
            <a:rect l="l" t="t" r="r" b="b"/>
            <a:pathLst>
              <a:path w="3870" h="1067">
                <a:moveTo>
                  <a:pt x="3076" y="12626"/>
                </a:moveTo>
                <a:cubicBezTo>
                  <a:pt x="3076" y="12515"/>
                  <a:pt x="3133" y="12789"/>
                  <a:pt x="3150" y="12898"/>
                </a:cubicBezTo>
                <a:cubicBezTo>
                  <a:pt x="3150" y="12973"/>
                  <a:pt x="3150" y="13031"/>
                  <a:pt x="3150" y="12973"/>
                </a:cubicBezTo>
                <a:cubicBezTo>
                  <a:pt x="3131" y="12904"/>
                  <a:pt x="3018" y="12473"/>
                  <a:pt x="3249" y="12526"/>
                </a:cubicBezTo>
                <a:cubicBezTo>
                  <a:pt x="3394" y="12623"/>
                  <a:pt x="3442" y="12653"/>
                  <a:pt x="3473" y="12774"/>
                </a:cubicBezTo>
                <a:cubicBezTo>
                  <a:pt x="3473" y="12815"/>
                  <a:pt x="3473" y="12857"/>
                  <a:pt x="3473" y="12898"/>
                </a:cubicBezTo>
                <a:cubicBezTo>
                  <a:pt x="3448" y="12800"/>
                  <a:pt x="3401" y="12469"/>
                  <a:pt x="3621" y="12650"/>
                </a:cubicBezTo>
                <a:cubicBezTo>
                  <a:pt x="3683" y="12701"/>
                  <a:pt x="3778" y="13039"/>
                  <a:pt x="3795" y="13047"/>
                </a:cubicBezTo>
                <a:cubicBezTo>
                  <a:pt x="3812" y="13039"/>
                  <a:pt x="3828" y="13030"/>
                  <a:pt x="3845" y="13022"/>
                </a:cubicBezTo>
              </a:path>
              <a:path w="3870" h="1067">
                <a:moveTo>
                  <a:pt x="3969" y="12725"/>
                </a:moveTo>
                <a:cubicBezTo>
                  <a:pt x="3981" y="12858"/>
                  <a:pt x="3999" y="12964"/>
                  <a:pt x="4068" y="13072"/>
                </a:cubicBezTo>
                <a:cubicBezTo>
                  <a:pt x="4185" y="13013"/>
                  <a:pt x="4292" y="12927"/>
                  <a:pt x="4291" y="12774"/>
                </a:cubicBezTo>
                <a:cubicBezTo>
                  <a:pt x="4283" y="12782"/>
                  <a:pt x="4274" y="12791"/>
                  <a:pt x="4266" y="12799"/>
                </a:cubicBezTo>
                <a:cubicBezTo>
                  <a:pt x="4281" y="12906"/>
                  <a:pt x="4304" y="13055"/>
                  <a:pt x="4440" y="13072"/>
                </a:cubicBezTo>
                <a:cubicBezTo>
                  <a:pt x="4701" y="13106"/>
                  <a:pt x="4677" y="12831"/>
                  <a:pt x="4663" y="12675"/>
                </a:cubicBezTo>
              </a:path>
              <a:path w="3870" h="1067">
                <a:moveTo>
                  <a:pt x="4564" y="12502"/>
                </a:moveTo>
                <a:cubicBezTo>
                  <a:pt x="4586" y="12674"/>
                  <a:pt x="4630" y="12856"/>
                  <a:pt x="4688" y="13022"/>
                </a:cubicBezTo>
                <a:cubicBezTo>
                  <a:pt x="4696" y="13039"/>
                  <a:pt x="4705" y="13055"/>
                  <a:pt x="4713" y="13072"/>
                </a:cubicBezTo>
              </a:path>
              <a:path w="3870" h="1067">
                <a:moveTo>
                  <a:pt x="4713" y="13072"/>
                </a:moveTo>
                <a:lnTo>
                  <a:pt x="4713" y="13072"/>
                </a:lnTo>
              </a:path>
              <a:path w="3870" h="1067">
                <a:moveTo>
                  <a:pt x="4986" y="12502"/>
                </a:moveTo>
                <a:cubicBezTo>
                  <a:pt x="4952" y="12618"/>
                  <a:pt x="5054" y="12816"/>
                  <a:pt x="5085" y="12948"/>
                </a:cubicBezTo>
                <a:cubicBezTo>
                  <a:pt x="5109" y="13051"/>
                  <a:pt x="5182" y="13150"/>
                  <a:pt x="5085" y="13072"/>
                </a:cubicBezTo>
              </a:path>
              <a:path w="3870" h="1067">
                <a:moveTo>
                  <a:pt x="4787" y="12774"/>
                </a:moveTo>
                <a:cubicBezTo>
                  <a:pt x="4950" y="12768"/>
                  <a:pt x="5229" y="12685"/>
                  <a:pt x="5358" y="12824"/>
                </a:cubicBezTo>
                <a:cubicBezTo>
                  <a:pt x="5405" y="12874"/>
                  <a:pt x="5430" y="13103"/>
                  <a:pt x="5457" y="12998"/>
                </a:cubicBezTo>
              </a:path>
              <a:path w="3870" h="1067">
                <a:moveTo>
                  <a:pt x="5308" y="12551"/>
                </a:moveTo>
                <a:cubicBezTo>
                  <a:pt x="5308" y="12559"/>
                  <a:pt x="5308" y="12568"/>
                  <a:pt x="5308" y="12576"/>
                </a:cubicBezTo>
              </a:path>
              <a:path w="3870" h="1067">
                <a:moveTo>
                  <a:pt x="5655" y="12973"/>
                </a:moveTo>
                <a:cubicBezTo>
                  <a:pt x="5692" y="13105"/>
                  <a:pt x="5729" y="13239"/>
                  <a:pt x="5755" y="13370"/>
                </a:cubicBezTo>
                <a:cubicBezTo>
                  <a:pt x="5684" y="13229"/>
                  <a:pt x="5498" y="12966"/>
                  <a:pt x="5581" y="12799"/>
                </a:cubicBezTo>
                <a:cubicBezTo>
                  <a:pt x="5695" y="12571"/>
                  <a:pt x="5871" y="12824"/>
                  <a:pt x="5928" y="12898"/>
                </a:cubicBezTo>
                <a:cubicBezTo>
                  <a:pt x="5826" y="13032"/>
                  <a:pt x="5746" y="13079"/>
                  <a:pt x="5631" y="12948"/>
                </a:cubicBezTo>
              </a:path>
              <a:path w="3870" h="1067">
                <a:moveTo>
                  <a:pt x="6102" y="12477"/>
                </a:moveTo>
                <a:cubicBezTo>
                  <a:pt x="6125" y="12562"/>
                  <a:pt x="6190" y="13068"/>
                  <a:pt x="6276" y="13097"/>
                </a:cubicBezTo>
                <a:cubicBezTo>
                  <a:pt x="6292" y="13080"/>
                  <a:pt x="6309" y="13064"/>
                  <a:pt x="6325" y="13047"/>
                </a:cubicBezTo>
              </a:path>
              <a:path w="3870" h="1067">
                <a:moveTo>
                  <a:pt x="6424" y="12774"/>
                </a:moveTo>
                <a:cubicBezTo>
                  <a:pt x="6442" y="12910"/>
                  <a:pt x="6488" y="13165"/>
                  <a:pt x="6697" y="13122"/>
                </a:cubicBezTo>
                <a:cubicBezTo>
                  <a:pt x="6825" y="13095"/>
                  <a:pt x="6763" y="12682"/>
                  <a:pt x="6821" y="12799"/>
                </a:cubicBezTo>
                <a:cubicBezTo>
                  <a:pt x="6829" y="12816"/>
                  <a:pt x="6838" y="12832"/>
                  <a:pt x="6846" y="12849"/>
                </a:cubicBezTo>
                <a:cubicBezTo>
                  <a:pt x="6909" y="13039"/>
                  <a:pt x="7061" y="13389"/>
                  <a:pt x="6796" y="13519"/>
                </a:cubicBezTo>
                <a:cubicBezTo>
                  <a:pt x="6555" y="13545"/>
                  <a:pt x="6464" y="13550"/>
                  <a:pt x="6300" y="134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41280" y="4848120"/>
            <a:ext cx="982800" cy="331920"/>
          </a:xfrm>
          <a:custGeom>
            <a:avLst/>
            <a:gdLst/>
            <a:ahLst/>
            <a:rect l="l" t="t" r="r" b="b"/>
            <a:pathLst>
              <a:path w="2729" h="919">
                <a:moveTo>
                  <a:pt x="4018" y="13915"/>
                </a:moveTo>
                <a:cubicBezTo>
                  <a:pt x="3901" y="13915"/>
                  <a:pt x="3861" y="13769"/>
                  <a:pt x="3721" y="13816"/>
                </a:cubicBezTo>
                <a:cubicBezTo>
                  <a:pt x="3458" y="13903"/>
                  <a:pt x="3476" y="14146"/>
                  <a:pt x="3448" y="14362"/>
                </a:cubicBezTo>
                <a:cubicBezTo>
                  <a:pt x="3772" y="14271"/>
                  <a:pt x="3721" y="14223"/>
                  <a:pt x="3845" y="13891"/>
                </a:cubicBezTo>
              </a:path>
              <a:path w="2729" h="919">
                <a:moveTo>
                  <a:pt x="3696" y="13469"/>
                </a:moveTo>
                <a:cubicBezTo>
                  <a:pt x="3782" y="13703"/>
                  <a:pt x="3789" y="14068"/>
                  <a:pt x="3870" y="14263"/>
                </a:cubicBezTo>
                <a:cubicBezTo>
                  <a:pt x="3878" y="14246"/>
                  <a:pt x="3886" y="14230"/>
                  <a:pt x="3894" y="14213"/>
                </a:cubicBezTo>
              </a:path>
              <a:path w="2729" h="919">
                <a:moveTo>
                  <a:pt x="3894" y="14213"/>
                </a:moveTo>
                <a:lnTo>
                  <a:pt x="3894" y="14213"/>
                </a:lnTo>
              </a:path>
              <a:path w="2729" h="919">
                <a:moveTo>
                  <a:pt x="4118" y="14039"/>
                </a:moveTo>
                <a:cubicBezTo>
                  <a:pt x="4153" y="14163"/>
                  <a:pt x="4132" y="14309"/>
                  <a:pt x="4192" y="14188"/>
                </a:cubicBezTo>
              </a:path>
              <a:path w="2729" h="919">
                <a:moveTo>
                  <a:pt x="4118" y="13717"/>
                </a:moveTo>
                <a:cubicBezTo>
                  <a:pt x="4134" y="13734"/>
                  <a:pt x="4151" y="13750"/>
                  <a:pt x="4167" y="13767"/>
                </a:cubicBezTo>
              </a:path>
              <a:path w="2729" h="919">
                <a:moveTo>
                  <a:pt x="4490" y="14039"/>
                </a:moveTo>
                <a:cubicBezTo>
                  <a:pt x="4583" y="14178"/>
                  <a:pt x="4610" y="14218"/>
                  <a:pt x="4663" y="14312"/>
                </a:cubicBezTo>
                <a:cubicBezTo>
                  <a:pt x="4706" y="14157"/>
                  <a:pt x="4709" y="13980"/>
                  <a:pt x="4738" y="13816"/>
                </a:cubicBezTo>
              </a:path>
              <a:path w="2729" h="919">
                <a:moveTo>
                  <a:pt x="5060" y="14089"/>
                </a:moveTo>
                <a:cubicBezTo>
                  <a:pt x="5074" y="14172"/>
                  <a:pt x="5085" y="14322"/>
                  <a:pt x="5085" y="14238"/>
                </a:cubicBezTo>
              </a:path>
              <a:path w="2729" h="919">
                <a:moveTo>
                  <a:pt x="5035" y="13841"/>
                </a:moveTo>
                <a:cubicBezTo>
                  <a:pt x="5043" y="13841"/>
                  <a:pt x="5052" y="13841"/>
                  <a:pt x="5060" y="13841"/>
                </a:cubicBezTo>
              </a:path>
              <a:path w="2729" h="919">
                <a:moveTo>
                  <a:pt x="5531" y="14015"/>
                </a:moveTo>
                <a:cubicBezTo>
                  <a:pt x="5346" y="13959"/>
                  <a:pt x="5200" y="14103"/>
                  <a:pt x="5234" y="14312"/>
                </a:cubicBezTo>
                <a:cubicBezTo>
                  <a:pt x="5273" y="14551"/>
                  <a:pt x="5484" y="14082"/>
                  <a:pt x="5507" y="13841"/>
                </a:cubicBezTo>
                <a:cubicBezTo>
                  <a:pt x="5380" y="13461"/>
                  <a:pt x="5588" y="14129"/>
                  <a:pt x="5655" y="14238"/>
                </a:cubicBezTo>
              </a:path>
              <a:path w="2729" h="919">
                <a:moveTo>
                  <a:pt x="5854" y="14039"/>
                </a:moveTo>
                <a:cubicBezTo>
                  <a:pt x="5988" y="14006"/>
                  <a:pt x="6116" y="14008"/>
                  <a:pt x="6152" y="13866"/>
                </a:cubicBezTo>
                <a:cubicBezTo>
                  <a:pt x="5942" y="13875"/>
                  <a:pt x="5669" y="14027"/>
                  <a:pt x="5904" y="14288"/>
                </a:cubicBezTo>
                <a:cubicBezTo>
                  <a:pt x="6046" y="14359"/>
                  <a:pt x="6089" y="14387"/>
                  <a:pt x="6176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41280" y="5313240"/>
            <a:ext cx="642960" cy="277920"/>
          </a:xfrm>
          <a:custGeom>
            <a:avLst/>
            <a:gdLst/>
            <a:ahLst/>
            <a:rect l="l" t="t" r="r" b="b"/>
            <a:pathLst>
              <a:path w="1787" h="770">
                <a:moveTo>
                  <a:pt x="3944" y="14957"/>
                </a:moveTo>
                <a:cubicBezTo>
                  <a:pt x="3883" y="14835"/>
                  <a:pt x="3711" y="14646"/>
                  <a:pt x="3572" y="14833"/>
                </a:cubicBezTo>
                <a:cubicBezTo>
                  <a:pt x="3462" y="15076"/>
                  <a:pt x="3416" y="15133"/>
                  <a:pt x="3473" y="15304"/>
                </a:cubicBezTo>
                <a:cubicBezTo>
                  <a:pt x="3783" y="15291"/>
                  <a:pt x="3820" y="15198"/>
                  <a:pt x="3820" y="14883"/>
                </a:cubicBezTo>
                <a:cubicBezTo>
                  <a:pt x="3850" y="15139"/>
                  <a:pt x="3881" y="15243"/>
                  <a:pt x="4093" y="15354"/>
                </a:cubicBezTo>
              </a:path>
              <a:path w="1787" h="770">
                <a:moveTo>
                  <a:pt x="4539" y="15106"/>
                </a:moveTo>
                <a:cubicBezTo>
                  <a:pt x="4346" y="14930"/>
                  <a:pt x="4208" y="15050"/>
                  <a:pt x="4093" y="15280"/>
                </a:cubicBezTo>
                <a:cubicBezTo>
                  <a:pt x="4085" y="15321"/>
                  <a:pt x="4076" y="15363"/>
                  <a:pt x="4068" y="15404"/>
                </a:cubicBezTo>
                <a:cubicBezTo>
                  <a:pt x="4342" y="15446"/>
                  <a:pt x="4512" y="15280"/>
                  <a:pt x="4440" y="14957"/>
                </a:cubicBezTo>
                <a:cubicBezTo>
                  <a:pt x="4407" y="14899"/>
                  <a:pt x="4374" y="14842"/>
                  <a:pt x="4341" y="14784"/>
                </a:cubicBezTo>
                <a:cubicBezTo>
                  <a:pt x="4444" y="15073"/>
                  <a:pt x="4458" y="15253"/>
                  <a:pt x="4738" y="15329"/>
                </a:cubicBezTo>
              </a:path>
              <a:path w="1787" h="770">
                <a:moveTo>
                  <a:pt x="5234" y="15106"/>
                </a:moveTo>
                <a:cubicBezTo>
                  <a:pt x="5022" y="15097"/>
                  <a:pt x="4733" y="15140"/>
                  <a:pt x="4812" y="15453"/>
                </a:cubicBezTo>
                <a:cubicBezTo>
                  <a:pt x="4837" y="15478"/>
                  <a:pt x="4862" y="15503"/>
                  <a:pt x="4887" y="15528"/>
                </a:cubicBezTo>
                <a:cubicBezTo>
                  <a:pt x="5241" y="15342"/>
                  <a:pt x="5192" y="15199"/>
                  <a:pt x="5085" y="14833"/>
                </a:cubicBezTo>
                <a:cubicBezTo>
                  <a:pt x="5077" y="14808"/>
                  <a:pt x="5068" y="14784"/>
                  <a:pt x="5060" y="14759"/>
                </a:cubicBezTo>
                <a:cubicBezTo>
                  <a:pt x="5150" y="15015"/>
                  <a:pt x="5213" y="15234"/>
                  <a:pt x="5234" y="15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04920" y="5697360"/>
            <a:ext cx="1438200" cy="249480"/>
          </a:xfrm>
          <a:custGeom>
            <a:avLst/>
            <a:gdLst/>
            <a:ahLst/>
            <a:rect l="l" t="t" r="r" b="b"/>
            <a:pathLst>
              <a:path w="3994" h="696">
                <a:moveTo>
                  <a:pt x="3671" y="15900"/>
                </a:moveTo>
                <a:cubicBezTo>
                  <a:pt x="3583" y="16010"/>
                  <a:pt x="3563" y="16039"/>
                  <a:pt x="3497" y="16098"/>
                </a:cubicBezTo>
                <a:cubicBezTo>
                  <a:pt x="3606" y="16180"/>
                  <a:pt x="3710" y="16240"/>
                  <a:pt x="3795" y="16346"/>
                </a:cubicBezTo>
                <a:cubicBezTo>
                  <a:pt x="3617" y="16440"/>
                  <a:pt x="3555" y="16436"/>
                  <a:pt x="3349" y="16421"/>
                </a:cubicBezTo>
              </a:path>
              <a:path w="3994" h="696">
                <a:moveTo>
                  <a:pt x="3894" y="16049"/>
                </a:moveTo>
                <a:cubicBezTo>
                  <a:pt x="3906" y="16089"/>
                  <a:pt x="3999" y="16534"/>
                  <a:pt x="4068" y="16520"/>
                </a:cubicBezTo>
                <a:cubicBezTo>
                  <a:pt x="4176" y="16498"/>
                  <a:pt x="4184" y="16223"/>
                  <a:pt x="4192" y="16148"/>
                </a:cubicBezTo>
                <a:cubicBezTo>
                  <a:pt x="4202" y="16203"/>
                  <a:pt x="4282" y="16640"/>
                  <a:pt x="4415" y="16495"/>
                </a:cubicBezTo>
                <a:cubicBezTo>
                  <a:pt x="4540" y="16359"/>
                  <a:pt x="4445" y="16144"/>
                  <a:pt x="4415" y="15999"/>
                </a:cubicBezTo>
                <a:cubicBezTo>
                  <a:pt x="4332" y="15999"/>
                  <a:pt x="4474" y="16316"/>
                  <a:pt x="4514" y="16421"/>
                </a:cubicBezTo>
                <a:cubicBezTo>
                  <a:pt x="4522" y="16437"/>
                  <a:pt x="4531" y="16454"/>
                  <a:pt x="4539" y="16470"/>
                </a:cubicBezTo>
                <a:cubicBezTo>
                  <a:pt x="4539" y="16350"/>
                  <a:pt x="4527" y="16136"/>
                  <a:pt x="4713" y="16148"/>
                </a:cubicBezTo>
                <a:cubicBezTo>
                  <a:pt x="4984" y="16165"/>
                  <a:pt x="4992" y="16495"/>
                  <a:pt x="4713" y="16520"/>
                </a:cubicBezTo>
                <a:cubicBezTo>
                  <a:pt x="4655" y="16512"/>
                  <a:pt x="4597" y="16503"/>
                  <a:pt x="4539" y="16495"/>
                </a:cubicBezTo>
              </a:path>
              <a:path w="3994" h="696">
                <a:moveTo>
                  <a:pt x="4936" y="15875"/>
                </a:moveTo>
                <a:cubicBezTo>
                  <a:pt x="5001" y="16076"/>
                  <a:pt x="5021" y="16302"/>
                  <a:pt x="5085" y="16495"/>
                </a:cubicBezTo>
                <a:cubicBezTo>
                  <a:pt x="5085" y="16479"/>
                  <a:pt x="5085" y="16462"/>
                  <a:pt x="5085" y="16446"/>
                </a:cubicBezTo>
              </a:path>
              <a:path w="3994" h="696">
                <a:moveTo>
                  <a:pt x="4862" y="16073"/>
                </a:moveTo>
                <a:cubicBezTo>
                  <a:pt x="5009" y="16088"/>
                  <a:pt x="5288" y="16021"/>
                  <a:pt x="5407" y="16123"/>
                </a:cubicBezTo>
                <a:cubicBezTo>
                  <a:pt x="5474" y="16180"/>
                  <a:pt x="5514" y="16368"/>
                  <a:pt x="5531" y="16446"/>
                </a:cubicBezTo>
                <a:cubicBezTo>
                  <a:pt x="5531" y="16275"/>
                  <a:pt x="5493" y="16035"/>
                  <a:pt x="5705" y="15974"/>
                </a:cubicBezTo>
                <a:cubicBezTo>
                  <a:pt x="5755" y="15974"/>
                  <a:pt x="5804" y="15974"/>
                  <a:pt x="5854" y="15974"/>
                </a:cubicBezTo>
              </a:path>
              <a:path w="3994" h="696">
                <a:moveTo>
                  <a:pt x="6152" y="16073"/>
                </a:moveTo>
                <a:cubicBezTo>
                  <a:pt x="5907" y="16004"/>
                  <a:pt x="5874" y="16177"/>
                  <a:pt x="5804" y="16396"/>
                </a:cubicBezTo>
                <a:cubicBezTo>
                  <a:pt x="6024" y="16571"/>
                  <a:pt x="5965" y="16308"/>
                  <a:pt x="6077" y="16197"/>
                </a:cubicBezTo>
                <a:cubicBezTo>
                  <a:pt x="6189" y="16085"/>
                  <a:pt x="6323" y="16441"/>
                  <a:pt x="6449" y="16346"/>
                </a:cubicBezTo>
                <a:cubicBezTo>
                  <a:pt x="6532" y="16283"/>
                  <a:pt x="6594" y="16106"/>
                  <a:pt x="6623" y="16049"/>
                </a:cubicBezTo>
                <a:cubicBezTo>
                  <a:pt x="6459" y="16002"/>
                  <a:pt x="6350" y="16206"/>
                  <a:pt x="6375" y="16371"/>
                </a:cubicBezTo>
                <a:cubicBezTo>
                  <a:pt x="6433" y="16752"/>
                  <a:pt x="6908" y="16327"/>
                  <a:pt x="6970" y="16197"/>
                </a:cubicBezTo>
                <a:cubicBezTo>
                  <a:pt x="7020" y="16092"/>
                  <a:pt x="6955" y="15657"/>
                  <a:pt x="7020" y="15949"/>
                </a:cubicBezTo>
                <a:cubicBezTo>
                  <a:pt x="7053" y="16132"/>
                  <a:pt x="7142" y="16517"/>
                  <a:pt x="7069" y="16346"/>
                </a:cubicBezTo>
              </a:path>
              <a:path w="3994" h="696">
                <a:moveTo>
                  <a:pt x="6821" y="15999"/>
                </a:moveTo>
                <a:cubicBezTo>
                  <a:pt x="6878" y="16000"/>
                  <a:pt x="7347" y="16024"/>
                  <a:pt x="7317" y="160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5280" y="1911240"/>
            <a:ext cx="320760" cy="1955880"/>
          </a:xfrm>
          <a:custGeom>
            <a:avLst/>
            <a:gdLst/>
            <a:ahLst/>
            <a:rect l="l" t="t" r="r" b="b"/>
            <a:pathLst>
              <a:path w="894" h="5433">
                <a:moveTo>
                  <a:pt x="1091" y="5333"/>
                </a:moveTo>
                <a:cubicBezTo>
                  <a:pt x="1114" y="5310"/>
                  <a:pt x="1118" y="5302"/>
                  <a:pt x="1141" y="5308"/>
                </a:cubicBezTo>
                <a:cubicBezTo>
                  <a:pt x="1048" y="5353"/>
                  <a:pt x="959" y="5399"/>
                  <a:pt x="868" y="5457"/>
                </a:cubicBezTo>
                <a:cubicBezTo>
                  <a:pt x="668" y="5583"/>
                  <a:pt x="610" y="5642"/>
                  <a:pt x="521" y="5854"/>
                </a:cubicBezTo>
                <a:cubicBezTo>
                  <a:pt x="454" y="6014"/>
                  <a:pt x="380" y="6204"/>
                  <a:pt x="372" y="6375"/>
                </a:cubicBezTo>
                <a:cubicBezTo>
                  <a:pt x="367" y="6472"/>
                  <a:pt x="374" y="6593"/>
                  <a:pt x="422" y="6697"/>
                </a:cubicBezTo>
                <a:cubicBezTo>
                  <a:pt x="461" y="6781"/>
                  <a:pt x="512" y="6852"/>
                  <a:pt x="571" y="6921"/>
                </a:cubicBezTo>
                <a:cubicBezTo>
                  <a:pt x="624" y="6983"/>
                  <a:pt x="672" y="7025"/>
                  <a:pt x="744" y="7069"/>
                </a:cubicBezTo>
                <a:cubicBezTo>
                  <a:pt x="854" y="7136"/>
                  <a:pt x="884" y="7122"/>
                  <a:pt x="918" y="7243"/>
                </a:cubicBezTo>
                <a:cubicBezTo>
                  <a:pt x="960" y="7394"/>
                  <a:pt x="926" y="7471"/>
                  <a:pt x="868" y="7615"/>
                </a:cubicBezTo>
                <a:cubicBezTo>
                  <a:pt x="821" y="7732"/>
                  <a:pt x="735" y="7833"/>
                  <a:pt x="670" y="7938"/>
                </a:cubicBezTo>
                <a:cubicBezTo>
                  <a:pt x="640" y="7986"/>
                  <a:pt x="604" y="8020"/>
                  <a:pt x="571" y="8086"/>
                </a:cubicBezTo>
                <a:cubicBezTo>
                  <a:pt x="560" y="8108"/>
                  <a:pt x="558" y="8114"/>
                  <a:pt x="546" y="8136"/>
                </a:cubicBezTo>
                <a:cubicBezTo>
                  <a:pt x="612" y="8164"/>
                  <a:pt x="714" y="8186"/>
                  <a:pt x="769" y="8235"/>
                </a:cubicBezTo>
                <a:cubicBezTo>
                  <a:pt x="863" y="8319"/>
                  <a:pt x="927" y="8432"/>
                  <a:pt x="918" y="8558"/>
                </a:cubicBezTo>
                <a:cubicBezTo>
                  <a:pt x="912" y="8636"/>
                  <a:pt x="886" y="8679"/>
                  <a:pt x="868" y="8756"/>
                </a:cubicBezTo>
                <a:cubicBezTo>
                  <a:pt x="847" y="8847"/>
                  <a:pt x="823" y="8937"/>
                  <a:pt x="794" y="9029"/>
                </a:cubicBezTo>
                <a:cubicBezTo>
                  <a:pt x="757" y="9146"/>
                  <a:pt x="720" y="9259"/>
                  <a:pt x="695" y="9376"/>
                </a:cubicBezTo>
                <a:cubicBezTo>
                  <a:pt x="656" y="9555"/>
                  <a:pt x="559" y="9480"/>
                  <a:pt x="496" y="9624"/>
                </a:cubicBezTo>
                <a:cubicBezTo>
                  <a:pt x="441" y="9749"/>
                  <a:pt x="486" y="9868"/>
                  <a:pt x="496" y="9996"/>
                </a:cubicBezTo>
                <a:cubicBezTo>
                  <a:pt x="511" y="10196"/>
                  <a:pt x="596" y="10314"/>
                  <a:pt x="670" y="10492"/>
                </a:cubicBezTo>
                <a:cubicBezTo>
                  <a:pt x="728" y="10632"/>
                  <a:pt x="787" y="10677"/>
                  <a:pt x="943" y="10716"/>
                </a:cubicBezTo>
                <a:cubicBezTo>
                  <a:pt x="1056" y="10744"/>
                  <a:pt x="1132" y="10725"/>
                  <a:pt x="1240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re going to use a part (fraction) of a part (fraction), you would need to multiply fr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45200" y="928800"/>
            <a:ext cx="608040" cy="563400"/>
          </a:xfrm>
          <a:custGeom>
            <a:avLst/>
            <a:gdLst/>
            <a:ahLst/>
            <a:rect l="l" t="t" r="r" b="b"/>
            <a:pathLst>
              <a:path w="1688" h="1563">
                <a:moveTo>
                  <a:pt x="19596" y="4018"/>
                </a:moveTo>
                <a:cubicBezTo>
                  <a:pt x="19649" y="4035"/>
                  <a:pt x="19805" y="4075"/>
                  <a:pt x="19893" y="4093"/>
                </a:cubicBezTo>
                <a:cubicBezTo>
                  <a:pt x="20049" y="4125"/>
                  <a:pt x="20255" y="4184"/>
                  <a:pt x="20414" y="4142"/>
                </a:cubicBezTo>
                <a:cubicBezTo>
                  <a:pt x="20584" y="4097"/>
                  <a:pt x="20830" y="3968"/>
                  <a:pt x="20960" y="3845"/>
                </a:cubicBezTo>
                <a:cubicBezTo>
                  <a:pt x="21092" y="3721"/>
                  <a:pt x="21184" y="3622"/>
                  <a:pt x="21233" y="3448"/>
                </a:cubicBezTo>
                <a:cubicBezTo>
                  <a:pt x="21280" y="3283"/>
                  <a:pt x="21197" y="3152"/>
                  <a:pt x="21134" y="3001"/>
                </a:cubicBezTo>
                <a:cubicBezTo>
                  <a:pt x="21069" y="2845"/>
                  <a:pt x="21018" y="2754"/>
                  <a:pt x="20861" y="2679"/>
                </a:cubicBezTo>
                <a:cubicBezTo>
                  <a:pt x="20709" y="2607"/>
                  <a:pt x="20585" y="2559"/>
                  <a:pt x="20414" y="2580"/>
                </a:cubicBezTo>
                <a:cubicBezTo>
                  <a:pt x="20232" y="2603"/>
                  <a:pt x="20040" y="2751"/>
                  <a:pt x="19918" y="2877"/>
                </a:cubicBezTo>
                <a:cubicBezTo>
                  <a:pt x="19736" y="3066"/>
                  <a:pt x="19605" y="3282"/>
                  <a:pt x="19571" y="3547"/>
                </a:cubicBezTo>
                <a:cubicBezTo>
                  <a:pt x="19534" y="3834"/>
                  <a:pt x="19683" y="3979"/>
                  <a:pt x="19943" y="4043"/>
                </a:cubicBezTo>
                <a:cubicBezTo>
                  <a:pt x="20083" y="4063"/>
                  <a:pt x="20107" y="4072"/>
                  <a:pt x="20191" y="4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37080" y="1473120"/>
            <a:ext cx="847800" cy="54000"/>
          </a:xfrm>
          <a:custGeom>
            <a:avLst/>
            <a:gdLst/>
            <a:ahLst/>
            <a:rect l="l" t="t" r="r" b="b"/>
            <a:pathLst>
              <a:path w="2357" h="150">
                <a:moveTo>
                  <a:pt x="12601" y="4093"/>
                </a:moveTo>
                <a:cubicBezTo>
                  <a:pt x="12681" y="4123"/>
                  <a:pt x="12787" y="4158"/>
                  <a:pt x="12874" y="4167"/>
                </a:cubicBezTo>
                <a:cubicBezTo>
                  <a:pt x="13046" y="4184"/>
                  <a:pt x="13223" y="4207"/>
                  <a:pt x="13395" y="4217"/>
                </a:cubicBezTo>
                <a:cubicBezTo>
                  <a:pt x="13635" y="4231"/>
                  <a:pt x="13875" y="4227"/>
                  <a:pt x="14114" y="4242"/>
                </a:cubicBezTo>
                <a:cubicBezTo>
                  <a:pt x="14314" y="4255"/>
                  <a:pt x="14510" y="4221"/>
                  <a:pt x="14709" y="4217"/>
                </a:cubicBezTo>
                <a:cubicBezTo>
                  <a:pt x="14792" y="4216"/>
                  <a:pt x="14874" y="4217"/>
                  <a:pt x="14957" y="42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8240" y="1955880"/>
            <a:ext cx="973080" cy="27000"/>
          </a:xfrm>
          <a:custGeom>
            <a:avLst/>
            <a:gdLst/>
            <a:ahLst/>
            <a:rect l="l" t="t" r="r" b="b"/>
            <a:pathLst>
              <a:path w="2705" h="76">
                <a:moveTo>
                  <a:pt x="2133" y="5507"/>
                </a:moveTo>
                <a:cubicBezTo>
                  <a:pt x="2168" y="5489"/>
                  <a:pt x="2285" y="5462"/>
                  <a:pt x="2356" y="5457"/>
                </a:cubicBezTo>
                <a:cubicBezTo>
                  <a:pt x="3122" y="5403"/>
                  <a:pt x="4064" y="5344"/>
                  <a:pt x="4812" y="5432"/>
                </a:cubicBezTo>
                <a:cubicBezTo>
                  <a:pt x="4837" y="5432"/>
                  <a:pt x="4845" y="5432"/>
                  <a:pt x="4837" y="54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90760" y="2473200"/>
            <a:ext cx="4832280" cy="1081080"/>
          </a:xfrm>
          <a:custGeom>
            <a:avLst/>
            <a:gdLst/>
            <a:ahLst/>
            <a:rect l="l" t="t" r="r" b="b"/>
            <a:pathLst>
              <a:path w="13421" h="3002">
                <a:moveTo>
                  <a:pt x="4142" y="8409"/>
                </a:moveTo>
                <a:cubicBezTo>
                  <a:pt x="4337" y="8364"/>
                  <a:pt x="4557" y="8384"/>
                  <a:pt x="4762" y="8384"/>
                </a:cubicBezTo>
                <a:cubicBezTo>
                  <a:pt x="5044" y="8384"/>
                  <a:pt x="5357" y="8346"/>
                  <a:pt x="5631" y="8409"/>
                </a:cubicBezTo>
              </a:path>
              <a:path w="13421" h="3002">
                <a:moveTo>
                  <a:pt x="6871" y="8037"/>
                </a:moveTo>
                <a:cubicBezTo>
                  <a:pt x="6665" y="8149"/>
                  <a:pt x="6651" y="8236"/>
                  <a:pt x="6598" y="8458"/>
                </a:cubicBezTo>
                <a:cubicBezTo>
                  <a:pt x="6721" y="8538"/>
                  <a:pt x="7168" y="8599"/>
                  <a:pt x="7094" y="8260"/>
                </a:cubicBezTo>
                <a:cubicBezTo>
                  <a:pt x="7050" y="8061"/>
                  <a:pt x="6746" y="8062"/>
                  <a:pt x="6697" y="8062"/>
                </a:cubicBezTo>
              </a:path>
              <a:path w="13421" h="3002">
                <a:moveTo>
                  <a:pt x="7640" y="7565"/>
                </a:moveTo>
                <a:cubicBezTo>
                  <a:pt x="7503" y="7446"/>
                  <a:pt x="7400" y="7525"/>
                  <a:pt x="7342" y="7714"/>
                </a:cubicBezTo>
                <a:cubicBezTo>
                  <a:pt x="7268" y="7954"/>
                  <a:pt x="7369" y="8217"/>
                  <a:pt x="7466" y="8434"/>
                </a:cubicBezTo>
                <a:cubicBezTo>
                  <a:pt x="7528" y="8572"/>
                  <a:pt x="7404" y="8399"/>
                  <a:pt x="7392" y="8384"/>
                </a:cubicBezTo>
              </a:path>
              <a:path w="13421" h="3002">
                <a:moveTo>
                  <a:pt x="7193" y="8037"/>
                </a:moveTo>
                <a:cubicBezTo>
                  <a:pt x="7398" y="8037"/>
                  <a:pt x="7611" y="7992"/>
                  <a:pt x="7813" y="8012"/>
                </a:cubicBezTo>
                <a:cubicBezTo>
                  <a:pt x="7838" y="8020"/>
                  <a:pt x="7863" y="8029"/>
                  <a:pt x="7888" y="8037"/>
                </a:cubicBezTo>
              </a:path>
              <a:path w="13421" h="3002">
                <a:moveTo>
                  <a:pt x="8657" y="8161"/>
                </a:moveTo>
                <a:cubicBezTo>
                  <a:pt x="8898" y="8161"/>
                  <a:pt x="9135" y="8138"/>
                  <a:pt x="9376" y="8136"/>
                </a:cubicBezTo>
                <a:cubicBezTo>
                  <a:pt x="9651" y="8134"/>
                  <a:pt x="9921" y="8161"/>
                  <a:pt x="10195" y="8161"/>
                </a:cubicBezTo>
              </a:path>
              <a:path w="13421" h="3002">
                <a:moveTo>
                  <a:pt x="4936" y="7392"/>
                </a:moveTo>
                <a:cubicBezTo>
                  <a:pt x="4976" y="7551"/>
                  <a:pt x="5039" y="7762"/>
                  <a:pt x="5060" y="7938"/>
                </a:cubicBezTo>
                <a:cubicBezTo>
                  <a:pt x="5060" y="8045"/>
                  <a:pt x="5060" y="8053"/>
                  <a:pt x="5060" y="8111"/>
                </a:cubicBezTo>
              </a:path>
              <a:path w="13421" h="3002">
                <a:moveTo>
                  <a:pt x="4787" y="8880"/>
                </a:moveTo>
                <a:cubicBezTo>
                  <a:pt x="4886" y="8824"/>
                  <a:pt x="4945" y="8783"/>
                  <a:pt x="5060" y="8731"/>
                </a:cubicBezTo>
                <a:cubicBezTo>
                  <a:pt x="5200" y="8922"/>
                  <a:pt x="5133" y="9024"/>
                  <a:pt x="4961" y="9203"/>
                </a:cubicBezTo>
                <a:cubicBezTo>
                  <a:pt x="4953" y="9211"/>
                  <a:pt x="4944" y="9219"/>
                  <a:pt x="4936" y="9227"/>
                </a:cubicBezTo>
                <a:cubicBezTo>
                  <a:pt x="5004" y="9134"/>
                  <a:pt x="5304" y="9019"/>
                  <a:pt x="5259" y="9277"/>
                </a:cubicBezTo>
                <a:cubicBezTo>
                  <a:pt x="5234" y="9422"/>
                  <a:pt x="4793" y="9739"/>
                  <a:pt x="4738" y="9475"/>
                </a:cubicBezTo>
                <a:cubicBezTo>
                  <a:pt x="4754" y="9426"/>
                  <a:pt x="4771" y="9376"/>
                  <a:pt x="4787" y="9327"/>
                </a:cubicBezTo>
              </a:path>
              <a:path w="13421" h="3002">
                <a:moveTo>
                  <a:pt x="6697" y="8706"/>
                </a:moveTo>
                <a:cubicBezTo>
                  <a:pt x="6878" y="8641"/>
                  <a:pt x="7141" y="8656"/>
                  <a:pt x="7342" y="8632"/>
                </a:cubicBezTo>
                <a:cubicBezTo>
                  <a:pt x="7475" y="8616"/>
                  <a:pt x="7693" y="8592"/>
                  <a:pt x="7367" y="8682"/>
                </a:cubicBezTo>
                <a:cubicBezTo>
                  <a:pt x="7172" y="8735"/>
                  <a:pt x="6971" y="8764"/>
                  <a:pt x="6772" y="8781"/>
                </a:cubicBezTo>
                <a:cubicBezTo>
                  <a:pt x="6707" y="8781"/>
                  <a:pt x="7184" y="8684"/>
                  <a:pt x="7193" y="8682"/>
                </a:cubicBezTo>
                <a:cubicBezTo>
                  <a:pt x="7385" y="8663"/>
                  <a:pt x="7413" y="8672"/>
                  <a:pt x="7516" y="8632"/>
                </a:cubicBezTo>
              </a:path>
              <a:path w="13421" h="3002">
                <a:moveTo>
                  <a:pt x="6945" y="8706"/>
                </a:moveTo>
                <a:cubicBezTo>
                  <a:pt x="6905" y="8706"/>
                  <a:pt x="6788" y="8708"/>
                  <a:pt x="6896" y="8682"/>
                </a:cubicBezTo>
                <a:cubicBezTo>
                  <a:pt x="7031" y="8649"/>
                  <a:pt x="7204" y="8632"/>
                  <a:pt x="7342" y="8657"/>
                </a:cubicBezTo>
                <a:cubicBezTo>
                  <a:pt x="7359" y="8665"/>
                  <a:pt x="7375" y="8674"/>
                  <a:pt x="7392" y="8682"/>
                </a:cubicBezTo>
                <a:cubicBezTo>
                  <a:pt x="7500" y="8682"/>
                  <a:pt x="7226" y="8673"/>
                  <a:pt x="7119" y="8682"/>
                </a:cubicBezTo>
                <a:cubicBezTo>
                  <a:pt x="6969" y="8694"/>
                  <a:pt x="6820" y="8710"/>
                  <a:pt x="6672" y="8731"/>
                </a:cubicBezTo>
                <a:cubicBezTo>
                  <a:pt x="6868" y="8731"/>
                  <a:pt x="7174" y="8672"/>
                  <a:pt x="7342" y="8756"/>
                </a:cubicBezTo>
              </a:path>
              <a:path w="13421" h="3002">
                <a:moveTo>
                  <a:pt x="6201" y="7689"/>
                </a:moveTo>
                <a:cubicBezTo>
                  <a:pt x="6420" y="7799"/>
                  <a:pt x="6613" y="7933"/>
                  <a:pt x="6821" y="8062"/>
                </a:cubicBezTo>
                <a:cubicBezTo>
                  <a:pt x="7096" y="8233"/>
                  <a:pt x="7343" y="8437"/>
                  <a:pt x="7615" y="8607"/>
                </a:cubicBezTo>
                <a:cubicBezTo>
                  <a:pt x="7624" y="8613"/>
                  <a:pt x="7758" y="8703"/>
                  <a:pt x="7764" y="8706"/>
                </a:cubicBezTo>
                <a:cubicBezTo>
                  <a:pt x="7772" y="8706"/>
                  <a:pt x="7781" y="8706"/>
                  <a:pt x="7789" y="8706"/>
                </a:cubicBezTo>
              </a:path>
              <a:path w="13421" h="3002">
                <a:moveTo>
                  <a:pt x="7466" y="7342"/>
                </a:moveTo>
                <a:cubicBezTo>
                  <a:pt x="7390" y="7467"/>
                  <a:pt x="7296" y="7666"/>
                  <a:pt x="7218" y="7813"/>
                </a:cubicBezTo>
                <a:cubicBezTo>
                  <a:pt x="7010" y="8202"/>
                  <a:pt x="6758" y="8565"/>
                  <a:pt x="6548" y="8954"/>
                </a:cubicBezTo>
                <a:cubicBezTo>
                  <a:pt x="6521" y="9005"/>
                  <a:pt x="6319" y="9339"/>
                  <a:pt x="6325" y="9327"/>
                </a:cubicBezTo>
                <a:cubicBezTo>
                  <a:pt x="6342" y="9302"/>
                  <a:pt x="6358" y="9277"/>
                  <a:pt x="6375" y="9252"/>
                </a:cubicBezTo>
              </a:path>
              <a:path w="13421" h="3002">
                <a:moveTo>
                  <a:pt x="6251" y="7739"/>
                </a:moveTo>
                <a:cubicBezTo>
                  <a:pt x="6245" y="7733"/>
                  <a:pt x="6193" y="7681"/>
                  <a:pt x="6226" y="7714"/>
                </a:cubicBezTo>
                <a:cubicBezTo>
                  <a:pt x="6320" y="7808"/>
                  <a:pt x="6396" y="7904"/>
                  <a:pt x="6474" y="8012"/>
                </a:cubicBezTo>
                <a:cubicBezTo>
                  <a:pt x="6556" y="8124"/>
                  <a:pt x="6672" y="8219"/>
                  <a:pt x="6747" y="8334"/>
                </a:cubicBezTo>
                <a:cubicBezTo>
                  <a:pt x="6822" y="8450"/>
                  <a:pt x="6908" y="8525"/>
                  <a:pt x="6995" y="8632"/>
                </a:cubicBezTo>
                <a:cubicBezTo>
                  <a:pt x="7065" y="8718"/>
                  <a:pt x="7150" y="8792"/>
                  <a:pt x="7243" y="8855"/>
                </a:cubicBezTo>
                <a:cubicBezTo>
                  <a:pt x="7310" y="8901"/>
                  <a:pt x="7341" y="8944"/>
                  <a:pt x="7392" y="9004"/>
                </a:cubicBezTo>
                <a:cubicBezTo>
                  <a:pt x="7412" y="9028"/>
                  <a:pt x="7405" y="9025"/>
                  <a:pt x="7417" y="9054"/>
                </a:cubicBezTo>
                <a:cubicBezTo>
                  <a:pt x="7209" y="8790"/>
                  <a:pt x="7000" y="8527"/>
                  <a:pt x="6796" y="8260"/>
                </a:cubicBezTo>
                <a:cubicBezTo>
                  <a:pt x="6709" y="8146"/>
                  <a:pt x="6629" y="8029"/>
                  <a:pt x="6548" y="7913"/>
                </a:cubicBezTo>
                <a:cubicBezTo>
                  <a:pt x="6719" y="8113"/>
                  <a:pt x="6944" y="8297"/>
                  <a:pt x="7144" y="8483"/>
                </a:cubicBezTo>
                <a:cubicBezTo>
                  <a:pt x="7293" y="8622"/>
                  <a:pt x="7359" y="8868"/>
                  <a:pt x="7516" y="8979"/>
                </a:cubicBezTo>
                <a:cubicBezTo>
                  <a:pt x="7516" y="8944"/>
                  <a:pt x="7511" y="8927"/>
                  <a:pt x="7491" y="8905"/>
                </a:cubicBezTo>
                <a:cubicBezTo>
                  <a:pt x="7209" y="8482"/>
                  <a:pt x="6884" y="8214"/>
                  <a:pt x="6524" y="7863"/>
                </a:cubicBezTo>
                <a:cubicBezTo>
                  <a:pt x="6442" y="7783"/>
                  <a:pt x="6403" y="7724"/>
                  <a:pt x="6325" y="7640"/>
                </a:cubicBezTo>
                <a:cubicBezTo>
                  <a:pt x="6632" y="8006"/>
                  <a:pt x="7004" y="8328"/>
                  <a:pt x="7293" y="8706"/>
                </a:cubicBezTo>
                <a:cubicBezTo>
                  <a:pt x="7387" y="8829"/>
                  <a:pt x="7337" y="8823"/>
                  <a:pt x="7317" y="8706"/>
                </a:cubicBezTo>
              </a:path>
              <a:path w="13421" h="3002">
                <a:moveTo>
                  <a:pt x="7565" y="7739"/>
                </a:moveTo>
                <a:cubicBezTo>
                  <a:pt x="7379" y="8012"/>
                  <a:pt x="7189" y="8258"/>
                  <a:pt x="6970" y="8508"/>
                </a:cubicBezTo>
                <a:cubicBezTo>
                  <a:pt x="6904" y="8582"/>
                  <a:pt x="6838" y="8657"/>
                  <a:pt x="6772" y="8731"/>
                </a:cubicBezTo>
                <a:cubicBezTo>
                  <a:pt x="6723" y="8783"/>
                  <a:pt x="6519" y="9020"/>
                  <a:pt x="6697" y="8806"/>
                </a:cubicBezTo>
                <a:cubicBezTo>
                  <a:pt x="6999" y="8442"/>
                  <a:pt x="7317" y="8101"/>
                  <a:pt x="7590" y="7714"/>
                </a:cubicBezTo>
                <a:cubicBezTo>
                  <a:pt x="7708" y="7547"/>
                  <a:pt x="7482" y="7914"/>
                  <a:pt x="7342" y="8062"/>
                </a:cubicBezTo>
                <a:cubicBezTo>
                  <a:pt x="7041" y="8381"/>
                  <a:pt x="6116" y="9308"/>
                  <a:pt x="6375" y="8954"/>
                </a:cubicBezTo>
                <a:cubicBezTo>
                  <a:pt x="6563" y="8698"/>
                  <a:pt x="6807" y="8408"/>
                  <a:pt x="7020" y="8161"/>
                </a:cubicBezTo>
                <a:cubicBezTo>
                  <a:pt x="7119" y="8053"/>
                  <a:pt x="7218" y="7946"/>
                  <a:pt x="7317" y="7838"/>
                </a:cubicBezTo>
                <a:cubicBezTo>
                  <a:pt x="7438" y="7683"/>
                  <a:pt x="7496" y="7694"/>
                  <a:pt x="7491" y="7590"/>
                </a:cubicBezTo>
                <a:cubicBezTo>
                  <a:pt x="7114" y="8113"/>
                  <a:pt x="6702" y="8574"/>
                  <a:pt x="6276" y="9054"/>
                </a:cubicBezTo>
                <a:cubicBezTo>
                  <a:pt x="6064" y="9293"/>
                  <a:pt x="6553" y="8688"/>
                  <a:pt x="6747" y="8434"/>
                </a:cubicBezTo>
                <a:cubicBezTo>
                  <a:pt x="7030" y="8063"/>
                  <a:pt x="7099" y="7974"/>
                  <a:pt x="7268" y="7739"/>
                </a:cubicBezTo>
                <a:cubicBezTo>
                  <a:pt x="7551" y="7313"/>
                  <a:pt x="7167" y="7856"/>
                  <a:pt x="7144" y="7888"/>
                </a:cubicBezTo>
                <a:cubicBezTo>
                  <a:pt x="7043" y="8026"/>
                  <a:pt x="6449" y="8811"/>
                  <a:pt x="6548" y="8706"/>
                </a:cubicBezTo>
              </a:path>
              <a:path w="13421" h="3002">
                <a:moveTo>
                  <a:pt x="5507" y="7342"/>
                </a:moveTo>
                <a:cubicBezTo>
                  <a:pt x="5527" y="7311"/>
                  <a:pt x="5522" y="7330"/>
                  <a:pt x="5556" y="7317"/>
                </a:cubicBezTo>
                <a:cubicBezTo>
                  <a:pt x="5631" y="7290"/>
                  <a:pt x="5698" y="7271"/>
                  <a:pt x="5779" y="7268"/>
                </a:cubicBezTo>
                <a:cubicBezTo>
                  <a:pt x="5912" y="7263"/>
                  <a:pt x="6047" y="7259"/>
                  <a:pt x="6176" y="7293"/>
                </a:cubicBezTo>
                <a:cubicBezTo>
                  <a:pt x="6282" y="7321"/>
                  <a:pt x="6397" y="7352"/>
                  <a:pt x="6499" y="7392"/>
                </a:cubicBezTo>
                <a:cubicBezTo>
                  <a:pt x="6572" y="7421"/>
                  <a:pt x="6611" y="7467"/>
                  <a:pt x="6648" y="7516"/>
                </a:cubicBezTo>
                <a:cubicBezTo>
                  <a:pt x="6736" y="7479"/>
                  <a:pt x="6825" y="7421"/>
                  <a:pt x="6921" y="7392"/>
                </a:cubicBezTo>
                <a:cubicBezTo>
                  <a:pt x="7049" y="7353"/>
                  <a:pt x="7209" y="7345"/>
                  <a:pt x="7342" y="7342"/>
                </a:cubicBezTo>
                <a:cubicBezTo>
                  <a:pt x="7609" y="7335"/>
                  <a:pt x="7899" y="7315"/>
                  <a:pt x="8161" y="7367"/>
                </a:cubicBezTo>
                <a:cubicBezTo>
                  <a:pt x="8214" y="7377"/>
                  <a:pt x="8311" y="7408"/>
                  <a:pt x="8334" y="7417"/>
                </a:cubicBezTo>
              </a:path>
              <a:path w="13421" h="3002">
                <a:moveTo>
                  <a:pt x="10765" y="8037"/>
                </a:moveTo>
                <a:cubicBezTo>
                  <a:pt x="10891" y="8037"/>
                  <a:pt x="11012" y="8017"/>
                  <a:pt x="11137" y="8012"/>
                </a:cubicBezTo>
                <a:cubicBezTo>
                  <a:pt x="11183" y="8012"/>
                  <a:pt x="11180" y="8030"/>
                  <a:pt x="11112" y="8086"/>
                </a:cubicBezTo>
              </a:path>
              <a:path w="13421" h="3002">
                <a:moveTo>
                  <a:pt x="10740" y="8235"/>
                </a:moveTo>
                <a:cubicBezTo>
                  <a:pt x="10892" y="8215"/>
                  <a:pt x="11034" y="8210"/>
                  <a:pt x="11187" y="8210"/>
                </a:cubicBezTo>
              </a:path>
              <a:path w="13421" h="3002">
                <a:moveTo>
                  <a:pt x="11187" y="8210"/>
                </a:moveTo>
                <a:lnTo>
                  <a:pt x="11187" y="8210"/>
                </a:lnTo>
              </a:path>
              <a:path w="13421" h="3002">
                <a:moveTo>
                  <a:pt x="12576" y="7367"/>
                </a:moveTo>
                <a:cubicBezTo>
                  <a:pt x="12716" y="7308"/>
                  <a:pt x="12788" y="7259"/>
                  <a:pt x="12948" y="7243"/>
                </a:cubicBezTo>
                <a:cubicBezTo>
                  <a:pt x="12999" y="7481"/>
                  <a:pt x="12918" y="7624"/>
                  <a:pt x="12675" y="7739"/>
                </a:cubicBezTo>
                <a:cubicBezTo>
                  <a:pt x="12675" y="7731"/>
                  <a:pt x="12675" y="7722"/>
                  <a:pt x="12675" y="7714"/>
                </a:cubicBezTo>
                <a:cubicBezTo>
                  <a:pt x="12802" y="7700"/>
                  <a:pt x="13167" y="7736"/>
                  <a:pt x="13047" y="7987"/>
                </a:cubicBezTo>
                <a:cubicBezTo>
                  <a:pt x="12952" y="8186"/>
                  <a:pt x="12689" y="8170"/>
                  <a:pt x="12526" y="8111"/>
                </a:cubicBezTo>
              </a:path>
              <a:path w="13421" h="3002">
                <a:moveTo>
                  <a:pt x="11857" y="8458"/>
                </a:moveTo>
                <a:cubicBezTo>
                  <a:pt x="11989" y="8491"/>
                  <a:pt x="12186" y="8504"/>
                  <a:pt x="12328" y="8508"/>
                </a:cubicBezTo>
                <a:cubicBezTo>
                  <a:pt x="12699" y="8518"/>
                  <a:pt x="13078" y="8475"/>
                  <a:pt x="13444" y="8558"/>
                </a:cubicBezTo>
                <a:cubicBezTo>
                  <a:pt x="13485" y="8578"/>
                  <a:pt x="13491" y="8586"/>
                  <a:pt x="13519" y="8582"/>
                </a:cubicBezTo>
              </a:path>
              <a:path w="13421" h="3002">
                <a:moveTo>
                  <a:pt x="5358" y="9773"/>
                </a:moveTo>
                <a:cubicBezTo>
                  <a:pt x="5424" y="9803"/>
                  <a:pt x="5503" y="9827"/>
                  <a:pt x="5581" y="9847"/>
                </a:cubicBezTo>
                <a:cubicBezTo>
                  <a:pt x="5769" y="9895"/>
                  <a:pt x="5962" y="9873"/>
                  <a:pt x="6152" y="9847"/>
                </a:cubicBezTo>
                <a:cubicBezTo>
                  <a:pt x="6345" y="9820"/>
                  <a:pt x="6488" y="9786"/>
                  <a:pt x="6648" y="9674"/>
                </a:cubicBezTo>
                <a:cubicBezTo>
                  <a:pt x="6721" y="9623"/>
                  <a:pt x="6820" y="9558"/>
                  <a:pt x="6846" y="9475"/>
                </a:cubicBezTo>
                <a:cubicBezTo>
                  <a:pt x="6846" y="9459"/>
                  <a:pt x="6846" y="9442"/>
                  <a:pt x="6846" y="9426"/>
                </a:cubicBezTo>
                <a:cubicBezTo>
                  <a:pt x="6881" y="9478"/>
                  <a:pt x="6850" y="9487"/>
                  <a:pt x="6846" y="9550"/>
                </a:cubicBezTo>
                <a:cubicBezTo>
                  <a:pt x="6840" y="9649"/>
                  <a:pt x="6849" y="9698"/>
                  <a:pt x="6945" y="9748"/>
                </a:cubicBezTo>
                <a:cubicBezTo>
                  <a:pt x="7035" y="9794"/>
                  <a:pt x="7162" y="9837"/>
                  <a:pt x="7268" y="9847"/>
                </a:cubicBezTo>
                <a:cubicBezTo>
                  <a:pt x="7413" y="9861"/>
                  <a:pt x="7573" y="9853"/>
                  <a:pt x="7714" y="9823"/>
                </a:cubicBezTo>
                <a:cubicBezTo>
                  <a:pt x="7906" y="9782"/>
                  <a:pt x="8028" y="9653"/>
                  <a:pt x="8186" y="9550"/>
                </a:cubicBezTo>
                <a:cubicBezTo>
                  <a:pt x="8208" y="9527"/>
                  <a:pt x="8213" y="9519"/>
                  <a:pt x="8235" y="9525"/>
                </a:cubicBezTo>
              </a:path>
              <a:path w="13421" h="3002">
                <a:moveTo>
                  <a:pt x="12179" y="8905"/>
                </a:moveTo>
                <a:cubicBezTo>
                  <a:pt x="12224" y="8920"/>
                  <a:pt x="12228" y="9124"/>
                  <a:pt x="12229" y="9153"/>
                </a:cubicBezTo>
                <a:cubicBezTo>
                  <a:pt x="12237" y="9301"/>
                  <a:pt x="12233" y="9297"/>
                  <a:pt x="12254" y="9401"/>
                </a:cubicBezTo>
              </a:path>
              <a:path w="13421" h="3002">
                <a:moveTo>
                  <a:pt x="12650" y="8905"/>
                </a:moveTo>
                <a:cubicBezTo>
                  <a:pt x="12712" y="8818"/>
                  <a:pt x="12784" y="8785"/>
                  <a:pt x="12898" y="8830"/>
                </a:cubicBezTo>
                <a:cubicBezTo>
                  <a:pt x="13052" y="8892"/>
                  <a:pt x="13081" y="9125"/>
                  <a:pt x="12998" y="9252"/>
                </a:cubicBezTo>
                <a:cubicBezTo>
                  <a:pt x="12921" y="9369"/>
                  <a:pt x="12628" y="9397"/>
                  <a:pt x="12526" y="9302"/>
                </a:cubicBezTo>
                <a:cubicBezTo>
                  <a:pt x="12526" y="9285"/>
                  <a:pt x="12526" y="9269"/>
                  <a:pt x="12526" y="9252"/>
                </a:cubicBezTo>
                <a:cubicBezTo>
                  <a:pt x="12621" y="9145"/>
                  <a:pt x="12752" y="9113"/>
                  <a:pt x="12898" y="9178"/>
                </a:cubicBezTo>
                <a:cubicBezTo>
                  <a:pt x="12988" y="9218"/>
                  <a:pt x="13035" y="9306"/>
                  <a:pt x="13097" y="9376"/>
                </a:cubicBezTo>
              </a:path>
              <a:path w="13421" h="3002">
                <a:moveTo>
                  <a:pt x="13444" y="7665"/>
                </a:moveTo>
                <a:cubicBezTo>
                  <a:pt x="13520" y="7660"/>
                  <a:pt x="13592" y="7650"/>
                  <a:pt x="13667" y="7640"/>
                </a:cubicBezTo>
              </a:path>
              <a:path w="13421" h="3002">
                <a:moveTo>
                  <a:pt x="13469" y="7367"/>
                </a:moveTo>
                <a:cubicBezTo>
                  <a:pt x="13477" y="7384"/>
                  <a:pt x="13486" y="7400"/>
                  <a:pt x="13494" y="7417"/>
                </a:cubicBezTo>
              </a:path>
              <a:path w="13421" h="3002">
                <a:moveTo>
                  <a:pt x="13494" y="7417"/>
                </a:moveTo>
                <a:lnTo>
                  <a:pt x="13494" y="7417"/>
                </a:lnTo>
              </a:path>
              <a:path w="13421" h="3002">
                <a:moveTo>
                  <a:pt x="13568" y="7838"/>
                </a:moveTo>
                <a:cubicBezTo>
                  <a:pt x="13585" y="7822"/>
                  <a:pt x="13601" y="7805"/>
                  <a:pt x="13618" y="7789"/>
                </a:cubicBezTo>
              </a:path>
              <a:path w="13421" h="3002">
                <a:moveTo>
                  <a:pt x="13940" y="7441"/>
                </a:moveTo>
                <a:cubicBezTo>
                  <a:pt x="13961" y="7417"/>
                  <a:pt x="14148" y="7262"/>
                  <a:pt x="14139" y="7367"/>
                </a:cubicBezTo>
                <a:cubicBezTo>
                  <a:pt x="14119" y="7444"/>
                  <a:pt x="14127" y="7462"/>
                  <a:pt x="14089" y="7491"/>
                </a:cubicBezTo>
                <a:cubicBezTo>
                  <a:pt x="14199" y="7491"/>
                  <a:pt x="14314" y="7473"/>
                  <a:pt x="14263" y="7640"/>
                </a:cubicBezTo>
                <a:cubicBezTo>
                  <a:pt x="14226" y="7759"/>
                  <a:pt x="14134" y="7773"/>
                  <a:pt x="14039" y="7789"/>
                </a:cubicBezTo>
              </a:path>
              <a:path w="13421" h="3002">
                <a:moveTo>
                  <a:pt x="13643" y="9004"/>
                </a:moveTo>
                <a:cubicBezTo>
                  <a:pt x="13661" y="9060"/>
                  <a:pt x="13814" y="8986"/>
                  <a:pt x="13866" y="8979"/>
                </a:cubicBezTo>
                <a:cubicBezTo>
                  <a:pt x="13882" y="8979"/>
                  <a:pt x="13899" y="8979"/>
                  <a:pt x="13915" y="8979"/>
                </a:cubicBezTo>
              </a:path>
              <a:path w="13421" h="3002">
                <a:moveTo>
                  <a:pt x="13643" y="8806"/>
                </a:moveTo>
                <a:cubicBezTo>
                  <a:pt x="13643" y="8814"/>
                  <a:pt x="13643" y="8822"/>
                  <a:pt x="13643" y="8830"/>
                </a:cubicBezTo>
              </a:path>
              <a:path w="13421" h="3002">
                <a:moveTo>
                  <a:pt x="13643" y="8830"/>
                </a:moveTo>
                <a:lnTo>
                  <a:pt x="13643" y="8830"/>
                </a:lnTo>
              </a:path>
              <a:path w="13421" h="3002">
                <a:moveTo>
                  <a:pt x="13816" y="9277"/>
                </a:moveTo>
                <a:lnTo>
                  <a:pt x="13816" y="9277"/>
                </a:lnTo>
              </a:path>
              <a:path w="13421" h="3002">
                <a:moveTo>
                  <a:pt x="14188" y="8905"/>
                </a:moveTo>
                <a:cubicBezTo>
                  <a:pt x="14219" y="8884"/>
                  <a:pt x="14341" y="8799"/>
                  <a:pt x="14337" y="8905"/>
                </a:cubicBezTo>
                <a:cubicBezTo>
                  <a:pt x="14334" y="8977"/>
                  <a:pt x="14313" y="9029"/>
                  <a:pt x="14263" y="9054"/>
                </a:cubicBezTo>
                <a:cubicBezTo>
                  <a:pt x="14360" y="9054"/>
                  <a:pt x="14444" y="9031"/>
                  <a:pt x="14436" y="9153"/>
                </a:cubicBezTo>
                <a:cubicBezTo>
                  <a:pt x="14426" y="9312"/>
                  <a:pt x="14332" y="9304"/>
                  <a:pt x="14213" y="9327"/>
                </a:cubicBezTo>
              </a:path>
              <a:path w="13421" h="3002">
                <a:moveTo>
                  <a:pt x="14858" y="8409"/>
                </a:moveTo>
                <a:cubicBezTo>
                  <a:pt x="14933" y="8409"/>
                  <a:pt x="14994" y="8407"/>
                  <a:pt x="15056" y="8434"/>
                </a:cubicBezTo>
              </a:path>
              <a:path w="13421" h="3002">
                <a:moveTo>
                  <a:pt x="14808" y="8607"/>
                </a:moveTo>
                <a:cubicBezTo>
                  <a:pt x="14899" y="8562"/>
                  <a:pt x="14982" y="8537"/>
                  <a:pt x="15081" y="8508"/>
                </a:cubicBezTo>
              </a:path>
              <a:path w="13421" h="3002">
                <a:moveTo>
                  <a:pt x="15081" y="8508"/>
                </a:moveTo>
                <a:lnTo>
                  <a:pt x="15081" y="8508"/>
                </a:lnTo>
              </a:path>
              <a:path w="13421" h="3002">
                <a:moveTo>
                  <a:pt x="16619" y="7293"/>
                </a:moveTo>
                <a:cubicBezTo>
                  <a:pt x="16619" y="7190"/>
                  <a:pt x="16655" y="7439"/>
                  <a:pt x="16669" y="7541"/>
                </a:cubicBezTo>
                <a:cubicBezTo>
                  <a:pt x="16684" y="7656"/>
                  <a:pt x="16704" y="7774"/>
                  <a:pt x="16718" y="7888"/>
                </a:cubicBezTo>
              </a:path>
              <a:path w="13421" h="3002">
                <a:moveTo>
                  <a:pt x="16272" y="8359"/>
                </a:moveTo>
                <a:cubicBezTo>
                  <a:pt x="16538" y="8359"/>
                  <a:pt x="16779" y="8311"/>
                  <a:pt x="17041" y="8285"/>
                </a:cubicBezTo>
                <a:cubicBezTo>
                  <a:pt x="17084" y="8281"/>
                  <a:pt x="17247" y="8259"/>
                  <a:pt x="17264" y="8310"/>
                </a:cubicBezTo>
              </a:path>
              <a:path w="13421" h="3002">
                <a:moveTo>
                  <a:pt x="16570" y="8706"/>
                </a:moveTo>
                <a:cubicBezTo>
                  <a:pt x="16584" y="8791"/>
                  <a:pt x="16594" y="8866"/>
                  <a:pt x="16594" y="8954"/>
                </a:cubicBezTo>
                <a:cubicBezTo>
                  <a:pt x="16594" y="8962"/>
                  <a:pt x="16594" y="8971"/>
                  <a:pt x="16594" y="8979"/>
                </a:cubicBezTo>
                <a:cubicBezTo>
                  <a:pt x="16714" y="8943"/>
                  <a:pt x="16819" y="8952"/>
                  <a:pt x="16942" y="8979"/>
                </a:cubicBezTo>
              </a:path>
              <a:path w="13421" h="3002">
                <a:moveTo>
                  <a:pt x="16867" y="8657"/>
                </a:moveTo>
                <a:cubicBezTo>
                  <a:pt x="16867" y="8807"/>
                  <a:pt x="16907" y="8954"/>
                  <a:pt x="16917" y="9103"/>
                </a:cubicBezTo>
                <a:cubicBezTo>
                  <a:pt x="16922" y="9176"/>
                  <a:pt x="16917" y="9253"/>
                  <a:pt x="16917" y="9327"/>
                </a:cubicBezTo>
              </a:path>
              <a:path w="13421" h="3002">
                <a:moveTo>
                  <a:pt x="17338" y="7317"/>
                </a:moveTo>
                <a:cubicBezTo>
                  <a:pt x="17320" y="7270"/>
                  <a:pt x="17295" y="7184"/>
                  <a:pt x="17264" y="7144"/>
                </a:cubicBezTo>
                <a:cubicBezTo>
                  <a:pt x="17197" y="7058"/>
                  <a:pt x="17113" y="6987"/>
                  <a:pt x="17016" y="6945"/>
                </a:cubicBezTo>
                <a:cubicBezTo>
                  <a:pt x="16923" y="6905"/>
                  <a:pt x="16844" y="6874"/>
                  <a:pt x="16743" y="6871"/>
                </a:cubicBezTo>
                <a:cubicBezTo>
                  <a:pt x="16622" y="6867"/>
                  <a:pt x="16488" y="6873"/>
                  <a:pt x="16371" y="6896"/>
                </a:cubicBezTo>
                <a:cubicBezTo>
                  <a:pt x="16247" y="6920"/>
                  <a:pt x="16126" y="7025"/>
                  <a:pt x="16024" y="7094"/>
                </a:cubicBezTo>
                <a:cubicBezTo>
                  <a:pt x="15943" y="7149"/>
                  <a:pt x="15842" y="7249"/>
                  <a:pt x="15801" y="7342"/>
                </a:cubicBezTo>
                <a:cubicBezTo>
                  <a:pt x="15730" y="7503"/>
                  <a:pt x="15705" y="7716"/>
                  <a:pt x="15701" y="7888"/>
                </a:cubicBezTo>
                <a:cubicBezTo>
                  <a:pt x="15697" y="8055"/>
                  <a:pt x="15671" y="8192"/>
                  <a:pt x="15701" y="8359"/>
                </a:cubicBezTo>
                <a:cubicBezTo>
                  <a:pt x="15732" y="8532"/>
                  <a:pt x="15760" y="8712"/>
                  <a:pt x="15801" y="8880"/>
                </a:cubicBezTo>
                <a:cubicBezTo>
                  <a:pt x="15842" y="9048"/>
                  <a:pt x="15904" y="9209"/>
                  <a:pt x="15949" y="9376"/>
                </a:cubicBezTo>
                <a:cubicBezTo>
                  <a:pt x="15969" y="9451"/>
                  <a:pt x="16000" y="9534"/>
                  <a:pt x="16049" y="9599"/>
                </a:cubicBezTo>
                <a:cubicBezTo>
                  <a:pt x="16101" y="9668"/>
                  <a:pt x="16211" y="9741"/>
                  <a:pt x="16297" y="9773"/>
                </a:cubicBezTo>
                <a:cubicBezTo>
                  <a:pt x="16425" y="9821"/>
                  <a:pt x="16586" y="9831"/>
                  <a:pt x="16718" y="9798"/>
                </a:cubicBezTo>
                <a:cubicBezTo>
                  <a:pt x="16821" y="9772"/>
                  <a:pt x="17022" y="9758"/>
                  <a:pt x="17115" y="9699"/>
                </a:cubicBezTo>
                <a:cubicBezTo>
                  <a:pt x="17247" y="9615"/>
                  <a:pt x="17336" y="9515"/>
                  <a:pt x="17413" y="9376"/>
                </a:cubicBezTo>
                <a:cubicBezTo>
                  <a:pt x="17472" y="9271"/>
                  <a:pt x="17513" y="9164"/>
                  <a:pt x="17537" y="9054"/>
                </a:cubicBezTo>
                <a:cubicBezTo>
                  <a:pt x="17565" y="8928"/>
                  <a:pt x="17562" y="8812"/>
                  <a:pt x="17562" y="8682"/>
                </a:cubicBezTo>
                <a:cubicBezTo>
                  <a:pt x="17562" y="8578"/>
                  <a:pt x="17558" y="8483"/>
                  <a:pt x="17537" y="8384"/>
                </a:cubicBezTo>
                <a:cubicBezTo>
                  <a:pt x="17521" y="8307"/>
                  <a:pt x="17490" y="8235"/>
                  <a:pt x="17462" y="8161"/>
                </a:cubicBezTo>
                <a:cubicBezTo>
                  <a:pt x="17434" y="8086"/>
                  <a:pt x="17410" y="8011"/>
                  <a:pt x="17388" y="7938"/>
                </a:cubicBezTo>
                <a:cubicBezTo>
                  <a:pt x="17376" y="7898"/>
                  <a:pt x="17365" y="7887"/>
                  <a:pt x="17363" y="7838"/>
                </a:cubicBezTo>
                <a:cubicBezTo>
                  <a:pt x="17360" y="7733"/>
                  <a:pt x="17379" y="7638"/>
                  <a:pt x="17388" y="7541"/>
                </a:cubicBezTo>
                <a:cubicBezTo>
                  <a:pt x="17395" y="7468"/>
                  <a:pt x="17376" y="7401"/>
                  <a:pt x="17363" y="7342"/>
                </a:cubicBezTo>
                <a:cubicBezTo>
                  <a:pt x="17352" y="7291"/>
                  <a:pt x="17338" y="7275"/>
                  <a:pt x="17314" y="7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5080" y="2536920"/>
            <a:ext cx="223920" cy="776160"/>
          </a:xfrm>
          <a:custGeom>
            <a:avLst/>
            <a:gdLst/>
            <a:ahLst/>
            <a:rect l="l" t="t" r="r" b="b"/>
            <a:pathLst>
              <a:path w="621" h="2159">
                <a:moveTo>
                  <a:pt x="9128" y="7193"/>
                </a:moveTo>
                <a:cubicBezTo>
                  <a:pt x="9158" y="7134"/>
                  <a:pt x="9377" y="6950"/>
                  <a:pt x="9451" y="7045"/>
                </a:cubicBezTo>
                <a:cubicBezTo>
                  <a:pt x="9561" y="7185"/>
                  <a:pt x="9267" y="7380"/>
                  <a:pt x="9203" y="7441"/>
                </a:cubicBezTo>
                <a:cubicBezTo>
                  <a:pt x="9186" y="7449"/>
                  <a:pt x="9170" y="7458"/>
                  <a:pt x="9153" y="7466"/>
                </a:cubicBezTo>
                <a:cubicBezTo>
                  <a:pt x="9207" y="7340"/>
                  <a:pt x="9405" y="7385"/>
                  <a:pt x="9451" y="7541"/>
                </a:cubicBezTo>
                <a:cubicBezTo>
                  <a:pt x="9518" y="7770"/>
                  <a:pt x="9063" y="7945"/>
                  <a:pt x="8905" y="7913"/>
                </a:cubicBezTo>
                <a:cubicBezTo>
                  <a:pt x="8913" y="7896"/>
                  <a:pt x="8922" y="7880"/>
                  <a:pt x="8930" y="7863"/>
                </a:cubicBezTo>
              </a:path>
              <a:path w="621" h="2159">
                <a:moveTo>
                  <a:pt x="9475" y="8632"/>
                </a:moveTo>
                <a:cubicBezTo>
                  <a:pt x="9370" y="8632"/>
                  <a:pt x="9281" y="8652"/>
                  <a:pt x="9178" y="8657"/>
                </a:cubicBezTo>
                <a:cubicBezTo>
                  <a:pt x="9170" y="8657"/>
                  <a:pt x="9161" y="8657"/>
                  <a:pt x="9153" y="8657"/>
                </a:cubicBezTo>
              </a:path>
              <a:path w="621" h="2159">
                <a:moveTo>
                  <a:pt x="9153" y="8657"/>
                </a:moveTo>
                <a:lnTo>
                  <a:pt x="9153" y="8657"/>
                </a:lnTo>
              </a:path>
              <a:path w="621" h="2159">
                <a:moveTo>
                  <a:pt x="9153" y="8657"/>
                </a:moveTo>
                <a:cubicBezTo>
                  <a:pt x="9141" y="8585"/>
                  <a:pt x="9151" y="8600"/>
                  <a:pt x="9079" y="8632"/>
                </a:cubicBezTo>
              </a:path>
              <a:path w="621" h="2159">
                <a:moveTo>
                  <a:pt x="8979" y="8409"/>
                </a:moveTo>
                <a:cubicBezTo>
                  <a:pt x="9047" y="8544"/>
                  <a:pt x="9054" y="8630"/>
                  <a:pt x="9054" y="8781"/>
                </a:cubicBezTo>
                <a:cubicBezTo>
                  <a:pt x="9054" y="8789"/>
                  <a:pt x="9054" y="8798"/>
                  <a:pt x="9054" y="8806"/>
                </a:cubicBezTo>
                <a:cubicBezTo>
                  <a:pt x="9184" y="8780"/>
                  <a:pt x="9258" y="8721"/>
                  <a:pt x="9401" y="8706"/>
                </a:cubicBezTo>
                <a:cubicBezTo>
                  <a:pt x="9426" y="8706"/>
                  <a:pt x="9434" y="8706"/>
                  <a:pt x="9451" y="8706"/>
                </a:cubicBezTo>
                <a:cubicBezTo>
                  <a:pt x="9451" y="8555"/>
                  <a:pt x="9443" y="8430"/>
                  <a:pt x="9401" y="8285"/>
                </a:cubicBezTo>
                <a:cubicBezTo>
                  <a:pt x="9421" y="8524"/>
                  <a:pt x="9466" y="8766"/>
                  <a:pt x="9500" y="9004"/>
                </a:cubicBezTo>
                <a:cubicBezTo>
                  <a:pt x="9519" y="9120"/>
                  <a:pt x="9528" y="9136"/>
                  <a:pt x="9525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67760" y="214200"/>
            <a:ext cx="1177920" cy="965160"/>
          </a:xfrm>
          <a:custGeom>
            <a:avLst/>
            <a:gdLst/>
            <a:ahLst/>
            <a:rect l="l" t="t" r="r" b="b"/>
            <a:pathLst>
              <a:path w="3275" h="2680">
                <a:moveTo>
                  <a:pt x="20662" y="769"/>
                </a:moveTo>
                <a:cubicBezTo>
                  <a:pt x="20634" y="731"/>
                  <a:pt x="20604" y="721"/>
                  <a:pt x="20638" y="695"/>
                </a:cubicBezTo>
                <a:cubicBezTo>
                  <a:pt x="20755" y="605"/>
                  <a:pt x="20817" y="630"/>
                  <a:pt x="20935" y="670"/>
                </a:cubicBezTo>
                <a:cubicBezTo>
                  <a:pt x="20935" y="836"/>
                  <a:pt x="20855" y="960"/>
                  <a:pt x="20662" y="992"/>
                </a:cubicBezTo>
                <a:cubicBezTo>
                  <a:pt x="20670" y="984"/>
                  <a:pt x="20679" y="975"/>
                  <a:pt x="20687" y="967"/>
                </a:cubicBezTo>
                <a:cubicBezTo>
                  <a:pt x="20900" y="959"/>
                  <a:pt x="21197" y="1007"/>
                  <a:pt x="20910" y="1265"/>
                </a:cubicBezTo>
                <a:cubicBezTo>
                  <a:pt x="20728" y="1429"/>
                  <a:pt x="20504" y="1453"/>
                  <a:pt x="20489" y="1215"/>
                </a:cubicBezTo>
              </a:path>
              <a:path w="3275" h="2680">
                <a:moveTo>
                  <a:pt x="21208" y="843"/>
                </a:moveTo>
                <a:cubicBezTo>
                  <a:pt x="21271" y="759"/>
                  <a:pt x="21441" y="1024"/>
                  <a:pt x="21530" y="1116"/>
                </a:cubicBezTo>
                <a:cubicBezTo>
                  <a:pt x="21677" y="1267"/>
                  <a:pt x="21589" y="1133"/>
                  <a:pt x="21555" y="1067"/>
                </a:cubicBezTo>
              </a:path>
              <a:path w="3275" h="2680">
                <a:moveTo>
                  <a:pt x="21530" y="819"/>
                </a:moveTo>
                <a:cubicBezTo>
                  <a:pt x="21495" y="947"/>
                  <a:pt x="21470" y="1135"/>
                  <a:pt x="21382" y="1240"/>
                </a:cubicBezTo>
                <a:cubicBezTo>
                  <a:pt x="21382" y="1175"/>
                  <a:pt x="21402" y="1133"/>
                  <a:pt x="21456" y="1091"/>
                </a:cubicBezTo>
              </a:path>
              <a:path w="3275" h="2680">
                <a:moveTo>
                  <a:pt x="21456" y="1091"/>
                </a:moveTo>
                <a:lnTo>
                  <a:pt x="21456" y="1091"/>
                </a:lnTo>
              </a:path>
              <a:path w="3275" h="2680">
                <a:moveTo>
                  <a:pt x="21803" y="670"/>
                </a:moveTo>
                <a:cubicBezTo>
                  <a:pt x="21795" y="670"/>
                  <a:pt x="21787" y="670"/>
                  <a:pt x="21779" y="670"/>
                </a:cubicBezTo>
                <a:cubicBezTo>
                  <a:pt x="21854" y="624"/>
                  <a:pt x="21984" y="610"/>
                  <a:pt x="22076" y="595"/>
                </a:cubicBezTo>
                <a:cubicBezTo>
                  <a:pt x="22101" y="595"/>
                  <a:pt x="22109" y="595"/>
                  <a:pt x="22126" y="595"/>
                </a:cubicBezTo>
                <a:cubicBezTo>
                  <a:pt x="22151" y="746"/>
                  <a:pt x="22173" y="830"/>
                  <a:pt x="22151" y="992"/>
                </a:cubicBezTo>
                <a:cubicBezTo>
                  <a:pt x="22140" y="1075"/>
                  <a:pt x="22063" y="1166"/>
                  <a:pt x="22151" y="1166"/>
                </a:cubicBezTo>
              </a:path>
              <a:path w="3275" h="2680">
                <a:moveTo>
                  <a:pt x="21332" y="1463"/>
                </a:moveTo>
                <a:cubicBezTo>
                  <a:pt x="21358" y="1438"/>
                  <a:pt x="21517" y="1396"/>
                  <a:pt x="21580" y="1389"/>
                </a:cubicBezTo>
                <a:cubicBezTo>
                  <a:pt x="21654" y="1389"/>
                  <a:pt x="21663" y="1389"/>
                  <a:pt x="21704" y="1389"/>
                </a:cubicBezTo>
                <a:cubicBezTo>
                  <a:pt x="21592" y="1464"/>
                  <a:pt x="21484" y="1441"/>
                  <a:pt x="21357" y="1463"/>
                </a:cubicBezTo>
                <a:cubicBezTo>
                  <a:pt x="21299" y="1482"/>
                  <a:pt x="21293" y="1491"/>
                  <a:pt x="21258" y="1488"/>
                </a:cubicBezTo>
                <a:cubicBezTo>
                  <a:pt x="21370" y="1511"/>
                  <a:pt x="21435" y="1499"/>
                  <a:pt x="21555" y="1488"/>
                </a:cubicBezTo>
                <a:cubicBezTo>
                  <a:pt x="21594" y="1485"/>
                  <a:pt x="21639" y="1488"/>
                  <a:pt x="21679" y="1488"/>
                </a:cubicBezTo>
              </a:path>
              <a:path w="3275" h="2680">
                <a:moveTo>
                  <a:pt x="21307" y="1588"/>
                </a:moveTo>
                <a:cubicBezTo>
                  <a:pt x="21415" y="1588"/>
                  <a:pt x="21522" y="1588"/>
                  <a:pt x="21630" y="1588"/>
                </a:cubicBezTo>
              </a:path>
              <a:path w="3275" h="2680">
                <a:moveTo>
                  <a:pt x="21630" y="1588"/>
                </a:moveTo>
                <a:lnTo>
                  <a:pt x="21630" y="1588"/>
                </a:lnTo>
              </a:path>
              <a:path w="3275" h="2680">
                <a:moveTo>
                  <a:pt x="21580" y="1811"/>
                </a:moveTo>
                <a:cubicBezTo>
                  <a:pt x="21605" y="1811"/>
                  <a:pt x="21613" y="1811"/>
                  <a:pt x="21605" y="1786"/>
                </a:cubicBezTo>
                <a:cubicBezTo>
                  <a:pt x="21622" y="1919"/>
                  <a:pt x="21669" y="2068"/>
                  <a:pt x="21779" y="2158"/>
                </a:cubicBezTo>
                <a:cubicBezTo>
                  <a:pt x="21831" y="2200"/>
                  <a:pt x="21915" y="2183"/>
                  <a:pt x="21977" y="2183"/>
                </a:cubicBezTo>
                <a:cubicBezTo>
                  <a:pt x="22051" y="2183"/>
                  <a:pt x="22036" y="2167"/>
                  <a:pt x="22101" y="2183"/>
                </a:cubicBezTo>
              </a:path>
              <a:path w="3275" h="2680">
                <a:moveTo>
                  <a:pt x="22151" y="2555"/>
                </a:moveTo>
                <a:cubicBezTo>
                  <a:pt x="22082" y="2466"/>
                  <a:pt x="22115" y="2493"/>
                  <a:pt x="22027" y="2456"/>
                </a:cubicBezTo>
                <a:cubicBezTo>
                  <a:pt x="22012" y="2477"/>
                  <a:pt x="21825" y="2782"/>
                  <a:pt x="21977" y="2753"/>
                </a:cubicBezTo>
                <a:cubicBezTo>
                  <a:pt x="22057" y="2700"/>
                  <a:pt x="22086" y="2677"/>
                  <a:pt x="22101" y="2604"/>
                </a:cubicBezTo>
                <a:cubicBezTo>
                  <a:pt x="22101" y="2588"/>
                  <a:pt x="22101" y="2571"/>
                  <a:pt x="22101" y="2555"/>
                </a:cubicBezTo>
                <a:cubicBezTo>
                  <a:pt x="22142" y="2651"/>
                  <a:pt x="22260" y="2734"/>
                  <a:pt x="22299" y="2828"/>
                </a:cubicBezTo>
                <a:cubicBezTo>
                  <a:pt x="22291" y="2828"/>
                  <a:pt x="22283" y="2828"/>
                  <a:pt x="22275" y="2828"/>
                </a:cubicBezTo>
              </a:path>
              <a:path w="3275" h="2680">
                <a:moveTo>
                  <a:pt x="22250" y="2505"/>
                </a:moveTo>
                <a:cubicBezTo>
                  <a:pt x="22264" y="2577"/>
                  <a:pt x="22290" y="2636"/>
                  <a:pt x="22324" y="2704"/>
                </a:cubicBezTo>
                <a:cubicBezTo>
                  <a:pt x="22310" y="2619"/>
                  <a:pt x="22238" y="2516"/>
                  <a:pt x="22299" y="2431"/>
                </a:cubicBezTo>
                <a:cubicBezTo>
                  <a:pt x="22345" y="2367"/>
                  <a:pt x="22409" y="2322"/>
                  <a:pt x="22473" y="2282"/>
                </a:cubicBezTo>
              </a:path>
              <a:path w="3275" h="2680">
                <a:moveTo>
                  <a:pt x="22498" y="2282"/>
                </a:moveTo>
                <a:cubicBezTo>
                  <a:pt x="22498" y="2401"/>
                  <a:pt x="22491" y="2460"/>
                  <a:pt x="22547" y="2555"/>
                </a:cubicBezTo>
                <a:cubicBezTo>
                  <a:pt x="22607" y="2535"/>
                  <a:pt x="22826" y="2369"/>
                  <a:pt x="22671" y="2282"/>
                </a:cubicBezTo>
                <a:cubicBezTo>
                  <a:pt x="22597" y="2282"/>
                  <a:pt x="22588" y="2282"/>
                  <a:pt x="22547" y="2282"/>
                </a:cubicBezTo>
              </a:path>
              <a:path w="3275" h="2680">
                <a:moveTo>
                  <a:pt x="22547" y="2282"/>
                </a:moveTo>
                <a:lnTo>
                  <a:pt x="22547" y="2282"/>
                </a:lnTo>
              </a:path>
              <a:path w="3275" h="2680">
                <a:moveTo>
                  <a:pt x="22746" y="2183"/>
                </a:moveTo>
                <a:cubicBezTo>
                  <a:pt x="22756" y="2317"/>
                  <a:pt x="22774" y="2359"/>
                  <a:pt x="22870" y="2456"/>
                </a:cubicBezTo>
                <a:cubicBezTo>
                  <a:pt x="22913" y="2377"/>
                  <a:pt x="22950" y="2203"/>
                  <a:pt x="22969" y="2208"/>
                </a:cubicBezTo>
                <a:cubicBezTo>
                  <a:pt x="23172" y="2268"/>
                  <a:pt x="23224" y="2230"/>
                  <a:pt x="23242" y="2034"/>
                </a:cubicBezTo>
                <a:cubicBezTo>
                  <a:pt x="23253" y="1909"/>
                  <a:pt x="23268" y="2089"/>
                  <a:pt x="23316" y="2208"/>
                </a:cubicBezTo>
                <a:cubicBezTo>
                  <a:pt x="23356" y="2308"/>
                  <a:pt x="23349" y="2338"/>
                  <a:pt x="23416" y="2356"/>
                </a:cubicBezTo>
                <a:cubicBezTo>
                  <a:pt x="23338" y="2192"/>
                  <a:pt x="23198" y="1945"/>
                  <a:pt x="23316" y="1761"/>
                </a:cubicBezTo>
                <a:cubicBezTo>
                  <a:pt x="23341" y="1753"/>
                  <a:pt x="23366" y="1744"/>
                  <a:pt x="23391" y="1736"/>
                </a:cubicBezTo>
                <a:cubicBezTo>
                  <a:pt x="23492" y="1850"/>
                  <a:pt x="23500" y="1989"/>
                  <a:pt x="23316" y="2059"/>
                </a:cubicBezTo>
                <a:cubicBezTo>
                  <a:pt x="23216" y="2059"/>
                  <a:pt x="23196" y="2034"/>
                  <a:pt x="23267" y="1910"/>
                </a:cubicBezTo>
              </a:path>
              <a:path w="3275" h="2680">
                <a:moveTo>
                  <a:pt x="23564" y="1588"/>
                </a:moveTo>
                <a:cubicBezTo>
                  <a:pt x="23518" y="1634"/>
                  <a:pt x="23504" y="1646"/>
                  <a:pt x="23490" y="1687"/>
                </a:cubicBezTo>
                <a:cubicBezTo>
                  <a:pt x="23451" y="1687"/>
                  <a:pt x="23657" y="1736"/>
                  <a:pt x="23688" y="1761"/>
                </a:cubicBezTo>
                <a:cubicBezTo>
                  <a:pt x="23857" y="1899"/>
                  <a:pt x="23606" y="2033"/>
                  <a:pt x="23515" y="2084"/>
                </a:cubicBezTo>
              </a:path>
              <a:path w="3275" h="2680">
                <a:moveTo>
                  <a:pt x="23515" y="2084"/>
                </a:moveTo>
                <a:lnTo>
                  <a:pt x="23515" y="2084"/>
                </a:lnTo>
              </a:path>
              <a:path w="3275" h="2680">
                <a:moveTo>
                  <a:pt x="22944" y="2679"/>
                </a:moveTo>
                <a:cubicBezTo>
                  <a:pt x="22944" y="2731"/>
                  <a:pt x="22928" y="2777"/>
                  <a:pt x="22920" y="2828"/>
                </a:cubicBezTo>
                <a:cubicBezTo>
                  <a:pt x="23087" y="2816"/>
                  <a:pt x="23152" y="2816"/>
                  <a:pt x="23192" y="2654"/>
                </a:cubicBezTo>
                <a:cubicBezTo>
                  <a:pt x="23108" y="2641"/>
                  <a:pt x="23055" y="2645"/>
                  <a:pt x="22969" y="2654"/>
                </a:cubicBezTo>
              </a:path>
              <a:path w="3275" h="2680">
                <a:moveTo>
                  <a:pt x="23192" y="2307"/>
                </a:moveTo>
                <a:cubicBezTo>
                  <a:pt x="23192" y="2424"/>
                  <a:pt x="23226" y="2529"/>
                  <a:pt x="23292" y="2629"/>
                </a:cubicBezTo>
                <a:cubicBezTo>
                  <a:pt x="23329" y="2685"/>
                  <a:pt x="23378" y="2692"/>
                  <a:pt x="23341" y="2729"/>
                </a:cubicBezTo>
              </a:path>
              <a:path w="3275" h="2680">
                <a:moveTo>
                  <a:pt x="23093" y="2629"/>
                </a:moveTo>
                <a:cubicBezTo>
                  <a:pt x="23209" y="2571"/>
                  <a:pt x="23318" y="2521"/>
                  <a:pt x="23440" y="2480"/>
                </a:cubicBezTo>
              </a:path>
              <a:path w="3275" h="2680">
                <a:moveTo>
                  <a:pt x="23440" y="2480"/>
                </a:moveTo>
                <a:lnTo>
                  <a:pt x="23440" y="2480"/>
                </a:lnTo>
              </a:path>
              <a:path w="3275" h="2680">
                <a:moveTo>
                  <a:pt x="23068" y="2977"/>
                </a:moveTo>
                <a:cubicBezTo>
                  <a:pt x="23169" y="2902"/>
                  <a:pt x="23409" y="2723"/>
                  <a:pt x="23540" y="2729"/>
                </a:cubicBezTo>
                <a:cubicBezTo>
                  <a:pt x="23540" y="2745"/>
                  <a:pt x="23540" y="2762"/>
                  <a:pt x="23540" y="2778"/>
                </a:cubicBezTo>
              </a:path>
              <a:path w="3275" h="2680">
                <a:moveTo>
                  <a:pt x="23044" y="3175"/>
                </a:moveTo>
                <a:cubicBezTo>
                  <a:pt x="23190" y="3102"/>
                  <a:pt x="23358" y="2958"/>
                  <a:pt x="23515" y="2927"/>
                </a:cubicBezTo>
                <a:cubicBezTo>
                  <a:pt x="23507" y="2935"/>
                  <a:pt x="23498" y="2944"/>
                  <a:pt x="23490" y="2952"/>
                </a:cubicBezTo>
              </a:path>
              <a:path w="3275" h="2680">
                <a:moveTo>
                  <a:pt x="23490" y="2952"/>
                </a:moveTo>
                <a:lnTo>
                  <a:pt x="23490" y="2952"/>
                </a:lnTo>
              </a:path>
              <a:path w="3275" h="2680">
                <a:moveTo>
                  <a:pt x="23143" y="3274"/>
                </a:moveTo>
                <a:cubicBezTo>
                  <a:pt x="23253" y="3219"/>
                  <a:pt x="23368" y="3144"/>
                  <a:pt x="23490" y="3125"/>
                </a:cubicBezTo>
                <a:cubicBezTo>
                  <a:pt x="23498" y="3125"/>
                  <a:pt x="23507" y="3125"/>
                  <a:pt x="23515" y="3125"/>
                </a:cubicBezTo>
              </a:path>
              <a:path w="3275" h="2680">
                <a:moveTo>
                  <a:pt x="23639" y="2505"/>
                </a:moveTo>
                <a:cubicBezTo>
                  <a:pt x="23663" y="2435"/>
                  <a:pt x="23643" y="2415"/>
                  <a:pt x="23639" y="2381"/>
                </a:cubicBezTo>
                <a:cubicBezTo>
                  <a:pt x="23635" y="2340"/>
                  <a:pt x="23595" y="2276"/>
                  <a:pt x="23540" y="2257"/>
                </a:cubicBezTo>
                <a:cubicBezTo>
                  <a:pt x="23496" y="2242"/>
                  <a:pt x="23439" y="2192"/>
                  <a:pt x="23391" y="2183"/>
                </a:cubicBezTo>
                <a:cubicBezTo>
                  <a:pt x="23302" y="2167"/>
                  <a:pt x="23202" y="2184"/>
                  <a:pt x="23118" y="2208"/>
                </a:cubicBezTo>
                <a:cubicBezTo>
                  <a:pt x="23074" y="2220"/>
                  <a:pt x="23033" y="2242"/>
                  <a:pt x="22994" y="2257"/>
                </a:cubicBezTo>
                <a:cubicBezTo>
                  <a:pt x="22945" y="2276"/>
                  <a:pt x="22889" y="2296"/>
                  <a:pt x="22845" y="2332"/>
                </a:cubicBezTo>
                <a:cubicBezTo>
                  <a:pt x="22778" y="2387"/>
                  <a:pt x="22752" y="2468"/>
                  <a:pt x="22696" y="2530"/>
                </a:cubicBezTo>
                <a:cubicBezTo>
                  <a:pt x="22645" y="2586"/>
                  <a:pt x="22650" y="2702"/>
                  <a:pt x="22647" y="2778"/>
                </a:cubicBezTo>
                <a:cubicBezTo>
                  <a:pt x="22644" y="2848"/>
                  <a:pt x="22678" y="2950"/>
                  <a:pt x="22721" y="3001"/>
                </a:cubicBezTo>
                <a:cubicBezTo>
                  <a:pt x="22784" y="3077"/>
                  <a:pt x="22897" y="3136"/>
                  <a:pt x="22994" y="3150"/>
                </a:cubicBezTo>
                <a:cubicBezTo>
                  <a:pt x="23134" y="3170"/>
                  <a:pt x="23282" y="3138"/>
                  <a:pt x="23416" y="3101"/>
                </a:cubicBezTo>
                <a:cubicBezTo>
                  <a:pt x="23542" y="3066"/>
                  <a:pt x="23596" y="2956"/>
                  <a:pt x="23664" y="2853"/>
                </a:cubicBezTo>
                <a:cubicBezTo>
                  <a:pt x="23701" y="2797"/>
                  <a:pt x="23765" y="2703"/>
                  <a:pt x="23738" y="2629"/>
                </a:cubicBezTo>
                <a:cubicBezTo>
                  <a:pt x="23702" y="2530"/>
                  <a:pt x="23631" y="2555"/>
                  <a:pt x="23614" y="2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multiply fra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523880" y="2133720"/>
                <a:ext cx="7621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841320" y="3300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23880" y="3073320"/>
                <a:ext cx="7621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-224280" y="4495680"/>
            <a:ext cx="967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thirds of the school is participating in the pump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st this week.  If one eight of the two thirds wins a prize,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ion of the school will win priz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7840" y="1928880"/>
            <a:ext cx="965160" cy="1946160"/>
          </a:xfrm>
          <a:custGeom>
            <a:avLst/>
            <a:gdLst/>
            <a:ahLst/>
            <a:rect l="l" t="t" r="r" b="b"/>
            <a:pathLst>
              <a:path w="2680" h="5408">
                <a:moveTo>
                  <a:pt x="7069" y="6896"/>
                </a:moveTo>
                <a:cubicBezTo>
                  <a:pt x="7152" y="6896"/>
                  <a:pt x="7234" y="6896"/>
                  <a:pt x="7317" y="6896"/>
                </a:cubicBezTo>
              </a:path>
              <a:path w="2680" h="5408">
                <a:moveTo>
                  <a:pt x="7094" y="7094"/>
                </a:moveTo>
                <a:cubicBezTo>
                  <a:pt x="7165" y="7076"/>
                  <a:pt x="7220" y="7069"/>
                  <a:pt x="7293" y="7069"/>
                </a:cubicBezTo>
              </a:path>
              <a:path w="2680" h="5408">
                <a:moveTo>
                  <a:pt x="7293" y="7069"/>
                </a:moveTo>
                <a:lnTo>
                  <a:pt x="7293" y="7069"/>
                </a:lnTo>
              </a:path>
              <a:path w="2680" h="5408">
                <a:moveTo>
                  <a:pt x="8880" y="6003"/>
                </a:moveTo>
                <a:cubicBezTo>
                  <a:pt x="8958" y="6003"/>
                  <a:pt x="8913" y="5921"/>
                  <a:pt x="8880" y="5854"/>
                </a:cubicBezTo>
                <a:cubicBezTo>
                  <a:pt x="8807" y="5704"/>
                  <a:pt x="8811" y="5706"/>
                  <a:pt x="8682" y="5730"/>
                </a:cubicBezTo>
                <a:cubicBezTo>
                  <a:pt x="8646" y="5825"/>
                  <a:pt x="8544" y="6146"/>
                  <a:pt x="8756" y="6152"/>
                </a:cubicBezTo>
                <a:cubicBezTo>
                  <a:pt x="8913" y="6157"/>
                  <a:pt x="8895" y="5969"/>
                  <a:pt x="8905" y="5879"/>
                </a:cubicBezTo>
                <a:cubicBezTo>
                  <a:pt x="8905" y="5854"/>
                  <a:pt x="8905" y="5829"/>
                  <a:pt x="8905" y="5804"/>
                </a:cubicBezTo>
                <a:cubicBezTo>
                  <a:pt x="8905" y="5988"/>
                  <a:pt x="8925" y="6167"/>
                  <a:pt x="8930" y="6350"/>
                </a:cubicBezTo>
                <a:cubicBezTo>
                  <a:pt x="8930" y="6375"/>
                  <a:pt x="8930" y="6399"/>
                  <a:pt x="8930" y="6424"/>
                </a:cubicBezTo>
              </a:path>
              <a:path w="2680" h="5408">
                <a:moveTo>
                  <a:pt x="8508" y="6648"/>
                </a:moveTo>
                <a:cubicBezTo>
                  <a:pt x="8689" y="6633"/>
                  <a:pt x="8872" y="6608"/>
                  <a:pt x="9054" y="6598"/>
                </a:cubicBezTo>
                <a:cubicBezTo>
                  <a:pt x="9149" y="6593"/>
                  <a:pt x="9214" y="6623"/>
                  <a:pt x="9302" y="6623"/>
                </a:cubicBezTo>
              </a:path>
              <a:path w="2680" h="5408">
                <a:moveTo>
                  <a:pt x="8508" y="6945"/>
                </a:moveTo>
                <a:cubicBezTo>
                  <a:pt x="8524" y="6884"/>
                  <a:pt x="8538" y="6899"/>
                  <a:pt x="8607" y="6871"/>
                </a:cubicBezTo>
                <a:cubicBezTo>
                  <a:pt x="8757" y="7050"/>
                  <a:pt x="8716" y="7198"/>
                  <a:pt x="8508" y="7342"/>
                </a:cubicBezTo>
                <a:cubicBezTo>
                  <a:pt x="8361" y="7443"/>
                  <a:pt x="8325" y="7378"/>
                  <a:pt x="8285" y="7268"/>
                </a:cubicBezTo>
                <a:cubicBezTo>
                  <a:pt x="8422" y="7130"/>
                  <a:pt x="8524" y="7168"/>
                  <a:pt x="8706" y="7243"/>
                </a:cubicBezTo>
                <a:cubicBezTo>
                  <a:pt x="8759" y="7265"/>
                  <a:pt x="8766" y="7297"/>
                  <a:pt x="8806" y="7317"/>
                </a:cubicBezTo>
              </a:path>
              <a:path w="2680" h="5408">
                <a:moveTo>
                  <a:pt x="9004" y="6871"/>
                </a:moveTo>
                <a:cubicBezTo>
                  <a:pt x="8914" y="6816"/>
                  <a:pt x="8859" y="6896"/>
                  <a:pt x="8830" y="6995"/>
                </a:cubicBezTo>
                <a:cubicBezTo>
                  <a:pt x="8797" y="7109"/>
                  <a:pt x="8811" y="7413"/>
                  <a:pt x="9029" y="7342"/>
                </a:cubicBezTo>
                <a:cubicBezTo>
                  <a:pt x="9171" y="7296"/>
                  <a:pt x="9295" y="7036"/>
                  <a:pt x="9153" y="6921"/>
                </a:cubicBezTo>
                <a:cubicBezTo>
                  <a:pt x="9077" y="6921"/>
                  <a:pt x="9051" y="6921"/>
                  <a:pt x="9004" y="6945"/>
                </a:cubicBezTo>
              </a:path>
              <a:path w="2680" h="5408">
                <a:moveTo>
                  <a:pt x="9649" y="6052"/>
                </a:moveTo>
                <a:cubicBezTo>
                  <a:pt x="9645" y="5993"/>
                  <a:pt x="9629" y="5853"/>
                  <a:pt x="9575" y="5755"/>
                </a:cubicBezTo>
                <a:cubicBezTo>
                  <a:pt x="9512" y="5640"/>
                  <a:pt x="9433" y="5557"/>
                  <a:pt x="9327" y="5482"/>
                </a:cubicBezTo>
                <a:cubicBezTo>
                  <a:pt x="9255" y="5431"/>
                  <a:pt x="9165" y="5380"/>
                  <a:pt x="9079" y="5358"/>
                </a:cubicBezTo>
                <a:cubicBezTo>
                  <a:pt x="8999" y="5338"/>
                  <a:pt x="8856" y="5355"/>
                  <a:pt x="8781" y="5383"/>
                </a:cubicBezTo>
                <a:cubicBezTo>
                  <a:pt x="8679" y="5422"/>
                  <a:pt x="8597" y="5494"/>
                  <a:pt x="8508" y="5556"/>
                </a:cubicBezTo>
                <a:cubicBezTo>
                  <a:pt x="8385" y="5642"/>
                  <a:pt x="8271" y="5779"/>
                  <a:pt x="8186" y="5904"/>
                </a:cubicBezTo>
                <a:cubicBezTo>
                  <a:pt x="8097" y="6034"/>
                  <a:pt x="8009" y="6217"/>
                  <a:pt x="7987" y="6375"/>
                </a:cubicBezTo>
                <a:cubicBezTo>
                  <a:pt x="7970" y="6498"/>
                  <a:pt x="7962" y="6622"/>
                  <a:pt x="7962" y="6747"/>
                </a:cubicBezTo>
                <a:cubicBezTo>
                  <a:pt x="7962" y="6855"/>
                  <a:pt x="7964" y="6965"/>
                  <a:pt x="7987" y="7069"/>
                </a:cubicBezTo>
                <a:cubicBezTo>
                  <a:pt x="8011" y="7178"/>
                  <a:pt x="8043" y="7224"/>
                  <a:pt x="8086" y="7317"/>
                </a:cubicBezTo>
                <a:cubicBezTo>
                  <a:pt x="8133" y="7420"/>
                  <a:pt x="8158" y="7540"/>
                  <a:pt x="8210" y="7640"/>
                </a:cubicBezTo>
                <a:cubicBezTo>
                  <a:pt x="8221" y="7662"/>
                  <a:pt x="8291" y="7798"/>
                  <a:pt x="8310" y="7813"/>
                </a:cubicBezTo>
                <a:cubicBezTo>
                  <a:pt x="8385" y="7870"/>
                  <a:pt x="8471" y="7860"/>
                  <a:pt x="8558" y="7863"/>
                </a:cubicBezTo>
                <a:cubicBezTo>
                  <a:pt x="8682" y="7867"/>
                  <a:pt x="8781" y="7803"/>
                  <a:pt x="8880" y="7739"/>
                </a:cubicBezTo>
                <a:cubicBezTo>
                  <a:pt x="8984" y="7671"/>
                  <a:pt x="9119" y="7581"/>
                  <a:pt x="9203" y="7491"/>
                </a:cubicBezTo>
                <a:cubicBezTo>
                  <a:pt x="9287" y="7400"/>
                  <a:pt x="9406" y="7258"/>
                  <a:pt x="9451" y="7144"/>
                </a:cubicBezTo>
                <a:cubicBezTo>
                  <a:pt x="9492" y="7040"/>
                  <a:pt x="9535" y="6884"/>
                  <a:pt x="9550" y="6772"/>
                </a:cubicBezTo>
                <a:cubicBezTo>
                  <a:pt x="9562" y="6680"/>
                  <a:pt x="9587" y="6591"/>
                  <a:pt x="9599" y="6499"/>
                </a:cubicBezTo>
                <a:cubicBezTo>
                  <a:pt x="9616" y="6374"/>
                  <a:pt x="9587" y="6247"/>
                  <a:pt x="9575" y="6127"/>
                </a:cubicBezTo>
                <a:cubicBezTo>
                  <a:pt x="9568" y="6064"/>
                  <a:pt x="9559" y="6015"/>
                  <a:pt x="9550" y="5953"/>
                </a:cubicBezTo>
                <a:cubicBezTo>
                  <a:pt x="9550" y="5945"/>
                  <a:pt x="9550" y="5936"/>
                  <a:pt x="9550" y="5928"/>
                </a:cubicBezTo>
              </a:path>
              <a:path w="2680" h="5408">
                <a:moveTo>
                  <a:pt x="6995" y="9475"/>
                </a:moveTo>
                <a:cubicBezTo>
                  <a:pt x="7086" y="9475"/>
                  <a:pt x="7177" y="9475"/>
                  <a:pt x="7268" y="9475"/>
                </a:cubicBezTo>
              </a:path>
              <a:path w="2680" h="5408">
                <a:moveTo>
                  <a:pt x="7069" y="9674"/>
                </a:moveTo>
                <a:cubicBezTo>
                  <a:pt x="7142" y="9652"/>
                  <a:pt x="7149" y="9649"/>
                  <a:pt x="7218" y="9649"/>
                </a:cubicBezTo>
              </a:path>
              <a:path w="2680" h="5408">
                <a:moveTo>
                  <a:pt x="7218" y="9649"/>
                </a:moveTo>
                <a:lnTo>
                  <a:pt x="7218" y="9649"/>
                </a:lnTo>
              </a:path>
              <a:path w="2680" h="5408">
                <a:moveTo>
                  <a:pt x="8434" y="8682"/>
                </a:moveTo>
                <a:cubicBezTo>
                  <a:pt x="8371" y="8650"/>
                  <a:pt x="8570" y="8634"/>
                  <a:pt x="8582" y="8632"/>
                </a:cubicBezTo>
                <a:cubicBezTo>
                  <a:pt x="8680" y="8613"/>
                  <a:pt x="8762" y="8576"/>
                  <a:pt x="8855" y="8558"/>
                </a:cubicBezTo>
                <a:cubicBezTo>
                  <a:pt x="8829" y="8686"/>
                  <a:pt x="8780" y="8830"/>
                  <a:pt x="8731" y="8954"/>
                </a:cubicBezTo>
                <a:cubicBezTo>
                  <a:pt x="8695" y="9028"/>
                  <a:pt x="8678" y="9033"/>
                  <a:pt x="8682" y="9079"/>
                </a:cubicBezTo>
              </a:path>
              <a:path w="2680" h="5408">
                <a:moveTo>
                  <a:pt x="8186" y="9401"/>
                </a:moveTo>
                <a:cubicBezTo>
                  <a:pt x="8280" y="9307"/>
                  <a:pt x="8564" y="9319"/>
                  <a:pt x="8706" y="9302"/>
                </a:cubicBezTo>
                <a:cubicBezTo>
                  <a:pt x="8866" y="9283"/>
                  <a:pt x="9017" y="9277"/>
                  <a:pt x="9178" y="9277"/>
                </a:cubicBezTo>
              </a:path>
              <a:path w="2680" h="5408">
                <a:moveTo>
                  <a:pt x="8210" y="9575"/>
                </a:moveTo>
                <a:cubicBezTo>
                  <a:pt x="8236" y="9791"/>
                  <a:pt x="8284" y="9975"/>
                  <a:pt x="8235" y="10195"/>
                </a:cubicBezTo>
                <a:cubicBezTo>
                  <a:pt x="8209" y="10313"/>
                  <a:pt x="8210" y="10216"/>
                  <a:pt x="8210" y="10195"/>
                </a:cubicBezTo>
              </a:path>
              <a:path w="2680" h="5408">
                <a:moveTo>
                  <a:pt x="8682" y="9575"/>
                </a:moveTo>
                <a:cubicBezTo>
                  <a:pt x="8644" y="9624"/>
                  <a:pt x="8645" y="9709"/>
                  <a:pt x="8632" y="9773"/>
                </a:cubicBezTo>
                <a:cubicBezTo>
                  <a:pt x="8610" y="9877"/>
                  <a:pt x="8607" y="9966"/>
                  <a:pt x="8607" y="10071"/>
                </a:cubicBezTo>
                <a:cubicBezTo>
                  <a:pt x="8607" y="10134"/>
                  <a:pt x="8640" y="10177"/>
                  <a:pt x="8706" y="10195"/>
                </a:cubicBezTo>
                <a:cubicBezTo>
                  <a:pt x="8802" y="10222"/>
                  <a:pt x="8842" y="10140"/>
                  <a:pt x="8905" y="10096"/>
                </a:cubicBezTo>
                <a:cubicBezTo>
                  <a:pt x="8965" y="10054"/>
                  <a:pt x="9017" y="10051"/>
                  <a:pt x="9054" y="9971"/>
                </a:cubicBezTo>
                <a:cubicBezTo>
                  <a:pt x="9076" y="9923"/>
                  <a:pt x="9048" y="9863"/>
                  <a:pt x="9029" y="9847"/>
                </a:cubicBezTo>
                <a:cubicBezTo>
                  <a:pt x="8956" y="9785"/>
                  <a:pt x="8938" y="9804"/>
                  <a:pt x="8855" y="9823"/>
                </a:cubicBezTo>
                <a:cubicBezTo>
                  <a:pt x="8824" y="9830"/>
                  <a:pt x="8811" y="9904"/>
                  <a:pt x="8806" y="9947"/>
                </a:cubicBezTo>
                <a:cubicBezTo>
                  <a:pt x="8794" y="10053"/>
                  <a:pt x="8826" y="10083"/>
                  <a:pt x="8855" y="10170"/>
                </a:cubicBezTo>
                <a:cubicBezTo>
                  <a:pt x="8855" y="10178"/>
                  <a:pt x="8855" y="10187"/>
                  <a:pt x="8855" y="10195"/>
                </a:cubicBezTo>
              </a:path>
              <a:path w="2680" h="5408">
                <a:moveTo>
                  <a:pt x="7913" y="10666"/>
                </a:moveTo>
                <a:cubicBezTo>
                  <a:pt x="8043" y="10649"/>
                  <a:pt x="8179" y="10624"/>
                  <a:pt x="8310" y="10616"/>
                </a:cubicBezTo>
                <a:cubicBezTo>
                  <a:pt x="8509" y="10604"/>
                  <a:pt x="8644" y="10569"/>
                  <a:pt x="8830" y="10492"/>
                </a:cubicBezTo>
                <a:cubicBezTo>
                  <a:pt x="9055" y="10398"/>
                  <a:pt x="9261" y="10295"/>
                  <a:pt x="9376" y="10071"/>
                </a:cubicBezTo>
                <a:cubicBezTo>
                  <a:pt x="9487" y="9855"/>
                  <a:pt x="9475" y="9635"/>
                  <a:pt x="9475" y="9401"/>
                </a:cubicBezTo>
                <a:cubicBezTo>
                  <a:pt x="9475" y="9206"/>
                  <a:pt x="9432" y="9031"/>
                  <a:pt x="9351" y="8855"/>
                </a:cubicBezTo>
                <a:cubicBezTo>
                  <a:pt x="9301" y="8746"/>
                  <a:pt x="9242" y="8593"/>
                  <a:pt x="9153" y="8508"/>
                </a:cubicBezTo>
                <a:cubicBezTo>
                  <a:pt x="9071" y="8430"/>
                  <a:pt x="8931" y="8357"/>
                  <a:pt x="8830" y="8310"/>
                </a:cubicBezTo>
                <a:cubicBezTo>
                  <a:pt x="8755" y="8275"/>
                  <a:pt x="8588" y="8262"/>
                  <a:pt x="8508" y="8285"/>
                </a:cubicBezTo>
                <a:cubicBezTo>
                  <a:pt x="8286" y="8348"/>
                  <a:pt x="8032" y="8589"/>
                  <a:pt x="7888" y="8756"/>
                </a:cubicBezTo>
                <a:cubicBezTo>
                  <a:pt x="7779" y="8883"/>
                  <a:pt x="7717" y="9022"/>
                  <a:pt x="7665" y="9178"/>
                </a:cubicBezTo>
                <a:cubicBezTo>
                  <a:pt x="7627" y="9292"/>
                  <a:pt x="7555" y="9403"/>
                  <a:pt x="7541" y="9525"/>
                </a:cubicBezTo>
                <a:cubicBezTo>
                  <a:pt x="7524" y="9666"/>
                  <a:pt x="7516" y="9803"/>
                  <a:pt x="7516" y="9947"/>
                </a:cubicBezTo>
                <a:cubicBezTo>
                  <a:pt x="7516" y="10075"/>
                  <a:pt x="7525" y="10194"/>
                  <a:pt x="7541" y="10319"/>
                </a:cubicBezTo>
                <a:cubicBezTo>
                  <a:pt x="7551" y="10399"/>
                  <a:pt x="7561" y="10475"/>
                  <a:pt x="7590" y="10542"/>
                </a:cubicBezTo>
                <a:cubicBezTo>
                  <a:pt x="7631" y="10639"/>
                  <a:pt x="7665" y="10679"/>
                  <a:pt x="7764" y="10716"/>
                </a:cubicBezTo>
                <a:cubicBezTo>
                  <a:pt x="7838" y="10744"/>
                  <a:pt x="7888" y="10754"/>
                  <a:pt x="7962" y="107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02000" y="4867200"/>
            <a:ext cx="3224160" cy="446040"/>
          </a:xfrm>
          <a:custGeom>
            <a:avLst/>
            <a:gdLst/>
            <a:ahLst/>
            <a:rect l="l" t="t" r="r" b="b"/>
            <a:pathLst>
              <a:path w="8955" h="1241">
                <a:moveTo>
                  <a:pt x="9451" y="14635"/>
                </a:moveTo>
                <a:cubicBezTo>
                  <a:pt x="9549" y="14618"/>
                  <a:pt x="9646" y="14597"/>
                  <a:pt x="9748" y="14610"/>
                </a:cubicBezTo>
                <a:cubicBezTo>
                  <a:pt x="9939" y="14634"/>
                  <a:pt x="10128" y="14616"/>
                  <a:pt x="10319" y="14635"/>
                </a:cubicBezTo>
                <a:cubicBezTo>
                  <a:pt x="10482" y="14651"/>
                  <a:pt x="10653" y="14640"/>
                  <a:pt x="10815" y="14660"/>
                </a:cubicBezTo>
                <a:cubicBezTo>
                  <a:pt x="10995" y="14682"/>
                  <a:pt x="11182" y="14680"/>
                  <a:pt x="11361" y="14709"/>
                </a:cubicBezTo>
                <a:cubicBezTo>
                  <a:pt x="11519" y="14735"/>
                  <a:pt x="11670" y="14734"/>
                  <a:pt x="11832" y="14734"/>
                </a:cubicBezTo>
                <a:cubicBezTo>
                  <a:pt x="11944" y="14734"/>
                  <a:pt x="12107" y="14739"/>
                  <a:pt x="12179" y="14759"/>
                </a:cubicBezTo>
                <a:cubicBezTo>
                  <a:pt x="12187" y="14759"/>
                  <a:pt x="12196" y="14759"/>
                  <a:pt x="12204" y="14759"/>
                </a:cubicBezTo>
              </a:path>
              <a:path w="8955" h="1241">
                <a:moveTo>
                  <a:pt x="12526" y="14511"/>
                </a:moveTo>
                <a:cubicBezTo>
                  <a:pt x="12600" y="14583"/>
                  <a:pt x="12650" y="14652"/>
                  <a:pt x="12750" y="14684"/>
                </a:cubicBezTo>
                <a:cubicBezTo>
                  <a:pt x="12894" y="14730"/>
                  <a:pt x="13023" y="14663"/>
                  <a:pt x="13146" y="14585"/>
                </a:cubicBezTo>
                <a:cubicBezTo>
                  <a:pt x="13274" y="14504"/>
                  <a:pt x="13341" y="14386"/>
                  <a:pt x="13370" y="14238"/>
                </a:cubicBezTo>
                <a:cubicBezTo>
                  <a:pt x="13388" y="14145"/>
                  <a:pt x="13412" y="14037"/>
                  <a:pt x="13395" y="13940"/>
                </a:cubicBezTo>
                <a:cubicBezTo>
                  <a:pt x="13381" y="13860"/>
                  <a:pt x="13346" y="13759"/>
                  <a:pt x="13320" y="13692"/>
                </a:cubicBezTo>
                <a:cubicBezTo>
                  <a:pt x="13283" y="13595"/>
                  <a:pt x="13235" y="13540"/>
                  <a:pt x="13122" y="13519"/>
                </a:cubicBezTo>
                <a:cubicBezTo>
                  <a:pt x="12997" y="13496"/>
                  <a:pt x="12857" y="13581"/>
                  <a:pt x="12774" y="13667"/>
                </a:cubicBezTo>
                <a:cubicBezTo>
                  <a:pt x="12620" y="13827"/>
                  <a:pt x="12606" y="14079"/>
                  <a:pt x="12626" y="14288"/>
                </a:cubicBezTo>
                <a:cubicBezTo>
                  <a:pt x="12643" y="14467"/>
                  <a:pt x="12696" y="14638"/>
                  <a:pt x="12874" y="14709"/>
                </a:cubicBezTo>
                <a:cubicBezTo>
                  <a:pt x="12894" y="14717"/>
                  <a:pt x="12926" y="14705"/>
                  <a:pt x="12948" y="14709"/>
                </a:cubicBezTo>
              </a:path>
              <a:path w="8955" h="1241">
                <a:moveTo>
                  <a:pt x="14858" y="14660"/>
                </a:moveTo>
                <a:cubicBezTo>
                  <a:pt x="14943" y="14631"/>
                  <a:pt x="15012" y="14612"/>
                  <a:pt x="15106" y="14610"/>
                </a:cubicBezTo>
                <a:cubicBezTo>
                  <a:pt x="15292" y="14606"/>
                  <a:pt x="15468" y="14630"/>
                  <a:pt x="15652" y="14635"/>
                </a:cubicBezTo>
                <a:cubicBezTo>
                  <a:pt x="15765" y="14638"/>
                  <a:pt x="15863" y="14613"/>
                  <a:pt x="15974" y="14610"/>
                </a:cubicBezTo>
                <a:cubicBezTo>
                  <a:pt x="16141" y="14605"/>
                  <a:pt x="16301" y="14585"/>
                  <a:pt x="16470" y="14585"/>
                </a:cubicBezTo>
                <a:cubicBezTo>
                  <a:pt x="16713" y="14585"/>
                  <a:pt x="16951" y="14580"/>
                  <a:pt x="17190" y="14560"/>
                </a:cubicBezTo>
                <a:cubicBezTo>
                  <a:pt x="17321" y="14549"/>
                  <a:pt x="17482" y="14524"/>
                  <a:pt x="17611" y="14536"/>
                </a:cubicBezTo>
                <a:cubicBezTo>
                  <a:pt x="17752" y="14549"/>
                  <a:pt x="17893" y="14571"/>
                  <a:pt x="18033" y="14585"/>
                </a:cubicBezTo>
                <a:cubicBezTo>
                  <a:pt x="18135" y="14595"/>
                  <a:pt x="18227" y="14610"/>
                  <a:pt x="18331" y="14610"/>
                </a:cubicBezTo>
                <a:cubicBezTo>
                  <a:pt x="18372" y="14610"/>
                  <a:pt x="18380" y="14610"/>
                  <a:pt x="18405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32040" y="5749920"/>
            <a:ext cx="1366920" cy="652320"/>
          </a:xfrm>
          <a:custGeom>
            <a:avLst/>
            <a:gdLst/>
            <a:ahLst/>
            <a:rect l="l" t="t" r="r" b="b"/>
            <a:pathLst>
              <a:path w="3796" h="1812">
                <a:moveTo>
                  <a:pt x="7987" y="15974"/>
                </a:moveTo>
                <a:cubicBezTo>
                  <a:pt x="7987" y="16197"/>
                  <a:pt x="7987" y="16421"/>
                  <a:pt x="7987" y="16644"/>
                </a:cubicBezTo>
              </a:path>
              <a:path w="3796" h="1812">
                <a:moveTo>
                  <a:pt x="7590" y="16793"/>
                </a:moveTo>
                <a:cubicBezTo>
                  <a:pt x="7807" y="16739"/>
                  <a:pt x="8036" y="16711"/>
                  <a:pt x="8260" y="16694"/>
                </a:cubicBezTo>
                <a:cubicBezTo>
                  <a:pt x="8293" y="16694"/>
                  <a:pt x="8326" y="16694"/>
                  <a:pt x="8359" y="16694"/>
                </a:cubicBezTo>
              </a:path>
              <a:path w="3796" h="1812">
                <a:moveTo>
                  <a:pt x="8136" y="16991"/>
                </a:moveTo>
                <a:cubicBezTo>
                  <a:pt x="8136" y="16881"/>
                  <a:pt x="7985" y="16914"/>
                  <a:pt x="7913" y="16942"/>
                </a:cubicBezTo>
                <a:cubicBezTo>
                  <a:pt x="7791" y="16989"/>
                  <a:pt x="7787" y="17021"/>
                  <a:pt x="7739" y="17115"/>
                </a:cubicBezTo>
                <a:cubicBezTo>
                  <a:pt x="7852" y="17191"/>
                  <a:pt x="8077" y="17268"/>
                  <a:pt x="8037" y="17438"/>
                </a:cubicBezTo>
                <a:cubicBezTo>
                  <a:pt x="8007" y="17566"/>
                  <a:pt x="7897" y="17525"/>
                  <a:pt x="7813" y="17512"/>
                </a:cubicBezTo>
                <a:cubicBezTo>
                  <a:pt x="7826" y="17313"/>
                  <a:pt x="7890" y="17200"/>
                  <a:pt x="8012" y="17041"/>
                </a:cubicBezTo>
                <a:cubicBezTo>
                  <a:pt x="8029" y="17024"/>
                  <a:pt x="8045" y="17008"/>
                  <a:pt x="8062" y="16991"/>
                </a:cubicBezTo>
              </a:path>
              <a:path w="3796" h="1812">
                <a:moveTo>
                  <a:pt x="8880" y="16570"/>
                </a:moveTo>
                <a:cubicBezTo>
                  <a:pt x="8880" y="16545"/>
                  <a:pt x="8880" y="16537"/>
                  <a:pt x="8880" y="16520"/>
                </a:cubicBezTo>
                <a:cubicBezTo>
                  <a:pt x="8929" y="16642"/>
                  <a:pt x="9089" y="16739"/>
                  <a:pt x="9178" y="16842"/>
                </a:cubicBezTo>
                <a:cubicBezTo>
                  <a:pt x="9226" y="16897"/>
                  <a:pt x="9253" y="16943"/>
                  <a:pt x="9302" y="16991"/>
                </a:cubicBezTo>
              </a:path>
              <a:path w="3796" h="1812">
                <a:moveTo>
                  <a:pt x="9227" y="16396"/>
                </a:moveTo>
                <a:cubicBezTo>
                  <a:pt x="9227" y="16541"/>
                  <a:pt x="9125" y="16651"/>
                  <a:pt x="9054" y="16768"/>
                </a:cubicBezTo>
                <a:cubicBezTo>
                  <a:pt x="9005" y="16849"/>
                  <a:pt x="8820" y="16949"/>
                  <a:pt x="8905" y="16991"/>
                </a:cubicBezTo>
                <a:cubicBezTo>
                  <a:pt x="8913" y="16991"/>
                  <a:pt x="8922" y="16991"/>
                  <a:pt x="8930" y="16991"/>
                </a:cubicBezTo>
              </a:path>
              <a:path w="3796" h="1812">
                <a:moveTo>
                  <a:pt x="9897" y="16049"/>
                </a:moveTo>
                <a:cubicBezTo>
                  <a:pt x="9987" y="16031"/>
                  <a:pt x="10074" y="16006"/>
                  <a:pt x="10170" y="15999"/>
                </a:cubicBezTo>
                <a:cubicBezTo>
                  <a:pt x="10204" y="16169"/>
                  <a:pt x="10100" y="16279"/>
                  <a:pt x="9971" y="16396"/>
                </a:cubicBezTo>
                <a:cubicBezTo>
                  <a:pt x="9915" y="16434"/>
                  <a:pt x="9890" y="16429"/>
                  <a:pt x="9897" y="16470"/>
                </a:cubicBezTo>
                <a:cubicBezTo>
                  <a:pt x="10055" y="16457"/>
                  <a:pt x="10212" y="16441"/>
                  <a:pt x="10368" y="16421"/>
                </a:cubicBezTo>
                <a:cubicBezTo>
                  <a:pt x="10393" y="16421"/>
                  <a:pt x="10401" y="16421"/>
                  <a:pt x="10393" y="16446"/>
                </a:cubicBezTo>
              </a:path>
              <a:path w="3796" h="1812">
                <a:moveTo>
                  <a:pt x="9872" y="16793"/>
                </a:moveTo>
                <a:cubicBezTo>
                  <a:pt x="10086" y="16761"/>
                  <a:pt x="10301" y="16727"/>
                  <a:pt x="10517" y="16718"/>
                </a:cubicBezTo>
                <a:cubicBezTo>
                  <a:pt x="10542" y="16718"/>
                  <a:pt x="10550" y="16718"/>
                  <a:pt x="10542" y="16743"/>
                </a:cubicBezTo>
              </a:path>
              <a:path w="3796" h="1812">
                <a:moveTo>
                  <a:pt x="9971" y="17115"/>
                </a:moveTo>
                <a:cubicBezTo>
                  <a:pt x="10045" y="17118"/>
                  <a:pt x="10472" y="17101"/>
                  <a:pt x="10393" y="17264"/>
                </a:cubicBezTo>
                <a:cubicBezTo>
                  <a:pt x="10293" y="17364"/>
                  <a:pt x="10258" y="17398"/>
                  <a:pt x="10170" y="17438"/>
                </a:cubicBezTo>
                <a:cubicBezTo>
                  <a:pt x="10153" y="17446"/>
                  <a:pt x="10137" y="17454"/>
                  <a:pt x="10120" y="17462"/>
                </a:cubicBezTo>
                <a:cubicBezTo>
                  <a:pt x="10201" y="17429"/>
                  <a:pt x="10352" y="17364"/>
                  <a:pt x="10418" y="17462"/>
                </a:cubicBezTo>
                <a:cubicBezTo>
                  <a:pt x="10539" y="17640"/>
                  <a:pt x="10169" y="17769"/>
                  <a:pt x="10071" y="17785"/>
                </a:cubicBezTo>
                <a:cubicBezTo>
                  <a:pt x="9920" y="17810"/>
                  <a:pt x="9823" y="17808"/>
                  <a:pt x="9823" y="17661"/>
                </a:cubicBezTo>
              </a:path>
              <a:path w="3796" h="1812">
                <a:moveTo>
                  <a:pt x="11063" y="16917"/>
                </a:moveTo>
                <a:cubicBezTo>
                  <a:pt x="11172" y="16893"/>
                  <a:pt x="11272" y="16892"/>
                  <a:pt x="11385" y="16892"/>
                </a:cubicBezTo>
              </a:path>
              <a:path w="3796" h="1812">
                <a:moveTo>
                  <a:pt x="11038" y="17090"/>
                </a:moveTo>
                <a:cubicBezTo>
                  <a:pt x="11163" y="17068"/>
                  <a:pt x="11274" y="17026"/>
                  <a:pt x="11385" y="16966"/>
                </a:cubicBezTo>
              </a:path>
              <a:path w="3796" h="1812">
                <a:moveTo>
                  <a:pt x="11385" y="16966"/>
                </a:moveTo>
                <a:lnTo>
                  <a:pt x="11385" y="169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7800" y="5742000"/>
            <a:ext cx="1187280" cy="642960"/>
          </a:xfrm>
          <a:custGeom>
            <a:avLst/>
            <a:gdLst/>
            <a:ahLst/>
            <a:rect l="l" t="t" r="r" b="b"/>
            <a:pathLst>
              <a:path w="3300" h="1787">
                <a:moveTo>
                  <a:pt x="12626" y="16098"/>
                </a:moveTo>
                <a:cubicBezTo>
                  <a:pt x="12743" y="16078"/>
                  <a:pt x="12851" y="16073"/>
                  <a:pt x="12973" y="16073"/>
                </a:cubicBezTo>
                <a:cubicBezTo>
                  <a:pt x="12973" y="16288"/>
                  <a:pt x="12822" y="16425"/>
                  <a:pt x="12675" y="16594"/>
                </a:cubicBezTo>
                <a:cubicBezTo>
                  <a:pt x="12659" y="16611"/>
                  <a:pt x="12642" y="16627"/>
                  <a:pt x="12626" y="16644"/>
                </a:cubicBezTo>
                <a:cubicBezTo>
                  <a:pt x="12784" y="16590"/>
                  <a:pt x="12956" y="16575"/>
                  <a:pt x="13122" y="16545"/>
                </a:cubicBezTo>
              </a:path>
              <a:path w="3300" h="1787">
                <a:moveTo>
                  <a:pt x="12179" y="16892"/>
                </a:moveTo>
                <a:cubicBezTo>
                  <a:pt x="12504" y="16892"/>
                  <a:pt x="12822" y="16856"/>
                  <a:pt x="13146" y="16842"/>
                </a:cubicBezTo>
                <a:cubicBezTo>
                  <a:pt x="13243" y="16838"/>
                  <a:pt x="13583" y="16769"/>
                  <a:pt x="13395" y="16917"/>
                </a:cubicBezTo>
              </a:path>
              <a:path w="3300" h="1787">
                <a:moveTo>
                  <a:pt x="12204" y="17239"/>
                </a:moveTo>
                <a:cubicBezTo>
                  <a:pt x="12364" y="17199"/>
                  <a:pt x="12551" y="17189"/>
                  <a:pt x="12526" y="17413"/>
                </a:cubicBezTo>
                <a:cubicBezTo>
                  <a:pt x="12500" y="17641"/>
                  <a:pt x="12274" y="17656"/>
                  <a:pt x="12105" y="17636"/>
                </a:cubicBezTo>
                <a:cubicBezTo>
                  <a:pt x="12148" y="17464"/>
                  <a:pt x="12295" y="17440"/>
                  <a:pt x="12477" y="17487"/>
                </a:cubicBezTo>
                <a:cubicBezTo>
                  <a:pt x="12618" y="17523"/>
                  <a:pt x="12508" y="17596"/>
                  <a:pt x="12626" y="17512"/>
                </a:cubicBezTo>
              </a:path>
              <a:path w="3300" h="1787">
                <a:moveTo>
                  <a:pt x="12750" y="17214"/>
                </a:moveTo>
                <a:cubicBezTo>
                  <a:pt x="12750" y="17277"/>
                  <a:pt x="12736" y="17423"/>
                  <a:pt x="12799" y="17462"/>
                </a:cubicBezTo>
                <a:cubicBezTo>
                  <a:pt x="12946" y="17554"/>
                  <a:pt x="13029" y="17473"/>
                  <a:pt x="13097" y="17363"/>
                </a:cubicBezTo>
              </a:path>
              <a:path w="3300" h="1787">
                <a:moveTo>
                  <a:pt x="13047" y="17066"/>
                </a:moveTo>
                <a:cubicBezTo>
                  <a:pt x="13047" y="17289"/>
                  <a:pt x="13047" y="17512"/>
                  <a:pt x="13047" y="17735"/>
                </a:cubicBezTo>
              </a:path>
              <a:path w="3300" h="1787">
                <a:moveTo>
                  <a:pt x="13047" y="17735"/>
                </a:moveTo>
                <a:lnTo>
                  <a:pt x="13047" y="17735"/>
                </a:lnTo>
              </a:path>
              <a:path w="3300" h="1787">
                <a:moveTo>
                  <a:pt x="13767" y="16222"/>
                </a:moveTo>
                <a:cubicBezTo>
                  <a:pt x="13842" y="16189"/>
                  <a:pt x="13949" y="16182"/>
                  <a:pt x="14039" y="16173"/>
                </a:cubicBezTo>
              </a:path>
              <a:path w="3300" h="1787">
                <a:moveTo>
                  <a:pt x="13940" y="15949"/>
                </a:moveTo>
                <a:cubicBezTo>
                  <a:pt x="13940" y="15982"/>
                  <a:pt x="13940" y="16016"/>
                  <a:pt x="13940" y="16049"/>
                </a:cubicBezTo>
              </a:path>
              <a:path w="3300" h="1787">
                <a:moveTo>
                  <a:pt x="13940" y="16049"/>
                </a:moveTo>
                <a:lnTo>
                  <a:pt x="13940" y="16049"/>
                </a:lnTo>
              </a:path>
              <a:path w="3300" h="1787">
                <a:moveTo>
                  <a:pt x="14015" y="16421"/>
                </a:moveTo>
                <a:cubicBezTo>
                  <a:pt x="14015" y="16413"/>
                  <a:pt x="14015" y="16404"/>
                  <a:pt x="14015" y="16396"/>
                </a:cubicBezTo>
              </a:path>
              <a:path w="3300" h="1787">
                <a:moveTo>
                  <a:pt x="14436" y="16049"/>
                </a:moveTo>
                <a:cubicBezTo>
                  <a:pt x="14503" y="16055"/>
                  <a:pt x="14553" y="16065"/>
                  <a:pt x="14610" y="16098"/>
                </a:cubicBezTo>
                <a:cubicBezTo>
                  <a:pt x="14560" y="16265"/>
                  <a:pt x="14505" y="16360"/>
                  <a:pt x="14387" y="16495"/>
                </a:cubicBezTo>
                <a:cubicBezTo>
                  <a:pt x="14448" y="16506"/>
                  <a:pt x="14588" y="16532"/>
                  <a:pt x="14610" y="16545"/>
                </a:cubicBezTo>
              </a:path>
              <a:path w="3300" h="1787">
                <a:moveTo>
                  <a:pt x="13742" y="17413"/>
                </a:moveTo>
                <a:cubicBezTo>
                  <a:pt x="13764" y="17414"/>
                  <a:pt x="14051" y="17460"/>
                  <a:pt x="14064" y="17438"/>
                </a:cubicBezTo>
                <a:cubicBezTo>
                  <a:pt x="14064" y="17421"/>
                  <a:pt x="14064" y="17405"/>
                  <a:pt x="14064" y="17388"/>
                </a:cubicBezTo>
              </a:path>
              <a:path w="3300" h="1787">
                <a:moveTo>
                  <a:pt x="13940" y="17165"/>
                </a:moveTo>
                <a:cubicBezTo>
                  <a:pt x="13948" y="17198"/>
                  <a:pt x="13957" y="17231"/>
                  <a:pt x="13965" y="17264"/>
                </a:cubicBezTo>
              </a:path>
              <a:path w="3300" h="1787">
                <a:moveTo>
                  <a:pt x="13965" y="17264"/>
                </a:moveTo>
                <a:lnTo>
                  <a:pt x="13965" y="17264"/>
                </a:lnTo>
              </a:path>
              <a:path w="3300" h="1787">
                <a:moveTo>
                  <a:pt x="13915" y="17587"/>
                </a:moveTo>
                <a:lnTo>
                  <a:pt x="13915" y="17587"/>
                </a:lnTo>
              </a:path>
              <a:path w="3300" h="1787">
                <a:moveTo>
                  <a:pt x="14362" y="17289"/>
                </a:moveTo>
                <a:cubicBezTo>
                  <a:pt x="14454" y="17289"/>
                  <a:pt x="14481" y="17287"/>
                  <a:pt x="14536" y="17314"/>
                </a:cubicBezTo>
                <a:cubicBezTo>
                  <a:pt x="14547" y="17419"/>
                  <a:pt x="14485" y="17495"/>
                  <a:pt x="14412" y="17587"/>
                </a:cubicBezTo>
                <a:cubicBezTo>
                  <a:pt x="14536" y="17587"/>
                  <a:pt x="14605" y="17583"/>
                  <a:pt x="14684" y="17487"/>
                </a:cubicBezTo>
                <a:cubicBezTo>
                  <a:pt x="14709" y="17454"/>
                  <a:pt x="14734" y="17421"/>
                  <a:pt x="14759" y="17388"/>
                </a:cubicBezTo>
              </a:path>
              <a:path w="3300" h="1787">
                <a:moveTo>
                  <a:pt x="15131" y="16793"/>
                </a:moveTo>
                <a:cubicBezTo>
                  <a:pt x="15229" y="16793"/>
                  <a:pt x="15308" y="16800"/>
                  <a:pt x="15404" y="16818"/>
                </a:cubicBezTo>
              </a:path>
              <a:path w="3300" h="1787">
                <a:moveTo>
                  <a:pt x="15081" y="16966"/>
                </a:moveTo>
                <a:cubicBezTo>
                  <a:pt x="15147" y="16966"/>
                  <a:pt x="15214" y="16966"/>
                  <a:pt x="15280" y="16966"/>
                </a:cubicBezTo>
              </a:path>
              <a:path w="3300" h="1787">
                <a:moveTo>
                  <a:pt x="15280" y="16966"/>
                </a:moveTo>
                <a:lnTo>
                  <a:pt x="15280" y="169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92840" y="5759280"/>
            <a:ext cx="385560" cy="608040"/>
          </a:xfrm>
          <a:custGeom>
            <a:avLst/>
            <a:gdLst/>
            <a:ahLst/>
            <a:rect l="l" t="t" r="r" b="b"/>
            <a:pathLst>
              <a:path w="1068" h="1688">
                <a:moveTo>
                  <a:pt x="16867" y="15999"/>
                </a:moveTo>
                <a:cubicBezTo>
                  <a:pt x="16929" y="16142"/>
                  <a:pt x="16914" y="16357"/>
                  <a:pt x="16942" y="16520"/>
                </a:cubicBezTo>
                <a:cubicBezTo>
                  <a:pt x="16950" y="16553"/>
                  <a:pt x="16958" y="16586"/>
                  <a:pt x="16966" y="16619"/>
                </a:cubicBezTo>
              </a:path>
              <a:path w="1068" h="1688">
                <a:moveTo>
                  <a:pt x="16371" y="16768"/>
                </a:moveTo>
                <a:cubicBezTo>
                  <a:pt x="16696" y="16722"/>
                  <a:pt x="17009" y="16675"/>
                  <a:pt x="17338" y="16669"/>
                </a:cubicBezTo>
                <a:cubicBezTo>
                  <a:pt x="17413" y="16669"/>
                  <a:pt x="17471" y="16669"/>
                  <a:pt x="17413" y="16669"/>
                </a:cubicBezTo>
              </a:path>
              <a:path w="1068" h="1688">
                <a:moveTo>
                  <a:pt x="16495" y="17041"/>
                </a:moveTo>
                <a:cubicBezTo>
                  <a:pt x="16528" y="17227"/>
                  <a:pt x="16524" y="17421"/>
                  <a:pt x="16545" y="17611"/>
                </a:cubicBezTo>
                <a:cubicBezTo>
                  <a:pt x="16545" y="17636"/>
                  <a:pt x="16545" y="17644"/>
                  <a:pt x="16545" y="17611"/>
                </a:cubicBezTo>
              </a:path>
              <a:path w="1068" h="1688">
                <a:moveTo>
                  <a:pt x="16917" y="16991"/>
                </a:moveTo>
                <a:cubicBezTo>
                  <a:pt x="17139" y="16981"/>
                  <a:pt x="17403" y="17017"/>
                  <a:pt x="17413" y="17314"/>
                </a:cubicBezTo>
                <a:cubicBezTo>
                  <a:pt x="17420" y="17527"/>
                  <a:pt x="17201" y="17745"/>
                  <a:pt x="16991" y="17661"/>
                </a:cubicBezTo>
                <a:cubicBezTo>
                  <a:pt x="16975" y="17644"/>
                  <a:pt x="16958" y="17628"/>
                  <a:pt x="16942" y="17611"/>
                </a:cubicBezTo>
                <a:cubicBezTo>
                  <a:pt x="17093" y="17448"/>
                  <a:pt x="17137" y="17450"/>
                  <a:pt x="17338" y="17562"/>
                </a:cubicBezTo>
                <a:cubicBezTo>
                  <a:pt x="17422" y="17609"/>
                  <a:pt x="17413" y="17594"/>
                  <a:pt x="17413" y="176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 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#2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84320" y="2133720"/>
            <a:ext cx="3465720" cy="1474560"/>
          </a:xfrm>
          <a:custGeom>
            <a:avLst/>
            <a:gdLst/>
            <a:ahLst/>
            <a:rect l="l" t="t" r="r" b="b"/>
            <a:pathLst>
              <a:path w="9625" h="4094">
                <a:moveTo>
                  <a:pt x="12353" y="5978"/>
                </a:moveTo>
                <a:cubicBezTo>
                  <a:pt x="12289" y="5972"/>
                  <a:pt x="12270" y="5929"/>
                  <a:pt x="12204" y="5928"/>
                </a:cubicBezTo>
                <a:cubicBezTo>
                  <a:pt x="12057" y="5926"/>
                  <a:pt x="11927" y="5949"/>
                  <a:pt x="11782" y="5978"/>
                </a:cubicBezTo>
                <a:cubicBezTo>
                  <a:pt x="11302" y="6075"/>
                  <a:pt x="11015" y="6426"/>
                  <a:pt x="10616" y="6573"/>
                </a:cubicBezTo>
                <a:cubicBezTo>
                  <a:pt x="10535" y="6603"/>
                  <a:pt x="10470" y="6542"/>
                  <a:pt x="10344" y="6573"/>
                </a:cubicBezTo>
                <a:cubicBezTo>
                  <a:pt x="9720" y="6728"/>
                  <a:pt x="9517" y="7144"/>
                  <a:pt x="9079" y="7491"/>
                </a:cubicBezTo>
                <a:cubicBezTo>
                  <a:pt x="9032" y="7529"/>
                  <a:pt x="8865" y="7570"/>
                  <a:pt x="8806" y="7615"/>
                </a:cubicBezTo>
                <a:cubicBezTo>
                  <a:pt x="8510" y="7840"/>
                  <a:pt x="7949" y="8517"/>
                  <a:pt x="8012" y="8930"/>
                </a:cubicBezTo>
                <a:cubicBezTo>
                  <a:pt x="8040" y="9112"/>
                  <a:pt x="8142" y="9070"/>
                  <a:pt x="8186" y="9153"/>
                </a:cubicBezTo>
                <a:cubicBezTo>
                  <a:pt x="8115" y="9240"/>
                  <a:pt x="8063" y="9094"/>
                  <a:pt x="8037" y="9203"/>
                </a:cubicBezTo>
                <a:cubicBezTo>
                  <a:pt x="7898" y="9783"/>
                  <a:pt x="8360" y="10015"/>
                  <a:pt x="8880" y="10021"/>
                </a:cubicBezTo>
                <a:cubicBezTo>
                  <a:pt x="9357" y="10027"/>
                  <a:pt x="9960" y="9642"/>
                  <a:pt x="10393" y="9699"/>
                </a:cubicBezTo>
                <a:cubicBezTo>
                  <a:pt x="10565" y="9722"/>
                  <a:pt x="10756" y="9967"/>
                  <a:pt x="11088" y="9947"/>
                </a:cubicBezTo>
                <a:cubicBezTo>
                  <a:pt x="11689" y="9910"/>
                  <a:pt x="12557" y="9485"/>
                  <a:pt x="13146" y="9649"/>
                </a:cubicBezTo>
                <a:cubicBezTo>
                  <a:pt x="13205" y="9666"/>
                  <a:pt x="13377" y="9909"/>
                  <a:pt x="13494" y="9947"/>
                </a:cubicBezTo>
                <a:cubicBezTo>
                  <a:pt x="14204" y="10177"/>
                  <a:pt x="14849" y="9669"/>
                  <a:pt x="15404" y="9723"/>
                </a:cubicBezTo>
                <a:cubicBezTo>
                  <a:pt x="15659" y="9748"/>
                  <a:pt x="15833" y="9868"/>
                  <a:pt x="16197" y="9798"/>
                </a:cubicBezTo>
                <a:cubicBezTo>
                  <a:pt x="16747" y="9693"/>
                  <a:pt x="16763" y="9370"/>
                  <a:pt x="17066" y="9153"/>
                </a:cubicBezTo>
                <a:cubicBezTo>
                  <a:pt x="17153" y="9091"/>
                  <a:pt x="17222" y="9157"/>
                  <a:pt x="17314" y="9103"/>
                </a:cubicBezTo>
                <a:cubicBezTo>
                  <a:pt x="17706" y="8871"/>
                  <a:pt x="17714" y="8587"/>
                  <a:pt x="17413" y="8260"/>
                </a:cubicBezTo>
                <a:cubicBezTo>
                  <a:pt x="17294" y="8130"/>
                  <a:pt x="16736" y="7992"/>
                  <a:pt x="16694" y="7888"/>
                </a:cubicBezTo>
                <a:cubicBezTo>
                  <a:pt x="16589" y="7630"/>
                  <a:pt x="16914" y="7702"/>
                  <a:pt x="16570" y="7342"/>
                </a:cubicBezTo>
                <a:cubicBezTo>
                  <a:pt x="16262" y="7020"/>
                  <a:pt x="15749" y="7031"/>
                  <a:pt x="15453" y="6772"/>
                </a:cubicBezTo>
                <a:cubicBezTo>
                  <a:pt x="15352" y="6684"/>
                  <a:pt x="15416" y="6548"/>
                  <a:pt x="15304" y="6474"/>
                </a:cubicBezTo>
                <a:cubicBezTo>
                  <a:pt x="14959" y="6248"/>
                  <a:pt x="14614" y="6373"/>
                  <a:pt x="14288" y="6276"/>
                </a:cubicBezTo>
                <a:cubicBezTo>
                  <a:pt x="13988" y="6187"/>
                  <a:pt x="13794" y="6003"/>
                  <a:pt x="13444" y="6003"/>
                </a:cubicBezTo>
                <a:cubicBezTo>
                  <a:pt x="13185" y="6003"/>
                  <a:pt x="12770" y="6293"/>
                  <a:pt x="12551" y="6251"/>
                </a:cubicBezTo>
                <a:cubicBezTo>
                  <a:pt x="12478" y="6237"/>
                  <a:pt x="12497" y="6113"/>
                  <a:pt x="12402" y="6102"/>
                </a:cubicBezTo>
                <a:cubicBezTo>
                  <a:pt x="12139" y="6072"/>
                  <a:pt x="11933" y="6227"/>
                  <a:pt x="11733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0:48:31Z</dcterms:created>
  <dc:creator>Brian McGrath</dc:creator>
  <dc:description/>
  <dc:language>en-US</dc:language>
  <cp:lastModifiedBy>deanne elizabeth mcgrath</cp:lastModifiedBy>
  <dcterms:modified xsi:type="dcterms:W3CDTF">2011-10-24T19:18:01Z</dcterms:modified>
  <cp:revision>4</cp:revision>
  <dc:subject/>
  <dc:title>Warm-up:</dc:title>
</cp:coreProperties>
</file>